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35.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26.jpeg" ContentType="image/jpeg"/>
  <Override PartName="/ppt/media/image13.jpeg" ContentType="image/jpeg"/>
  <Override PartName="/ppt/media/image33.png" ContentType="image/png"/>
  <Override PartName="/ppt/media/image34.jpeg" ContentType="image/jpeg"/>
  <Override PartName="/ppt/media/image7.jpeg" ContentType="image/jpeg"/>
  <Override PartName="/ppt/media/image28.jpeg" ContentType="image/jpeg"/>
  <Override PartName="/ppt/media/image5.jpeg" ContentType="image/jpeg"/>
  <Override PartName="/ppt/media/image15.gif" ContentType="image/gif"/>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8B0AC-A610-413E-860C-76A88F224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518C0-463F-40CA-8912-8B8AC7E56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985E5-89CB-43D5-AB40-7240BAB05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999D2-39C0-4FFE-A33E-3F81B5C4A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BE66E-F7FF-4E8A-BDB8-5AE4C50B0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6244F-B7A8-4020-A572-ACE12B14C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10FDD-AC42-4FEA-96DA-8C096A01D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6D49D-09AA-4CE8-9046-7A7F0AABF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B1FF0-5D08-4661-82F5-921BA7DCC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3476-5E33-448D-B7BC-1B03CFF9E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FA61D-941C-4D78-A84F-7CCC4E53E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9656-7C67-48C8-BC0D-DD5379CB8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6D94-452E-42D7-BBE6-634A0AC6B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443640" y="2924280"/>
            <a:ext cx="2057400" cy="2313000"/>
          </a:xfrm>
          <a:prstGeom prst="rect">
            <a:avLst/>
          </a:prstGeom>
          <a:ln w="0">
            <a:noFill/>
          </a:ln>
        </p:spPr>
      </p:pic>
      <p:sp>
        <p:nvSpPr>
          <p:cNvPr id="42" name=""/>
          <p:cNvSpPr txBox="1"/>
          <p:nvPr/>
        </p:nvSpPr>
        <p:spPr>
          <a:xfrm>
            <a:off x="228600" y="304920"/>
            <a:ext cx="701028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8440">
                  <a:solidFill>
                    <a:srgbClr val="000000"/>
                  </a:solidFill>
                  <a:miter/>
                </a:ln>
                <a:gradFill rotWithShape="0">
                  <a:gsLst>
                    <a:gs pos="0">
                      <a:srgbClr val="008000"/>
                    </a:gs>
                    <a:gs pos="100000">
                      <a:srgbClr val="ffffff"/>
                    </a:gs>
                  </a:gsLst>
                  <a:lin ang="5400000"/>
                </a:gradFill>
                <a:latin typeface="Monotype Corsiva"/>
              </a:rPr>
              <a:t>BREVE RESEÑA HISTORICA DEL</a:t>
            </a:r>
            <a:endParaRPr b="0" lang="en-US" sz="2800" spc="1" strike="noStrike">
              <a:ln w="28440">
                <a:solidFill>
                  <a:srgbClr val="000000"/>
                </a:solidFill>
                <a:miter/>
              </a:ln>
              <a:gradFill rotWithShape="0">
                <a:gsLst>
                  <a:gs pos="0">
                    <a:srgbClr val="008000"/>
                  </a:gs>
                  <a:gs pos="100000">
                    <a:srgbClr val="ffffff"/>
                  </a:gs>
                </a:gsLst>
                <a:lin ang="54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8440">
                  <a:solidFill>
                    <a:srgbClr val="000000"/>
                  </a:solidFill>
                  <a:miter/>
                </a:ln>
                <a:gradFill rotWithShape="0">
                  <a:gsLst>
                    <a:gs pos="0">
                      <a:srgbClr val="008000"/>
                    </a:gs>
                    <a:gs pos="100000">
                      <a:srgbClr val="ffffff"/>
                    </a:gs>
                  </a:gsLst>
                  <a:lin ang="5400000"/>
                </a:gradFill>
                <a:latin typeface="Monotype Corsiva"/>
              </a:rPr>
              <a:t>HOSPITAL UNIVERSITARIO </a:t>
            </a:r>
            <a:endParaRPr b="0" lang="en-US" sz="2800" spc="1" strike="noStrike">
              <a:ln w="28440">
                <a:solidFill>
                  <a:srgbClr val="000000"/>
                </a:solidFill>
                <a:miter/>
              </a:ln>
              <a:gradFill rotWithShape="0">
                <a:gsLst>
                  <a:gs pos="0">
                    <a:srgbClr val="008000"/>
                  </a:gs>
                  <a:gs pos="100000">
                    <a:srgbClr val="ffffff"/>
                  </a:gs>
                </a:gsLst>
                <a:lin ang="54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8440">
                  <a:solidFill>
                    <a:srgbClr val="000000"/>
                  </a:solidFill>
                  <a:miter/>
                </a:ln>
                <a:gradFill rotWithShape="0">
                  <a:gsLst>
                    <a:gs pos="0">
                      <a:srgbClr val="008000"/>
                    </a:gs>
                    <a:gs pos="100000">
                      <a:srgbClr val="ffffff"/>
                    </a:gs>
                  </a:gsLst>
                  <a:lin ang="5400000"/>
                </a:gradFill>
                <a:latin typeface="Monotype Corsiva"/>
              </a:rPr>
              <a:t>COMANDANTE MANUEL FAJARDO</a:t>
            </a:r>
            <a:endParaRPr b="0" lang="en-US" sz="2800" spc="1" strike="noStrike">
              <a:ln w="28440">
                <a:solidFill>
                  <a:srgbClr val="000000"/>
                </a:solidFill>
                <a:miter/>
              </a:ln>
              <a:gradFill rotWithShape="0">
                <a:gsLst>
                  <a:gs pos="0">
                    <a:srgbClr val="008000"/>
                  </a:gs>
                  <a:gs pos="100000">
                    <a:srgbClr val="ffffff"/>
                  </a:gs>
                </a:gsLst>
                <a:lin ang="5400000"/>
              </a:gradFill>
              <a:latin typeface="Monotype Corsiva"/>
              <a:ea typeface="Monotype Corsiva"/>
            </a:endParaRPr>
          </a:p>
        </p:txBody>
      </p:sp>
      <p:sp>
        <p:nvSpPr>
          <p:cNvPr id="43" name=""/>
          <p:cNvSpPr/>
          <p:nvPr/>
        </p:nvSpPr>
        <p:spPr>
          <a:xfrm>
            <a:off x="5364000" y="6021360"/>
            <a:ext cx="3924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cc66"/>
                </a:solidFill>
                <a:latin typeface="Monotype Corsiva"/>
              </a:rPr>
              <a:t>Dra. Mayra R. Hernández. Peterss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cc66"/>
                </a:solidFill>
                <a:latin typeface="Monotype Corsiva"/>
              </a:rPr>
              <a:t>Lic. Francisco Peterssen Peterssen</a:t>
            </a:r>
            <a:endParaRPr b="0" lang="en-US" sz="2000" spc="-1" strike="noStrike">
              <a:solidFill>
                <a:srgbClr val="000000"/>
              </a:solidFill>
              <a:latin typeface="Times New Roman"/>
            </a:endParaRPr>
          </a:p>
        </p:txBody>
      </p:sp>
      <p:pic>
        <p:nvPicPr>
          <p:cNvPr id="44" name="" descr=""/>
          <p:cNvPicPr/>
          <p:nvPr/>
        </p:nvPicPr>
        <p:blipFill>
          <a:blip r:embed="rId2"/>
          <a:stretch/>
        </p:blipFill>
        <p:spPr>
          <a:xfrm>
            <a:off x="1403280" y="3213000"/>
            <a:ext cx="2448000" cy="1898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395280" y="0"/>
            <a:ext cx="8457840" cy="6857640"/>
            <a:chOff x="395280" y="0"/>
            <a:chExt cx="8457840" cy="6857640"/>
          </a:xfrm>
        </p:grpSpPr>
        <p:sp>
          <p:nvSpPr>
            <p:cNvPr id="171" name=""/>
            <p:cNvSpPr/>
            <p:nvPr/>
          </p:nvSpPr>
          <p:spPr>
            <a:xfrm>
              <a:off x="395280" y="0"/>
              <a:ext cx="8452800" cy="6857640"/>
            </a:xfrm>
            <a:custGeom>
              <a:avLst/>
              <a:gdLst/>
              <a:ahLst/>
              <a:rect l="l" t="t" r="r" b="b"/>
              <a:pathLst>
                <a:path w="4895" h="3131">
                  <a:moveTo>
                    <a:pt x="2478" y="339"/>
                  </a:moveTo>
                  <a:lnTo>
                    <a:pt x="2489" y="331"/>
                  </a:lnTo>
                  <a:lnTo>
                    <a:pt x="2519" y="312"/>
                  </a:lnTo>
                  <a:lnTo>
                    <a:pt x="2562" y="283"/>
                  </a:lnTo>
                  <a:lnTo>
                    <a:pt x="2615" y="248"/>
                  </a:lnTo>
                  <a:lnTo>
                    <a:pt x="2680" y="210"/>
                  </a:lnTo>
                  <a:lnTo>
                    <a:pt x="2747" y="172"/>
                  </a:lnTo>
                  <a:lnTo>
                    <a:pt x="2814" y="138"/>
                  </a:lnTo>
                  <a:lnTo>
                    <a:pt x="2881" y="111"/>
                  </a:lnTo>
                  <a:lnTo>
                    <a:pt x="2946" y="89"/>
                  </a:lnTo>
                  <a:lnTo>
                    <a:pt x="3010" y="68"/>
                  </a:lnTo>
                  <a:lnTo>
                    <a:pt x="3072" y="52"/>
                  </a:lnTo>
                  <a:lnTo>
                    <a:pt x="3134" y="35"/>
                  </a:lnTo>
                  <a:lnTo>
                    <a:pt x="3193" y="22"/>
                  </a:lnTo>
                  <a:lnTo>
                    <a:pt x="3252" y="11"/>
                  </a:lnTo>
                  <a:lnTo>
                    <a:pt x="3311" y="6"/>
                  </a:lnTo>
                  <a:lnTo>
                    <a:pt x="3370" y="0"/>
                  </a:lnTo>
                  <a:lnTo>
                    <a:pt x="3429" y="0"/>
                  </a:lnTo>
                  <a:lnTo>
                    <a:pt x="3485" y="6"/>
                  </a:lnTo>
                  <a:lnTo>
                    <a:pt x="3542" y="14"/>
                  </a:lnTo>
                  <a:lnTo>
                    <a:pt x="3601" y="27"/>
                  </a:lnTo>
                  <a:lnTo>
                    <a:pt x="3657" y="46"/>
                  </a:lnTo>
                  <a:lnTo>
                    <a:pt x="3714" y="70"/>
                  </a:lnTo>
                  <a:lnTo>
                    <a:pt x="3773" y="97"/>
                  </a:lnTo>
                  <a:lnTo>
                    <a:pt x="3829" y="132"/>
                  </a:lnTo>
                  <a:lnTo>
                    <a:pt x="3878" y="167"/>
                  </a:lnTo>
                  <a:lnTo>
                    <a:pt x="3926" y="207"/>
                  </a:lnTo>
                  <a:lnTo>
                    <a:pt x="3972" y="253"/>
                  </a:lnTo>
                  <a:lnTo>
                    <a:pt x="4012" y="299"/>
                  </a:lnTo>
                  <a:lnTo>
                    <a:pt x="4047" y="339"/>
                  </a:lnTo>
                  <a:lnTo>
                    <a:pt x="4076" y="371"/>
                  </a:lnTo>
                  <a:lnTo>
                    <a:pt x="4095" y="396"/>
                  </a:lnTo>
                  <a:lnTo>
                    <a:pt x="4100" y="404"/>
                  </a:lnTo>
                  <a:lnTo>
                    <a:pt x="4576" y="439"/>
                  </a:lnTo>
                  <a:lnTo>
                    <a:pt x="4584" y="436"/>
                  </a:lnTo>
                  <a:lnTo>
                    <a:pt x="4605" y="433"/>
                  </a:lnTo>
                  <a:lnTo>
                    <a:pt x="4638" y="430"/>
                  </a:lnTo>
                  <a:lnTo>
                    <a:pt x="4675" y="428"/>
                  </a:lnTo>
                  <a:lnTo>
                    <a:pt x="4718" y="428"/>
                  </a:lnTo>
                  <a:lnTo>
                    <a:pt x="4761" y="433"/>
                  </a:lnTo>
                  <a:lnTo>
                    <a:pt x="4804" y="444"/>
                  </a:lnTo>
                  <a:lnTo>
                    <a:pt x="4839" y="463"/>
                  </a:lnTo>
                  <a:lnTo>
                    <a:pt x="4855" y="522"/>
                  </a:lnTo>
                  <a:lnTo>
                    <a:pt x="4858" y="651"/>
                  </a:lnTo>
                  <a:lnTo>
                    <a:pt x="4855" y="826"/>
                  </a:lnTo>
                  <a:lnTo>
                    <a:pt x="4847" y="1024"/>
                  </a:lnTo>
                  <a:lnTo>
                    <a:pt x="4836" y="1223"/>
                  </a:lnTo>
                  <a:lnTo>
                    <a:pt x="4825" y="1393"/>
                  </a:lnTo>
                  <a:lnTo>
                    <a:pt x="4815" y="1514"/>
                  </a:lnTo>
                  <a:lnTo>
                    <a:pt x="4812" y="1559"/>
                  </a:lnTo>
                  <a:lnTo>
                    <a:pt x="4842" y="2328"/>
                  </a:lnTo>
                  <a:lnTo>
                    <a:pt x="4895" y="2581"/>
                  </a:lnTo>
                  <a:lnTo>
                    <a:pt x="4686" y="2688"/>
                  </a:lnTo>
                  <a:lnTo>
                    <a:pt x="4726" y="2919"/>
                  </a:lnTo>
                  <a:lnTo>
                    <a:pt x="4318" y="2884"/>
                  </a:lnTo>
                  <a:lnTo>
                    <a:pt x="3612" y="2804"/>
                  </a:lnTo>
                  <a:lnTo>
                    <a:pt x="3037" y="2691"/>
                  </a:lnTo>
                  <a:lnTo>
                    <a:pt x="3034" y="2693"/>
                  </a:lnTo>
                  <a:lnTo>
                    <a:pt x="3026" y="2699"/>
                  </a:lnTo>
                  <a:lnTo>
                    <a:pt x="3010" y="2707"/>
                  </a:lnTo>
                  <a:lnTo>
                    <a:pt x="2991" y="2718"/>
                  </a:lnTo>
                  <a:lnTo>
                    <a:pt x="2970" y="2731"/>
                  </a:lnTo>
                  <a:lnTo>
                    <a:pt x="2943" y="2744"/>
                  </a:lnTo>
                  <a:lnTo>
                    <a:pt x="2913" y="2758"/>
                  </a:lnTo>
                  <a:lnTo>
                    <a:pt x="2881" y="2771"/>
                  </a:lnTo>
                  <a:lnTo>
                    <a:pt x="2846" y="2785"/>
                  </a:lnTo>
                  <a:lnTo>
                    <a:pt x="2811" y="2798"/>
                  </a:lnTo>
                  <a:lnTo>
                    <a:pt x="2774" y="2809"/>
                  </a:lnTo>
                  <a:lnTo>
                    <a:pt x="2739" y="2817"/>
                  </a:lnTo>
                  <a:lnTo>
                    <a:pt x="2701" y="2822"/>
                  </a:lnTo>
                  <a:lnTo>
                    <a:pt x="2666" y="2822"/>
                  </a:lnTo>
                  <a:lnTo>
                    <a:pt x="2631" y="2820"/>
                  </a:lnTo>
                  <a:lnTo>
                    <a:pt x="2599" y="2812"/>
                  </a:lnTo>
                  <a:lnTo>
                    <a:pt x="2575" y="2801"/>
                  </a:lnTo>
                  <a:lnTo>
                    <a:pt x="2548" y="2785"/>
                  </a:lnTo>
                  <a:lnTo>
                    <a:pt x="2521" y="2769"/>
                  </a:lnTo>
                  <a:lnTo>
                    <a:pt x="2500" y="2753"/>
                  </a:lnTo>
                  <a:lnTo>
                    <a:pt x="2478" y="2736"/>
                  </a:lnTo>
                  <a:lnTo>
                    <a:pt x="2462" y="2726"/>
                  </a:lnTo>
                  <a:lnTo>
                    <a:pt x="2449" y="2715"/>
                  </a:lnTo>
                  <a:lnTo>
                    <a:pt x="2446" y="2712"/>
                  </a:lnTo>
                  <a:lnTo>
                    <a:pt x="2438" y="2715"/>
                  </a:lnTo>
                  <a:lnTo>
                    <a:pt x="2414" y="2720"/>
                  </a:lnTo>
                  <a:lnTo>
                    <a:pt x="2374" y="2728"/>
                  </a:lnTo>
                  <a:lnTo>
                    <a:pt x="2323" y="2742"/>
                  </a:lnTo>
                  <a:lnTo>
                    <a:pt x="2258" y="2755"/>
                  </a:lnTo>
                  <a:lnTo>
                    <a:pt x="2183" y="2771"/>
                  </a:lnTo>
                  <a:lnTo>
                    <a:pt x="2102" y="2790"/>
                  </a:lnTo>
                  <a:lnTo>
                    <a:pt x="2011" y="2812"/>
                  </a:lnTo>
                  <a:lnTo>
                    <a:pt x="1917" y="2833"/>
                  </a:lnTo>
                  <a:lnTo>
                    <a:pt x="1818" y="2855"/>
                  </a:lnTo>
                  <a:lnTo>
                    <a:pt x="1716" y="2879"/>
                  </a:lnTo>
                  <a:lnTo>
                    <a:pt x="1611" y="2900"/>
                  </a:lnTo>
                  <a:lnTo>
                    <a:pt x="1509" y="2922"/>
                  </a:lnTo>
                  <a:lnTo>
                    <a:pt x="1407" y="2946"/>
                  </a:lnTo>
                  <a:lnTo>
                    <a:pt x="1307" y="2968"/>
                  </a:lnTo>
                  <a:lnTo>
                    <a:pt x="1213" y="2986"/>
                  </a:lnTo>
                  <a:lnTo>
                    <a:pt x="1162" y="2997"/>
                  </a:lnTo>
                  <a:lnTo>
                    <a:pt x="1109" y="3011"/>
                  </a:lnTo>
                  <a:lnTo>
                    <a:pt x="1058" y="3021"/>
                  </a:lnTo>
                  <a:lnTo>
                    <a:pt x="1004" y="3035"/>
                  </a:lnTo>
                  <a:lnTo>
                    <a:pt x="950" y="3048"/>
                  </a:lnTo>
                  <a:lnTo>
                    <a:pt x="899" y="3062"/>
                  </a:lnTo>
                  <a:lnTo>
                    <a:pt x="848" y="3075"/>
                  </a:lnTo>
                  <a:lnTo>
                    <a:pt x="800" y="3088"/>
                  </a:lnTo>
                  <a:lnTo>
                    <a:pt x="752" y="3099"/>
                  </a:lnTo>
                  <a:lnTo>
                    <a:pt x="709" y="3110"/>
                  </a:lnTo>
                  <a:lnTo>
                    <a:pt x="666" y="3118"/>
                  </a:lnTo>
                  <a:lnTo>
                    <a:pt x="628" y="3123"/>
                  </a:lnTo>
                  <a:lnTo>
                    <a:pt x="593" y="3129"/>
                  </a:lnTo>
                  <a:lnTo>
                    <a:pt x="561" y="3131"/>
                  </a:lnTo>
                  <a:lnTo>
                    <a:pt x="534" y="3131"/>
                  </a:lnTo>
                  <a:lnTo>
                    <a:pt x="513" y="3129"/>
                  </a:lnTo>
                  <a:lnTo>
                    <a:pt x="462" y="3075"/>
                  </a:lnTo>
                  <a:lnTo>
                    <a:pt x="416" y="2951"/>
                  </a:lnTo>
                  <a:lnTo>
                    <a:pt x="370" y="2785"/>
                  </a:lnTo>
                  <a:lnTo>
                    <a:pt x="333" y="2591"/>
                  </a:lnTo>
                  <a:lnTo>
                    <a:pt x="300" y="2403"/>
                  </a:lnTo>
                  <a:lnTo>
                    <a:pt x="276" y="2237"/>
                  </a:lnTo>
                  <a:lnTo>
                    <a:pt x="260" y="2116"/>
                  </a:lnTo>
                  <a:lnTo>
                    <a:pt x="255" y="2065"/>
                  </a:lnTo>
                  <a:lnTo>
                    <a:pt x="247" y="2003"/>
                  </a:lnTo>
                  <a:lnTo>
                    <a:pt x="236" y="1914"/>
                  </a:lnTo>
                  <a:lnTo>
                    <a:pt x="220" y="1812"/>
                  </a:lnTo>
                  <a:lnTo>
                    <a:pt x="204" y="1702"/>
                  </a:lnTo>
                  <a:lnTo>
                    <a:pt x="188" y="1600"/>
                  </a:lnTo>
                  <a:lnTo>
                    <a:pt x="177" y="1514"/>
                  </a:lnTo>
                  <a:lnTo>
                    <a:pt x="166" y="1452"/>
                  </a:lnTo>
                  <a:lnTo>
                    <a:pt x="163" y="1430"/>
                  </a:lnTo>
                  <a:lnTo>
                    <a:pt x="155" y="1401"/>
                  </a:lnTo>
                  <a:lnTo>
                    <a:pt x="131" y="1320"/>
                  </a:lnTo>
                  <a:lnTo>
                    <a:pt x="99" y="1204"/>
                  </a:lnTo>
                  <a:lnTo>
                    <a:pt x="67" y="1070"/>
                  </a:lnTo>
                  <a:lnTo>
                    <a:pt x="35" y="938"/>
                  </a:lnTo>
                  <a:lnTo>
                    <a:pt x="10" y="817"/>
                  </a:lnTo>
                  <a:lnTo>
                    <a:pt x="0" y="729"/>
                  </a:lnTo>
                  <a:lnTo>
                    <a:pt x="8" y="688"/>
                  </a:lnTo>
                  <a:lnTo>
                    <a:pt x="48" y="678"/>
                  </a:lnTo>
                  <a:lnTo>
                    <a:pt x="91" y="672"/>
                  </a:lnTo>
                  <a:lnTo>
                    <a:pt x="137" y="670"/>
                  </a:lnTo>
                  <a:lnTo>
                    <a:pt x="180" y="670"/>
                  </a:lnTo>
                  <a:lnTo>
                    <a:pt x="217" y="672"/>
                  </a:lnTo>
                  <a:lnTo>
                    <a:pt x="249" y="675"/>
                  </a:lnTo>
                  <a:lnTo>
                    <a:pt x="268" y="678"/>
                  </a:lnTo>
                  <a:lnTo>
                    <a:pt x="276" y="678"/>
                  </a:lnTo>
                  <a:lnTo>
                    <a:pt x="231" y="522"/>
                  </a:lnTo>
                  <a:lnTo>
                    <a:pt x="693" y="366"/>
                  </a:lnTo>
                  <a:lnTo>
                    <a:pt x="701" y="363"/>
                  </a:lnTo>
                  <a:lnTo>
                    <a:pt x="719" y="350"/>
                  </a:lnTo>
                  <a:lnTo>
                    <a:pt x="752" y="334"/>
                  </a:lnTo>
                  <a:lnTo>
                    <a:pt x="795" y="312"/>
                  </a:lnTo>
                  <a:lnTo>
                    <a:pt x="846" y="285"/>
                  </a:lnTo>
                  <a:lnTo>
                    <a:pt x="907" y="256"/>
                  </a:lnTo>
                  <a:lnTo>
                    <a:pt x="974" y="224"/>
                  </a:lnTo>
                  <a:lnTo>
                    <a:pt x="1050" y="191"/>
                  </a:lnTo>
                  <a:lnTo>
                    <a:pt x="1128" y="159"/>
                  </a:lnTo>
                  <a:lnTo>
                    <a:pt x="1211" y="129"/>
                  </a:lnTo>
                  <a:lnTo>
                    <a:pt x="1297" y="100"/>
                  </a:lnTo>
                  <a:lnTo>
                    <a:pt x="1383" y="76"/>
                  </a:lnTo>
                  <a:lnTo>
                    <a:pt x="1471" y="54"/>
                  </a:lnTo>
                  <a:lnTo>
                    <a:pt x="1557" y="38"/>
                  </a:lnTo>
                  <a:lnTo>
                    <a:pt x="1643" y="27"/>
                  </a:lnTo>
                  <a:lnTo>
                    <a:pt x="1724" y="25"/>
                  </a:lnTo>
                  <a:lnTo>
                    <a:pt x="1850" y="30"/>
                  </a:lnTo>
                  <a:lnTo>
                    <a:pt x="1960" y="43"/>
                  </a:lnTo>
                  <a:lnTo>
                    <a:pt x="2057" y="60"/>
                  </a:lnTo>
                  <a:lnTo>
                    <a:pt x="2140" y="81"/>
                  </a:lnTo>
                  <a:lnTo>
                    <a:pt x="2213" y="105"/>
                  </a:lnTo>
                  <a:lnTo>
                    <a:pt x="2274" y="132"/>
                  </a:lnTo>
                  <a:lnTo>
                    <a:pt x="2325" y="159"/>
                  </a:lnTo>
                  <a:lnTo>
                    <a:pt x="2368" y="189"/>
                  </a:lnTo>
                  <a:lnTo>
                    <a:pt x="2400" y="218"/>
                  </a:lnTo>
                  <a:lnTo>
                    <a:pt x="2427" y="245"/>
                  </a:lnTo>
                  <a:lnTo>
                    <a:pt x="2446" y="269"/>
                  </a:lnTo>
                  <a:lnTo>
                    <a:pt x="2460" y="293"/>
                  </a:lnTo>
                  <a:lnTo>
                    <a:pt x="2470" y="312"/>
                  </a:lnTo>
                  <a:lnTo>
                    <a:pt x="2476" y="326"/>
                  </a:lnTo>
                  <a:lnTo>
                    <a:pt x="2478" y="336"/>
                  </a:lnTo>
                  <a:lnTo>
                    <a:pt x="2478"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492600" y="82800"/>
              <a:ext cx="2360520" cy="5940360"/>
            </a:xfrm>
            <a:custGeom>
              <a:avLst/>
              <a:gdLst/>
              <a:ahLst/>
              <a:rect l="l" t="t" r="r" b="b"/>
              <a:pathLst>
                <a:path w="1367" h="2712">
                  <a:moveTo>
                    <a:pt x="1141" y="2712"/>
                  </a:moveTo>
                  <a:lnTo>
                    <a:pt x="1354" y="2588"/>
                  </a:lnTo>
                  <a:lnTo>
                    <a:pt x="1332" y="1529"/>
                  </a:lnTo>
                  <a:lnTo>
                    <a:pt x="1367" y="390"/>
                  </a:lnTo>
                  <a:lnTo>
                    <a:pt x="859" y="374"/>
                  </a:lnTo>
                  <a:lnTo>
                    <a:pt x="0" y="0"/>
                  </a:lnTo>
                  <a:lnTo>
                    <a:pt x="1096" y="1607"/>
                  </a:lnTo>
                  <a:lnTo>
                    <a:pt x="1141" y="2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5760" y="1101600"/>
              <a:ext cx="4228560" cy="606240"/>
            </a:xfrm>
            <a:custGeom>
              <a:avLst/>
              <a:gdLst/>
              <a:ahLst/>
              <a:rect l="l" t="t" r="r" b="b"/>
              <a:pathLst>
                <a:path w="2449" h="277">
                  <a:moveTo>
                    <a:pt x="37" y="258"/>
                  </a:moveTo>
                  <a:lnTo>
                    <a:pt x="21" y="277"/>
                  </a:lnTo>
                  <a:lnTo>
                    <a:pt x="2449" y="32"/>
                  </a:lnTo>
                  <a:lnTo>
                    <a:pt x="2449" y="0"/>
                  </a:lnTo>
                  <a:lnTo>
                    <a:pt x="21" y="245"/>
                  </a:lnTo>
                  <a:lnTo>
                    <a:pt x="5" y="263"/>
                  </a:lnTo>
                  <a:lnTo>
                    <a:pt x="21" y="245"/>
                  </a:lnTo>
                  <a:lnTo>
                    <a:pt x="0" y="245"/>
                  </a:lnTo>
                  <a:lnTo>
                    <a:pt x="5" y="263"/>
                  </a:lnTo>
                  <a:lnTo>
                    <a:pt x="3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4400" y="1666800"/>
              <a:ext cx="819720" cy="5138280"/>
            </a:xfrm>
            <a:custGeom>
              <a:avLst/>
              <a:gdLst/>
              <a:ahLst/>
              <a:rect l="l" t="t" r="r" b="b"/>
              <a:pathLst>
                <a:path w="475" h="2346">
                  <a:moveTo>
                    <a:pt x="456" y="2309"/>
                  </a:moveTo>
                  <a:lnTo>
                    <a:pt x="475" y="2322"/>
                  </a:lnTo>
                  <a:lnTo>
                    <a:pt x="32" y="0"/>
                  </a:lnTo>
                  <a:lnTo>
                    <a:pt x="0" y="5"/>
                  </a:lnTo>
                  <a:lnTo>
                    <a:pt x="443" y="2327"/>
                  </a:lnTo>
                  <a:lnTo>
                    <a:pt x="462" y="2341"/>
                  </a:lnTo>
                  <a:lnTo>
                    <a:pt x="443" y="2327"/>
                  </a:lnTo>
                  <a:lnTo>
                    <a:pt x="446" y="2346"/>
                  </a:lnTo>
                  <a:lnTo>
                    <a:pt x="462" y="2341"/>
                  </a:lnTo>
                  <a:lnTo>
                    <a:pt x="456" y="2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251360" y="5821560"/>
              <a:ext cx="3465720" cy="972360"/>
            </a:xfrm>
            <a:custGeom>
              <a:avLst/>
              <a:gdLst/>
              <a:ahLst/>
              <a:rect l="l" t="t" r="r" b="b"/>
              <a:pathLst>
                <a:path w="2007" h="444">
                  <a:moveTo>
                    <a:pt x="2007" y="9"/>
                  </a:moveTo>
                  <a:lnTo>
                    <a:pt x="1990" y="3"/>
                  </a:lnTo>
                  <a:lnTo>
                    <a:pt x="0" y="412"/>
                  </a:lnTo>
                  <a:lnTo>
                    <a:pt x="6" y="444"/>
                  </a:lnTo>
                  <a:lnTo>
                    <a:pt x="1996" y="35"/>
                  </a:lnTo>
                  <a:lnTo>
                    <a:pt x="1980" y="30"/>
                  </a:lnTo>
                  <a:lnTo>
                    <a:pt x="2007" y="9"/>
                  </a:lnTo>
                  <a:lnTo>
                    <a:pt x="1998" y="0"/>
                  </a:lnTo>
                  <a:lnTo>
                    <a:pt x="1990" y="3"/>
                  </a:lnTo>
                  <a:lnTo>
                    <a:pt x="20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671000" y="5841360"/>
              <a:ext cx="184320" cy="244800"/>
            </a:xfrm>
            <a:custGeom>
              <a:avLst/>
              <a:gdLst/>
              <a:ahLst/>
              <a:rect l="l" t="t" r="r" b="b"/>
              <a:pathLst>
                <a:path w="107" h="112">
                  <a:moveTo>
                    <a:pt x="94" y="75"/>
                  </a:moveTo>
                  <a:lnTo>
                    <a:pt x="107" y="83"/>
                  </a:lnTo>
                  <a:lnTo>
                    <a:pt x="27" y="0"/>
                  </a:lnTo>
                  <a:lnTo>
                    <a:pt x="0" y="21"/>
                  </a:lnTo>
                  <a:lnTo>
                    <a:pt x="80" y="104"/>
                  </a:lnTo>
                  <a:lnTo>
                    <a:pt x="94" y="112"/>
                  </a:lnTo>
                  <a:lnTo>
                    <a:pt x="80" y="104"/>
                  </a:lnTo>
                  <a:lnTo>
                    <a:pt x="88" y="110"/>
                  </a:lnTo>
                  <a:lnTo>
                    <a:pt x="94" y="112"/>
                  </a:lnTo>
                  <a:lnTo>
                    <a:pt x="9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833000" y="6005520"/>
              <a:ext cx="443520" cy="87840"/>
            </a:xfrm>
            <a:custGeom>
              <a:avLst/>
              <a:gdLst/>
              <a:ahLst/>
              <a:rect l="l" t="t" r="r" b="b"/>
              <a:pathLst>
                <a:path w="257" h="40">
                  <a:moveTo>
                    <a:pt x="241" y="8"/>
                  </a:moveTo>
                  <a:lnTo>
                    <a:pt x="249" y="2"/>
                  </a:lnTo>
                  <a:lnTo>
                    <a:pt x="0" y="0"/>
                  </a:lnTo>
                  <a:lnTo>
                    <a:pt x="0" y="37"/>
                  </a:lnTo>
                  <a:lnTo>
                    <a:pt x="249" y="40"/>
                  </a:lnTo>
                  <a:lnTo>
                    <a:pt x="257" y="35"/>
                  </a:lnTo>
                  <a:lnTo>
                    <a:pt x="249" y="40"/>
                  </a:lnTo>
                  <a:lnTo>
                    <a:pt x="255" y="40"/>
                  </a:lnTo>
                  <a:lnTo>
                    <a:pt x="257" y="35"/>
                  </a:lnTo>
                  <a:lnTo>
                    <a:pt x="241"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 name=""/>
            <p:cNvSpPr/>
            <p:nvPr/>
          </p:nvSpPr>
          <p:spPr>
            <a:xfrm>
              <a:off x="5249520" y="5781960"/>
              <a:ext cx="296640" cy="300240"/>
            </a:xfrm>
            <a:custGeom>
              <a:avLst/>
              <a:gdLst/>
              <a:ahLst/>
              <a:rect l="l" t="t" r="r" b="b"/>
              <a:pathLst>
                <a:path w="172" h="137">
                  <a:moveTo>
                    <a:pt x="164" y="2"/>
                  </a:moveTo>
                  <a:lnTo>
                    <a:pt x="156" y="5"/>
                  </a:lnTo>
                  <a:lnTo>
                    <a:pt x="0" y="110"/>
                  </a:lnTo>
                  <a:lnTo>
                    <a:pt x="16" y="137"/>
                  </a:lnTo>
                  <a:lnTo>
                    <a:pt x="172" y="32"/>
                  </a:lnTo>
                  <a:lnTo>
                    <a:pt x="164" y="35"/>
                  </a:lnTo>
                  <a:lnTo>
                    <a:pt x="164" y="2"/>
                  </a:lnTo>
                  <a:lnTo>
                    <a:pt x="161" y="0"/>
                  </a:lnTo>
                  <a:lnTo>
                    <a:pt x="156" y="5"/>
                  </a:lnTo>
                  <a:lnTo>
                    <a:pt x="16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532480" y="5786280"/>
              <a:ext cx="2995920" cy="543240"/>
            </a:xfrm>
            <a:custGeom>
              <a:avLst/>
              <a:gdLst/>
              <a:ahLst/>
              <a:rect l="l" t="t" r="r" b="b"/>
              <a:pathLst>
                <a:path w="1735" h="248">
                  <a:moveTo>
                    <a:pt x="1700" y="229"/>
                  </a:moveTo>
                  <a:lnTo>
                    <a:pt x="1716" y="213"/>
                  </a:lnTo>
                  <a:lnTo>
                    <a:pt x="0" y="0"/>
                  </a:lnTo>
                  <a:lnTo>
                    <a:pt x="0" y="33"/>
                  </a:lnTo>
                  <a:lnTo>
                    <a:pt x="1716" y="245"/>
                  </a:lnTo>
                  <a:lnTo>
                    <a:pt x="1732" y="229"/>
                  </a:lnTo>
                  <a:lnTo>
                    <a:pt x="1716" y="245"/>
                  </a:lnTo>
                  <a:lnTo>
                    <a:pt x="1735" y="248"/>
                  </a:lnTo>
                  <a:lnTo>
                    <a:pt x="1732" y="229"/>
                  </a:lnTo>
                  <a:lnTo>
                    <a:pt x="170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236800" y="1195920"/>
              <a:ext cx="286560" cy="5091840"/>
            </a:xfrm>
            <a:custGeom>
              <a:avLst/>
              <a:gdLst/>
              <a:ahLst/>
              <a:rect l="l" t="t" r="r" b="b"/>
              <a:pathLst>
                <a:path w="166" h="2325">
                  <a:moveTo>
                    <a:pt x="16" y="32"/>
                  </a:moveTo>
                  <a:lnTo>
                    <a:pt x="0" y="16"/>
                  </a:lnTo>
                  <a:lnTo>
                    <a:pt x="134" y="2325"/>
                  </a:lnTo>
                  <a:lnTo>
                    <a:pt x="166" y="2325"/>
                  </a:lnTo>
                  <a:lnTo>
                    <a:pt x="32" y="16"/>
                  </a:lnTo>
                  <a:lnTo>
                    <a:pt x="16" y="0"/>
                  </a:lnTo>
                  <a:lnTo>
                    <a:pt x="32" y="16"/>
                  </a:lnTo>
                  <a:lnTo>
                    <a:pt x="32" y="0"/>
                  </a:lnTo>
                  <a:lnTo>
                    <a:pt x="16" y="0"/>
                  </a:lnTo>
                  <a:lnTo>
                    <a:pt x="1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684680" y="1101600"/>
              <a:ext cx="3579480" cy="164160"/>
            </a:xfrm>
            <a:custGeom>
              <a:avLst/>
              <a:gdLst/>
              <a:ahLst/>
              <a:rect l="l" t="t" r="r" b="b"/>
              <a:pathLst>
                <a:path w="2073" h="75">
                  <a:moveTo>
                    <a:pt x="0" y="32"/>
                  </a:moveTo>
                  <a:lnTo>
                    <a:pt x="0" y="32"/>
                  </a:lnTo>
                  <a:lnTo>
                    <a:pt x="2073" y="75"/>
                  </a:lnTo>
                  <a:lnTo>
                    <a:pt x="2073" y="43"/>
                  </a:lnTo>
                  <a:lnTo>
                    <a:pt x="0"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9640" y="501480"/>
              <a:ext cx="7734240" cy="6033600"/>
            </a:xfrm>
            <a:custGeom>
              <a:avLst/>
              <a:gdLst/>
              <a:ahLst/>
              <a:rect l="l" t="t" r="r" b="b"/>
              <a:pathLst>
                <a:path w="4479" h="2755">
                  <a:moveTo>
                    <a:pt x="172" y="446"/>
                  </a:moveTo>
                  <a:lnTo>
                    <a:pt x="0" y="680"/>
                  </a:lnTo>
                  <a:lnTo>
                    <a:pt x="397" y="2755"/>
                  </a:lnTo>
                  <a:lnTo>
                    <a:pt x="2204" y="2338"/>
                  </a:lnTo>
                  <a:lnTo>
                    <a:pt x="2776" y="2338"/>
                  </a:lnTo>
                  <a:lnTo>
                    <a:pt x="3770" y="2467"/>
                  </a:lnTo>
                  <a:lnTo>
                    <a:pt x="4479" y="2537"/>
                  </a:lnTo>
                  <a:lnTo>
                    <a:pt x="4460" y="395"/>
                  </a:lnTo>
                  <a:lnTo>
                    <a:pt x="4452" y="390"/>
                  </a:lnTo>
                  <a:lnTo>
                    <a:pt x="4425" y="376"/>
                  </a:lnTo>
                  <a:lnTo>
                    <a:pt x="4388" y="357"/>
                  </a:lnTo>
                  <a:lnTo>
                    <a:pt x="4334" y="330"/>
                  </a:lnTo>
                  <a:lnTo>
                    <a:pt x="4267" y="298"/>
                  </a:lnTo>
                  <a:lnTo>
                    <a:pt x="4192" y="263"/>
                  </a:lnTo>
                  <a:lnTo>
                    <a:pt x="4106" y="228"/>
                  </a:lnTo>
                  <a:lnTo>
                    <a:pt x="4014" y="191"/>
                  </a:lnTo>
                  <a:lnTo>
                    <a:pt x="3915" y="153"/>
                  </a:lnTo>
                  <a:lnTo>
                    <a:pt x="3810" y="118"/>
                  </a:lnTo>
                  <a:lnTo>
                    <a:pt x="3706" y="83"/>
                  </a:lnTo>
                  <a:lnTo>
                    <a:pt x="3598" y="56"/>
                  </a:lnTo>
                  <a:lnTo>
                    <a:pt x="3488" y="32"/>
                  </a:lnTo>
                  <a:lnTo>
                    <a:pt x="3381" y="16"/>
                  </a:lnTo>
                  <a:lnTo>
                    <a:pt x="3276" y="8"/>
                  </a:lnTo>
                  <a:lnTo>
                    <a:pt x="3177" y="11"/>
                  </a:lnTo>
                  <a:lnTo>
                    <a:pt x="3107" y="16"/>
                  </a:lnTo>
                  <a:lnTo>
                    <a:pt x="3034" y="29"/>
                  </a:lnTo>
                  <a:lnTo>
                    <a:pt x="2962" y="46"/>
                  </a:lnTo>
                  <a:lnTo>
                    <a:pt x="2887" y="64"/>
                  </a:lnTo>
                  <a:lnTo>
                    <a:pt x="2814" y="86"/>
                  </a:lnTo>
                  <a:lnTo>
                    <a:pt x="2739" y="107"/>
                  </a:lnTo>
                  <a:lnTo>
                    <a:pt x="2669" y="134"/>
                  </a:lnTo>
                  <a:lnTo>
                    <a:pt x="2602" y="158"/>
                  </a:lnTo>
                  <a:lnTo>
                    <a:pt x="2537" y="183"/>
                  </a:lnTo>
                  <a:lnTo>
                    <a:pt x="2478" y="207"/>
                  </a:lnTo>
                  <a:lnTo>
                    <a:pt x="2427" y="228"/>
                  </a:lnTo>
                  <a:lnTo>
                    <a:pt x="2382" y="250"/>
                  </a:lnTo>
                  <a:lnTo>
                    <a:pt x="2347" y="266"/>
                  </a:lnTo>
                  <a:lnTo>
                    <a:pt x="2320" y="279"/>
                  </a:lnTo>
                  <a:lnTo>
                    <a:pt x="2301" y="287"/>
                  </a:lnTo>
                  <a:lnTo>
                    <a:pt x="2296" y="290"/>
                  </a:lnTo>
                  <a:lnTo>
                    <a:pt x="2288" y="287"/>
                  </a:lnTo>
                  <a:lnTo>
                    <a:pt x="2266" y="277"/>
                  </a:lnTo>
                  <a:lnTo>
                    <a:pt x="2231" y="261"/>
                  </a:lnTo>
                  <a:lnTo>
                    <a:pt x="2183" y="239"/>
                  </a:lnTo>
                  <a:lnTo>
                    <a:pt x="2124" y="215"/>
                  </a:lnTo>
                  <a:lnTo>
                    <a:pt x="2057" y="188"/>
                  </a:lnTo>
                  <a:lnTo>
                    <a:pt x="1982" y="158"/>
                  </a:lnTo>
                  <a:lnTo>
                    <a:pt x="1898" y="129"/>
                  </a:lnTo>
                  <a:lnTo>
                    <a:pt x="1812" y="102"/>
                  </a:lnTo>
                  <a:lnTo>
                    <a:pt x="1721" y="75"/>
                  </a:lnTo>
                  <a:lnTo>
                    <a:pt x="1624" y="51"/>
                  </a:lnTo>
                  <a:lnTo>
                    <a:pt x="1530" y="29"/>
                  </a:lnTo>
                  <a:lnTo>
                    <a:pt x="1434" y="13"/>
                  </a:lnTo>
                  <a:lnTo>
                    <a:pt x="1340" y="3"/>
                  </a:lnTo>
                  <a:lnTo>
                    <a:pt x="1248" y="0"/>
                  </a:lnTo>
                  <a:lnTo>
                    <a:pt x="1160" y="5"/>
                  </a:lnTo>
                  <a:lnTo>
                    <a:pt x="1079" y="16"/>
                  </a:lnTo>
                  <a:lnTo>
                    <a:pt x="996" y="38"/>
                  </a:lnTo>
                  <a:lnTo>
                    <a:pt x="913" y="62"/>
                  </a:lnTo>
                  <a:lnTo>
                    <a:pt x="829" y="91"/>
                  </a:lnTo>
                  <a:lnTo>
                    <a:pt x="746" y="126"/>
                  </a:lnTo>
                  <a:lnTo>
                    <a:pt x="663" y="164"/>
                  </a:lnTo>
                  <a:lnTo>
                    <a:pt x="585" y="201"/>
                  </a:lnTo>
                  <a:lnTo>
                    <a:pt x="510" y="242"/>
                  </a:lnTo>
                  <a:lnTo>
                    <a:pt x="437" y="279"/>
                  </a:lnTo>
                  <a:lnTo>
                    <a:pt x="373" y="317"/>
                  </a:lnTo>
                  <a:lnTo>
                    <a:pt x="317" y="352"/>
                  </a:lnTo>
                  <a:lnTo>
                    <a:pt x="268" y="384"/>
                  </a:lnTo>
                  <a:lnTo>
                    <a:pt x="228" y="408"/>
                  </a:lnTo>
                  <a:lnTo>
                    <a:pt x="196" y="430"/>
                  </a:lnTo>
                  <a:lnTo>
                    <a:pt x="177" y="441"/>
                  </a:lnTo>
                  <a:lnTo>
                    <a:pt x="172"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92280" y="1460520"/>
              <a:ext cx="346680" cy="547560"/>
            </a:xfrm>
            <a:custGeom>
              <a:avLst/>
              <a:gdLst/>
              <a:ahLst/>
              <a:rect l="l" t="t" r="r" b="b"/>
              <a:pathLst>
                <a:path w="201" h="250">
                  <a:moveTo>
                    <a:pt x="32" y="239"/>
                  </a:moveTo>
                  <a:lnTo>
                    <a:pt x="29" y="250"/>
                  </a:lnTo>
                  <a:lnTo>
                    <a:pt x="201" y="16"/>
                  </a:lnTo>
                  <a:lnTo>
                    <a:pt x="174" y="0"/>
                  </a:lnTo>
                  <a:lnTo>
                    <a:pt x="2" y="234"/>
                  </a:lnTo>
                  <a:lnTo>
                    <a:pt x="0" y="245"/>
                  </a:lnTo>
                  <a:lnTo>
                    <a:pt x="2" y="234"/>
                  </a:lnTo>
                  <a:lnTo>
                    <a:pt x="0" y="239"/>
                  </a:lnTo>
                  <a:lnTo>
                    <a:pt x="0" y="245"/>
                  </a:lnTo>
                  <a:lnTo>
                    <a:pt x="32"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92280" y="1983960"/>
              <a:ext cx="740160" cy="4590720"/>
            </a:xfrm>
            <a:custGeom>
              <a:avLst/>
              <a:gdLst/>
              <a:ahLst/>
              <a:rect l="l" t="t" r="r" b="b"/>
              <a:pathLst>
                <a:path w="429" h="2096">
                  <a:moveTo>
                    <a:pt x="410" y="2062"/>
                  </a:moveTo>
                  <a:lnTo>
                    <a:pt x="429" y="2075"/>
                  </a:lnTo>
                  <a:lnTo>
                    <a:pt x="32" y="0"/>
                  </a:lnTo>
                  <a:lnTo>
                    <a:pt x="0" y="6"/>
                  </a:lnTo>
                  <a:lnTo>
                    <a:pt x="397" y="2080"/>
                  </a:lnTo>
                  <a:lnTo>
                    <a:pt x="416" y="2094"/>
                  </a:lnTo>
                  <a:lnTo>
                    <a:pt x="397" y="2080"/>
                  </a:lnTo>
                  <a:lnTo>
                    <a:pt x="400" y="2096"/>
                  </a:lnTo>
                  <a:lnTo>
                    <a:pt x="416" y="2094"/>
                  </a:lnTo>
                  <a:lnTo>
                    <a:pt x="41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00400" y="5587200"/>
              <a:ext cx="3130200" cy="983160"/>
            </a:xfrm>
            <a:custGeom>
              <a:avLst/>
              <a:gdLst/>
              <a:ahLst/>
              <a:rect l="l" t="t" r="r" b="b"/>
              <a:pathLst>
                <a:path w="1813" h="449">
                  <a:moveTo>
                    <a:pt x="1810" y="0"/>
                  </a:moveTo>
                  <a:lnTo>
                    <a:pt x="1808" y="0"/>
                  </a:lnTo>
                  <a:lnTo>
                    <a:pt x="0" y="417"/>
                  </a:lnTo>
                  <a:lnTo>
                    <a:pt x="6" y="449"/>
                  </a:lnTo>
                  <a:lnTo>
                    <a:pt x="1813" y="32"/>
                  </a:lnTo>
                  <a:lnTo>
                    <a:pt x="1810" y="32"/>
                  </a:lnTo>
                  <a:lnTo>
                    <a:pt x="1810" y="0"/>
                  </a:lnTo>
                  <a:lnTo>
                    <a:pt x="1810" y="0"/>
                  </a:lnTo>
                  <a:lnTo>
                    <a:pt x="1808" y="0"/>
                  </a:lnTo>
                  <a:lnTo>
                    <a:pt x="18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25560" y="5587200"/>
              <a:ext cx="987840" cy="69840"/>
            </a:xfrm>
            <a:custGeom>
              <a:avLst/>
              <a:gdLst/>
              <a:ahLst/>
              <a:rect l="l" t="t" r="r" b="b"/>
              <a:pathLst>
                <a:path w="572" h="32">
                  <a:moveTo>
                    <a:pt x="572" y="0"/>
                  </a:moveTo>
                  <a:lnTo>
                    <a:pt x="572" y="0"/>
                  </a:lnTo>
                  <a:lnTo>
                    <a:pt x="0" y="0"/>
                  </a:lnTo>
                  <a:lnTo>
                    <a:pt x="0" y="32"/>
                  </a:lnTo>
                  <a:lnTo>
                    <a:pt x="572" y="32"/>
                  </a:lnTo>
                  <a:lnTo>
                    <a:pt x="572" y="32"/>
                  </a:lnTo>
                  <a:lnTo>
                    <a:pt x="5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a:off x="5513760" y="5587200"/>
              <a:ext cx="1716120" cy="352440"/>
            </a:xfrm>
            <a:custGeom>
              <a:avLst/>
              <a:gdLst/>
              <a:ahLst/>
              <a:rect l="l" t="t" r="r" b="b"/>
              <a:pathLst>
                <a:path w="994" h="161">
                  <a:moveTo>
                    <a:pt x="994" y="129"/>
                  </a:moveTo>
                  <a:lnTo>
                    <a:pt x="994" y="129"/>
                  </a:lnTo>
                  <a:lnTo>
                    <a:pt x="0" y="0"/>
                  </a:lnTo>
                  <a:lnTo>
                    <a:pt x="0" y="32"/>
                  </a:lnTo>
                  <a:lnTo>
                    <a:pt x="994" y="161"/>
                  </a:lnTo>
                  <a:lnTo>
                    <a:pt x="994" y="161"/>
                  </a:lnTo>
                  <a:lnTo>
                    <a:pt x="99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30240" y="5869800"/>
              <a:ext cx="1251720" cy="229680"/>
            </a:xfrm>
            <a:custGeom>
              <a:avLst/>
              <a:gdLst/>
              <a:ahLst/>
              <a:rect l="l" t="t" r="r" b="b"/>
              <a:pathLst>
                <a:path w="725" h="105">
                  <a:moveTo>
                    <a:pt x="693" y="86"/>
                  </a:moveTo>
                  <a:lnTo>
                    <a:pt x="709" y="70"/>
                  </a:lnTo>
                  <a:lnTo>
                    <a:pt x="0" y="0"/>
                  </a:lnTo>
                  <a:lnTo>
                    <a:pt x="0" y="32"/>
                  </a:lnTo>
                  <a:lnTo>
                    <a:pt x="709" y="102"/>
                  </a:lnTo>
                  <a:lnTo>
                    <a:pt x="725" y="86"/>
                  </a:lnTo>
                  <a:lnTo>
                    <a:pt x="709" y="102"/>
                  </a:lnTo>
                  <a:lnTo>
                    <a:pt x="725" y="105"/>
                  </a:lnTo>
                  <a:lnTo>
                    <a:pt x="725" y="86"/>
                  </a:lnTo>
                  <a:lnTo>
                    <a:pt x="69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393760" y="1337760"/>
              <a:ext cx="87840" cy="4719960"/>
            </a:xfrm>
            <a:custGeom>
              <a:avLst/>
              <a:gdLst/>
              <a:ahLst/>
              <a:rect l="l" t="t" r="r" b="b"/>
              <a:pathLst>
                <a:path w="51" h="2155">
                  <a:moveTo>
                    <a:pt x="8" y="26"/>
                  </a:moveTo>
                  <a:lnTo>
                    <a:pt x="0" y="13"/>
                  </a:lnTo>
                  <a:lnTo>
                    <a:pt x="19" y="2155"/>
                  </a:lnTo>
                  <a:lnTo>
                    <a:pt x="51" y="2155"/>
                  </a:lnTo>
                  <a:lnTo>
                    <a:pt x="32" y="13"/>
                  </a:lnTo>
                  <a:lnTo>
                    <a:pt x="24" y="0"/>
                  </a:lnTo>
                  <a:lnTo>
                    <a:pt x="32" y="13"/>
                  </a:lnTo>
                  <a:lnTo>
                    <a:pt x="32" y="5"/>
                  </a:lnTo>
                  <a:lnTo>
                    <a:pt x="24" y="0"/>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206040" y="483480"/>
              <a:ext cx="2229120" cy="911160"/>
            </a:xfrm>
            <a:custGeom>
              <a:avLst/>
              <a:gdLst/>
              <a:ahLst/>
              <a:rect l="l" t="t" r="r" b="b"/>
              <a:pathLst>
                <a:path w="1291" h="416">
                  <a:moveTo>
                    <a:pt x="0" y="35"/>
                  </a:moveTo>
                  <a:lnTo>
                    <a:pt x="0" y="35"/>
                  </a:lnTo>
                  <a:lnTo>
                    <a:pt x="99" y="32"/>
                  </a:lnTo>
                  <a:lnTo>
                    <a:pt x="204" y="40"/>
                  </a:lnTo>
                  <a:lnTo>
                    <a:pt x="308" y="56"/>
                  </a:lnTo>
                  <a:lnTo>
                    <a:pt x="419" y="80"/>
                  </a:lnTo>
                  <a:lnTo>
                    <a:pt x="526" y="107"/>
                  </a:lnTo>
                  <a:lnTo>
                    <a:pt x="628" y="142"/>
                  </a:lnTo>
                  <a:lnTo>
                    <a:pt x="733" y="177"/>
                  </a:lnTo>
                  <a:lnTo>
                    <a:pt x="832" y="215"/>
                  </a:lnTo>
                  <a:lnTo>
                    <a:pt x="923" y="250"/>
                  </a:lnTo>
                  <a:lnTo>
                    <a:pt x="1009" y="285"/>
                  </a:lnTo>
                  <a:lnTo>
                    <a:pt x="1085" y="320"/>
                  </a:lnTo>
                  <a:lnTo>
                    <a:pt x="1152" y="352"/>
                  </a:lnTo>
                  <a:lnTo>
                    <a:pt x="1205" y="379"/>
                  </a:lnTo>
                  <a:lnTo>
                    <a:pt x="1243" y="398"/>
                  </a:lnTo>
                  <a:lnTo>
                    <a:pt x="1267" y="411"/>
                  </a:lnTo>
                  <a:lnTo>
                    <a:pt x="1275" y="416"/>
                  </a:lnTo>
                  <a:lnTo>
                    <a:pt x="1291" y="390"/>
                  </a:lnTo>
                  <a:lnTo>
                    <a:pt x="1283" y="384"/>
                  </a:lnTo>
                  <a:lnTo>
                    <a:pt x="1254" y="371"/>
                  </a:lnTo>
                  <a:lnTo>
                    <a:pt x="1216" y="352"/>
                  </a:lnTo>
                  <a:lnTo>
                    <a:pt x="1162" y="325"/>
                  </a:lnTo>
                  <a:lnTo>
                    <a:pt x="1095" y="293"/>
                  </a:lnTo>
                  <a:lnTo>
                    <a:pt x="1020" y="258"/>
                  </a:lnTo>
                  <a:lnTo>
                    <a:pt x="934" y="223"/>
                  </a:lnTo>
                  <a:lnTo>
                    <a:pt x="843" y="183"/>
                  </a:lnTo>
                  <a:lnTo>
                    <a:pt x="743" y="145"/>
                  </a:lnTo>
                  <a:lnTo>
                    <a:pt x="639" y="110"/>
                  </a:lnTo>
                  <a:lnTo>
                    <a:pt x="531" y="75"/>
                  </a:lnTo>
                  <a:lnTo>
                    <a:pt x="424" y="48"/>
                  </a:lnTo>
                  <a:lnTo>
                    <a:pt x="314" y="24"/>
                  </a:lnTo>
                  <a:lnTo>
                    <a:pt x="204" y="8"/>
                  </a:lnTo>
                  <a:lnTo>
                    <a:pt x="99" y="0"/>
                  </a:lnTo>
                  <a:lnTo>
                    <a:pt x="0" y="3"/>
                  </a:lnTo>
                  <a:lnTo>
                    <a:pt x="0" y="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674240" y="490680"/>
              <a:ext cx="1531800" cy="687240"/>
            </a:xfrm>
            <a:custGeom>
              <a:avLst/>
              <a:gdLst/>
              <a:ahLst/>
              <a:rect l="l" t="t" r="r" b="b"/>
              <a:pathLst>
                <a:path w="887" h="314">
                  <a:moveTo>
                    <a:pt x="0" y="309"/>
                  </a:moveTo>
                  <a:lnTo>
                    <a:pt x="11" y="309"/>
                  </a:lnTo>
                  <a:lnTo>
                    <a:pt x="16" y="306"/>
                  </a:lnTo>
                  <a:lnTo>
                    <a:pt x="35" y="298"/>
                  </a:lnTo>
                  <a:lnTo>
                    <a:pt x="62" y="284"/>
                  </a:lnTo>
                  <a:lnTo>
                    <a:pt x="97" y="268"/>
                  </a:lnTo>
                  <a:lnTo>
                    <a:pt x="143" y="247"/>
                  </a:lnTo>
                  <a:lnTo>
                    <a:pt x="194" y="225"/>
                  </a:lnTo>
                  <a:lnTo>
                    <a:pt x="253" y="204"/>
                  </a:lnTo>
                  <a:lnTo>
                    <a:pt x="317" y="180"/>
                  </a:lnTo>
                  <a:lnTo>
                    <a:pt x="384" y="155"/>
                  </a:lnTo>
                  <a:lnTo>
                    <a:pt x="454" y="129"/>
                  </a:lnTo>
                  <a:lnTo>
                    <a:pt x="527" y="107"/>
                  </a:lnTo>
                  <a:lnTo>
                    <a:pt x="599" y="86"/>
                  </a:lnTo>
                  <a:lnTo>
                    <a:pt x="674" y="67"/>
                  </a:lnTo>
                  <a:lnTo>
                    <a:pt x="747" y="51"/>
                  </a:lnTo>
                  <a:lnTo>
                    <a:pt x="817" y="37"/>
                  </a:lnTo>
                  <a:lnTo>
                    <a:pt x="887" y="32"/>
                  </a:lnTo>
                  <a:lnTo>
                    <a:pt x="887" y="0"/>
                  </a:lnTo>
                  <a:lnTo>
                    <a:pt x="817" y="5"/>
                  </a:lnTo>
                  <a:lnTo>
                    <a:pt x="742" y="18"/>
                  </a:lnTo>
                  <a:lnTo>
                    <a:pt x="669" y="34"/>
                  </a:lnTo>
                  <a:lnTo>
                    <a:pt x="594" y="53"/>
                  </a:lnTo>
                  <a:lnTo>
                    <a:pt x="521" y="75"/>
                  </a:lnTo>
                  <a:lnTo>
                    <a:pt x="443" y="96"/>
                  </a:lnTo>
                  <a:lnTo>
                    <a:pt x="374" y="123"/>
                  </a:lnTo>
                  <a:lnTo>
                    <a:pt x="307" y="147"/>
                  </a:lnTo>
                  <a:lnTo>
                    <a:pt x="242" y="172"/>
                  </a:lnTo>
                  <a:lnTo>
                    <a:pt x="183" y="198"/>
                  </a:lnTo>
                  <a:lnTo>
                    <a:pt x="132" y="220"/>
                  </a:lnTo>
                  <a:lnTo>
                    <a:pt x="86" y="241"/>
                  </a:lnTo>
                  <a:lnTo>
                    <a:pt x="51" y="258"/>
                  </a:lnTo>
                  <a:lnTo>
                    <a:pt x="25" y="271"/>
                  </a:lnTo>
                  <a:lnTo>
                    <a:pt x="6" y="279"/>
                  </a:lnTo>
                  <a:lnTo>
                    <a:pt x="0" y="282"/>
                  </a:lnTo>
                  <a:lnTo>
                    <a:pt x="11" y="282"/>
                  </a:lnTo>
                  <a:lnTo>
                    <a:pt x="0" y="309"/>
                  </a:lnTo>
                  <a:lnTo>
                    <a:pt x="6" y="314"/>
                  </a:lnTo>
                  <a:lnTo>
                    <a:pt x="11" y="309"/>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722680" y="466200"/>
              <a:ext cx="1970280" cy="700560"/>
            </a:xfrm>
            <a:custGeom>
              <a:avLst/>
              <a:gdLst/>
              <a:ahLst/>
              <a:rect l="l" t="t" r="r" b="b"/>
              <a:pathLst>
                <a:path w="1141" h="320">
                  <a:moveTo>
                    <a:pt x="0" y="37"/>
                  </a:moveTo>
                  <a:lnTo>
                    <a:pt x="0" y="37"/>
                  </a:lnTo>
                  <a:lnTo>
                    <a:pt x="88" y="32"/>
                  </a:lnTo>
                  <a:lnTo>
                    <a:pt x="180" y="35"/>
                  </a:lnTo>
                  <a:lnTo>
                    <a:pt x="274" y="45"/>
                  </a:lnTo>
                  <a:lnTo>
                    <a:pt x="368" y="62"/>
                  </a:lnTo>
                  <a:lnTo>
                    <a:pt x="462" y="83"/>
                  </a:lnTo>
                  <a:lnTo>
                    <a:pt x="558" y="107"/>
                  </a:lnTo>
                  <a:lnTo>
                    <a:pt x="650" y="134"/>
                  </a:lnTo>
                  <a:lnTo>
                    <a:pt x="733" y="161"/>
                  </a:lnTo>
                  <a:lnTo>
                    <a:pt x="816" y="191"/>
                  </a:lnTo>
                  <a:lnTo>
                    <a:pt x="891" y="220"/>
                  </a:lnTo>
                  <a:lnTo>
                    <a:pt x="958" y="247"/>
                  </a:lnTo>
                  <a:lnTo>
                    <a:pt x="1018" y="269"/>
                  </a:lnTo>
                  <a:lnTo>
                    <a:pt x="1066" y="290"/>
                  </a:lnTo>
                  <a:lnTo>
                    <a:pt x="1101" y="306"/>
                  </a:lnTo>
                  <a:lnTo>
                    <a:pt x="1122" y="317"/>
                  </a:lnTo>
                  <a:lnTo>
                    <a:pt x="1130" y="320"/>
                  </a:lnTo>
                  <a:lnTo>
                    <a:pt x="1141" y="293"/>
                  </a:lnTo>
                  <a:lnTo>
                    <a:pt x="1133" y="290"/>
                  </a:lnTo>
                  <a:lnTo>
                    <a:pt x="1112" y="279"/>
                  </a:lnTo>
                  <a:lnTo>
                    <a:pt x="1077" y="263"/>
                  </a:lnTo>
                  <a:lnTo>
                    <a:pt x="1028" y="242"/>
                  </a:lnTo>
                  <a:lnTo>
                    <a:pt x="969" y="215"/>
                  </a:lnTo>
                  <a:lnTo>
                    <a:pt x="902" y="188"/>
                  </a:lnTo>
                  <a:lnTo>
                    <a:pt x="827" y="158"/>
                  </a:lnTo>
                  <a:lnTo>
                    <a:pt x="744" y="129"/>
                  </a:lnTo>
                  <a:lnTo>
                    <a:pt x="655" y="102"/>
                  </a:lnTo>
                  <a:lnTo>
                    <a:pt x="564" y="75"/>
                  </a:lnTo>
                  <a:lnTo>
                    <a:pt x="467" y="51"/>
                  </a:lnTo>
                  <a:lnTo>
                    <a:pt x="373" y="29"/>
                  </a:lnTo>
                  <a:lnTo>
                    <a:pt x="274" y="13"/>
                  </a:lnTo>
                  <a:lnTo>
                    <a:pt x="180" y="2"/>
                  </a:lnTo>
                  <a:lnTo>
                    <a:pt x="88" y="0"/>
                  </a:lnTo>
                  <a:lnTo>
                    <a:pt x="0" y="5"/>
                  </a:lnTo>
                  <a:lnTo>
                    <a:pt x="0" y="5"/>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92520" y="477000"/>
              <a:ext cx="1729800" cy="1029600"/>
            </a:xfrm>
            <a:custGeom>
              <a:avLst/>
              <a:gdLst/>
              <a:ahLst/>
              <a:rect l="l" t="t" r="r" b="b"/>
              <a:pathLst>
                <a:path w="1002" h="470">
                  <a:moveTo>
                    <a:pt x="27" y="465"/>
                  </a:moveTo>
                  <a:lnTo>
                    <a:pt x="22" y="470"/>
                  </a:lnTo>
                  <a:lnTo>
                    <a:pt x="27" y="465"/>
                  </a:lnTo>
                  <a:lnTo>
                    <a:pt x="46" y="454"/>
                  </a:lnTo>
                  <a:lnTo>
                    <a:pt x="78" y="433"/>
                  </a:lnTo>
                  <a:lnTo>
                    <a:pt x="118" y="409"/>
                  </a:lnTo>
                  <a:lnTo>
                    <a:pt x="167" y="376"/>
                  </a:lnTo>
                  <a:lnTo>
                    <a:pt x="223" y="341"/>
                  </a:lnTo>
                  <a:lnTo>
                    <a:pt x="287" y="304"/>
                  </a:lnTo>
                  <a:lnTo>
                    <a:pt x="360" y="266"/>
                  </a:lnTo>
                  <a:lnTo>
                    <a:pt x="432" y="226"/>
                  </a:lnTo>
                  <a:lnTo>
                    <a:pt x="510" y="188"/>
                  </a:lnTo>
                  <a:lnTo>
                    <a:pt x="594" y="151"/>
                  </a:lnTo>
                  <a:lnTo>
                    <a:pt x="677" y="118"/>
                  </a:lnTo>
                  <a:lnTo>
                    <a:pt x="757" y="89"/>
                  </a:lnTo>
                  <a:lnTo>
                    <a:pt x="841" y="65"/>
                  </a:lnTo>
                  <a:lnTo>
                    <a:pt x="924" y="43"/>
                  </a:lnTo>
                  <a:lnTo>
                    <a:pt x="1002" y="32"/>
                  </a:lnTo>
                  <a:lnTo>
                    <a:pt x="1002" y="0"/>
                  </a:lnTo>
                  <a:lnTo>
                    <a:pt x="919" y="11"/>
                  </a:lnTo>
                  <a:lnTo>
                    <a:pt x="835" y="32"/>
                  </a:lnTo>
                  <a:lnTo>
                    <a:pt x="752" y="57"/>
                  </a:lnTo>
                  <a:lnTo>
                    <a:pt x="666" y="86"/>
                  </a:lnTo>
                  <a:lnTo>
                    <a:pt x="583" y="124"/>
                  </a:lnTo>
                  <a:lnTo>
                    <a:pt x="500" y="161"/>
                  </a:lnTo>
                  <a:lnTo>
                    <a:pt x="422" y="199"/>
                  </a:lnTo>
                  <a:lnTo>
                    <a:pt x="344" y="239"/>
                  </a:lnTo>
                  <a:lnTo>
                    <a:pt x="271" y="277"/>
                  </a:lnTo>
                  <a:lnTo>
                    <a:pt x="207" y="315"/>
                  </a:lnTo>
                  <a:lnTo>
                    <a:pt x="150" y="350"/>
                  </a:lnTo>
                  <a:lnTo>
                    <a:pt x="102" y="382"/>
                  </a:lnTo>
                  <a:lnTo>
                    <a:pt x="62" y="406"/>
                  </a:lnTo>
                  <a:lnTo>
                    <a:pt x="30" y="427"/>
                  </a:lnTo>
                  <a:lnTo>
                    <a:pt x="11" y="438"/>
                  </a:lnTo>
                  <a:lnTo>
                    <a:pt x="5" y="444"/>
                  </a:lnTo>
                  <a:lnTo>
                    <a:pt x="0" y="449"/>
                  </a:lnTo>
                  <a:lnTo>
                    <a:pt x="5" y="444"/>
                  </a:lnTo>
                  <a:lnTo>
                    <a:pt x="3" y="446"/>
                  </a:lnTo>
                  <a:lnTo>
                    <a:pt x="0" y="449"/>
                  </a:lnTo>
                  <a:lnTo>
                    <a:pt x="2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9" y="2459"/>
                  </a:lnTo>
                  <a:lnTo>
                    <a:pt x="2484" y="2441"/>
                  </a:lnTo>
                  <a:lnTo>
                    <a:pt x="2522" y="2422"/>
                  </a:lnTo>
                  <a:lnTo>
                    <a:pt x="2562" y="2403"/>
                  </a:lnTo>
                  <a:lnTo>
                    <a:pt x="2605" y="2381"/>
                  </a:lnTo>
                  <a:lnTo>
                    <a:pt x="2650" y="2363"/>
                  </a:lnTo>
                  <a:lnTo>
                    <a:pt x="2696" y="2344"/>
                  </a:lnTo>
                  <a:lnTo>
                    <a:pt x="2742" y="2325"/>
                  </a:lnTo>
                  <a:lnTo>
                    <a:pt x="2790" y="2309"/>
                  </a:lnTo>
                  <a:lnTo>
                    <a:pt x="2833" y="2293"/>
                  </a:lnTo>
                  <a:lnTo>
                    <a:pt x="2879" y="2282"/>
                  </a:lnTo>
                  <a:lnTo>
                    <a:pt x="2919" y="2274"/>
                  </a:lnTo>
                  <a:lnTo>
                    <a:pt x="2978" y="2266"/>
                  </a:lnTo>
                  <a:lnTo>
                    <a:pt x="3032" y="2266"/>
                  </a:lnTo>
                  <a:lnTo>
                    <a:pt x="3083" y="2266"/>
                  </a:lnTo>
                  <a:lnTo>
                    <a:pt x="3129" y="2271"/>
                  </a:lnTo>
                  <a:lnTo>
                    <a:pt x="3174" y="2279"/>
                  </a:lnTo>
                  <a:lnTo>
                    <a:pt x="3220" y="2290"/>
                  </a:lnTo>
                  <a:lnTo>
                    <a:pt x="3263" y="2303"/>
                  </a:lnTo>
                  <a:lnTo>
                    <a:pt x="3306" y="2320"/>
                  </a:lnTo>
                  <a:lnTo>
                    <a:pt x="3346" y="2336"/>
                  </a:lnTo>
                  <a:lnTo>
                    <a:pt x="3389" y="2355"/>
                  </a:lnTo>
                  <a:lnTo>
                    <a:pt x="3432" y="2373"/>
                  </a:lnTo>
                  <a:lnTo>
                    <a:pt x="3478" y="2389"/>
                  </a:lnTo>
                  <a:lnTo>
                    <a:pt x="3526" y="2408"/>
                  </a:lnTo>
                  <a:lnTo>
                    <a:pt x="3574" y="2427"/>
                  </a:lnTo>
                  <a:lnTo>
                    <a:pt x="3628" y="2443"/>
                  </a:lnTo>
                  <a:lnTo>
                    <a:pt x="3684" y="2459"/>
                  </a:lnTo>
                  <a:lnTo>
                    <a:pt x="3722" y="2470"/>
                  </a:lnTo>
                  <a:lnTo>
                    <a:pt x="3760" y="2478"/>
                  </a:lnTo>
                  <a:lnTo>
                    <a:pt x="3792" y="2486"/>
                  </a:lnTo>
                  <a:lnTo>
                    <a:pt x="3824" y="2494"/>
                  </a:lnTo>
                  <a:lnTo>
                    <a:pt x="3854" y="2502"/>
                  </a:lnTo>
                  <a:lnTo>
                    <a:pt x="3883" y="2510"/>
                  </a:lnTo>
                  <a:lnTo>
                    <a:pt x="3910" y="2516"/>
                  </a:lnTo>
                  <a:lnTo>
                    <a:pt x="3937" y="2521"/>
                  </a:lnTo>
                  <a:lnTo>
                    <a:pt x="3964" y="2527"/>
                  </a:lnTo>
                  <a:lnTo>
                    <a:pt x="3988" y="2532"/>
                  </a:lnTo>
                  <a:lnTo>
                    <a:pt x="4015" y="2535"/>
                  </a:lnTo>
                  <a:lnTo>
                    <a:pt x="4044" y="2537"/>
                  </a:lnTo>
                  <a:lnTo>
                    <a:pt x="4071" y="2540"/>
                  </a:lnTo>
                  <a:lnTo>
                    <a:pt x="4101" y="2543"/>
                  </a:lnTo>
                  <a:lnTo>
                    <a:pt x="4133" y="2545"/>
                  </a:lnTo>
                  <a:lnTo>
                    <a:pt x="4168" y="2545"/>
                  </a:lnTo>
                  <a:lnTo>
                    <a:pt x="4213" y="2545"/>
                  </a:lnTo>
                  <a:lnTo>
                    <a:pt x="4264" y="2545"/>
                  </a:lnTo>
                  <a:lnTo>
                    <a:pt x="4316" y="2545"/>
                  </a:lnTo>
                  <a:lnTo>
                    <a:pt x="4367" y="2543"/>
                  </a:lnTo>
                  <a:lnTo>
                    <a:pt x="4412" y="2543"/>
                  </a:lnTo>
                  <a:lnTo>
                    <a:pt x="4450" y="2543"/>
                  </a:lnTo>
                  <a:lnTo>
                    <a:pt x="4477" y="2543"/>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6" y="2454"/>
                  </a:lnTo>
                  <a:lnTo>
                    <a:pt x="2481" y="2438"/>
                  </a:lnTo>
                  <a:lnTo>
                    <a:pt x="2519" y="2416"/>
                  </a:lnTo>
                  <a:lnTo>
                    <a:pt x="2559" y="2395"/>
                  </a:lnTo>
                  <a:lnTo>
                    <a:pt x="2599" y="2376"/>
                  </a:lnTo>
                  <a:lnTo>
                    <a:pt x="2645" y="2355"/>
                  </a:lnTo>
                  <a:lnTo>
                    <a:pt x="2691" y="2333"/>
                  </a:lnTo>
                  <a:lnTo>
                    <a:pt x="2736" y="2317"/>
                  </a:lnTo>
                  <a:lnTo>
                    <a:pt x="2782" y="2298"/>
                  </a:lnTo>
                  <a:lnTo>
                    <a:pt x="2828" y="2285"/>
                  </a:lnTo>
                  <a:lnTo>
                    <a:pt x="2873" y="2274"/>
                  </a:lnTo>
                  <a:lnTo>
                    <a:pt x="2914" y="2269"/>
                  </a:lnTo>
                  <a:lnTo>
                    <a:pt x="2970" y="2266"/>
                  </a:lnTo>
                  <a:lnTo>
                    <a:pt x="3021" y="2266"/>
                  </a:lnTo>
                  <a:lnTo>
                    <a:pt x="3069" y="2269"/>
                  </a:lnTo>
                  <a:lnTo>
                    <a:pt x="3118" y="2277"/>
                  </a:lnTo>
                  <a:lnTo>
                    <a:pt x="3163" y="2285"/>
                  </a:lnTo>
                  <a:lnTo>
                    <a:pt x="3206" y="2295"/>
                  </a:lnTo>
                  <a:lnTo>
                    <a:pt x="3249" y="2309"/>
                  </a:lnTo>
                  <a:lnTo>
                    <a:pt x="3292" y="2325"/>
                  </a:lnTo>
                  <a:lnTo>
                    <a:pt x="3335" y="2341"/>
                  </a:lnTo>
                  <a:lnTo>
                    <a:pt x="3378" y="2357"/>
                  </a:lnTo>
                  <a:lnTo>
                    <a:pt x="3424" y="2376"/>
                  </a:lnTo>
                  <a:lnTo>
                    <a:pt x="3470" y="2395"/>
                  </a:lnTo>
                  <a:lnTo>
                    <a:pt x="3518" y="2411"/>
                  </a:lnTo>
                  <a:lnTo>
                    <a:pt x="3569" y="2427"/>
                  </a:lnTo>
                  <a:lnTo>
                    <a:pt x="3623" y="2443"/>
                  </a:lnTo>
                  <a:lnTo>
                    <a:pt x="3679" y="2459"/>
                  </a:lnTo>
                  <a:lnTo>
                    <a:pt x="3719" y="2470"/>
                  </a:lnTo>
                  <a:lnTo>
                    <a:pt x="3760" y="2481"/>
                  </a:lnTo>
                  <a:lnTo>
                    <a:pt x="3800" y="2492"/>
                  </a:lnTo>
                  <a:lnTo>
                    <a:pt x="3840" y="2502"/>
                  </a:lnTo>
                  <a:lnTo>
                    <a:pt x="3880" y="2516"/>
                  </a:lnTo>
                  <a:lnTo>
                    <a:pt x="3921" y="2527"/>
                  </a:lnTo>
                  <a:lnTo>
                    <a:pt x="3961" y="2537"/>
                  </a:lnTo>
                  <a:lnTo>
                    <a:pt x="4001" y="2548"/>
                  </a:lnTo>
                  <a:lnTo>
                    <a:pt x="4044" y="2559"/>
                  </a:lnTo>
                  <a:lnTo>
                    <a:pt x="4085" y="2570"/>
                  </a:lnTo>
                  <a:lnTo>
                    <a:pt x="4125" y="2578"/>
                  </a:lnTo>
                  <a:lnTo>
                    <a:pt x="4165" y="2583"/>
                  </a:lnTo>
                  <a:lnTo>
                    <a:pt x="4208" y="2588"/>
                  </a:lnTo>
                  <a:lnTo>
                    <a:pt x="4248" y="2591"/>
                  </a:lnTo>
                  <a:lnTo>
                    <a:pt x="4289" y="2591"/>
                  </a:lnTo>
                  <a:lnTo>
                    <a:pt x="4332" y="2591"/>
                  </a:lnTo>
                  <a:lnTo>
                    <a:pt x="4369" y="2586"/>
                  </a:lnTo>
                  <a:lnTo>
                    <a:pt x="4401" y="2580"/>
                  </a:lnTo>
                  <a:lnTo>
                    <a:pt x="4428" y="2572"/>
                  </a:lnTo>
                  <a:lnTo>
                    <a:pt x="4450" y="2564"/>
                  </a:lnTo>
                  <a:lnTo>
                    <a:pt x="4466" y="2556"/>
                  </a:lnTo>
                  <a:lnTo>
                    <a:pt x="4477" y="2548"/>
                  </a:lnTo>
                  <a:lnTo>
                    <a:pt x="4482" y="2545"/>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370480" y="5192640"/>
              <a:ext cx="2778120" cy="711720"/>
            </a:xfrm>
            <a:custGeom>
              <a:avLst/>
              <a:gdLst/>
              <a:ahLst/>
              <a:rect l="l" t="t" r="r" b="b"/>
              <a:pathLst>
                <a:path w="1609" h="325">
                  <a:moveTo>
                    <a:pt x="0" y="118"/>
                  </a:moveTo>
                  <a:lnTo>
                    <a:pt x="27" y="110"/>
                  </a:lnTo>
                  <a:lnTo>
                    <a:pt x="54" y="102"/>
                  </a:lnTo>
                  <a:lnTo>
                    <a:pt x="81" y="94"/>
                  </a:lnTo>
                  <a:lnTo>
                    <a:pt x="108" y="86"/>
                  </a:lnTo>
                  <a:lnTo>
                    <a:pt x="134" y="75"/>
                  </a:lnTo>
                  <a:lnTo>
                    <a:pt x="159" y="67"/>
                  </a:lnTo>
                  <a:lnTo>
                    <a:pt x="185" y="56"/>
                  </a:lnTo>
                  <a:lnTo>
                    <a:pt x="212" y="48"/>
                  </a:lnTo>
                  <a:lnTo>
                    <a:pt x="239" y="40"/>
                  </a:lnTo>
                  <a:lnTo>
                    <a:pt x="266" y="32"/>
                  </a:lnTo>
                  <a:lnTo>
                    <a:pt x="293" y="24"/>
                  </a:lnTo>
                  <a:lnTo>
                    <a:pt x="322" y="16"/>
                  </a:lnTo>
                  <a:lnTo>
                    <a:pt x="349" y="11"/>
                  </a:lnTo>
                  <a:lnTo>
                    <a:pt x="382" y="5"/>
                  </a:lnTo>
                  <a:lnTo>
                    <a:pt x="411" y="3"/>
                  </a:lnTo>
                  <a:lnTo>
                    <a:pt x="443" y="0"/>
                  </a:lnTo>
                  <a:lnTo>
                    <a:pt x="478" y="0"/>
                  </a:lnTo>
                  <a:lnTo>
                    <a:pt x="516" y="3"/>
                  </a:lnTo>
                  <a:lnTo>
                    <a:pt x="551" y="5"/>
                  </a:lnTo>
                  <a:lnTo>
                    <a:pt x="588" y="13"/>
                  </a:lnTo>
                  <a:lnTo>
                    <a:pt x="623" y="21"/>
                  </a:lnTo>
                  <a:lnTo>
                    <a:pt x="661" y="29"/>
                  </a:lnTo>
                  <a:lnTo>
                    <a:pt x="696" y="40"/>
                  </a:lnTo>
                  <a:lnTo>
                    <a:pt x="733" y="54"/>
                  </a:lnTo>
                  <a:lnTo>
                    <a:pt x="768" y="64"/>
                  </a:lnTo>
                  <a:lnTo>
                    <a:pt x="803" y="78"/>
                  </a:lnTo>
                  <a:lnTo>
                    <a:pt x="838" y="91"/>
                  </a:lnTo>
                  <a:lnTo>
                    <a:pt x="870" y="105"/>
                  </a:lnTo>
                  <a:lnTo>
                    <a:pt x="903" y="115"/>
                  </a:lnTo>
                  <a:lnTo>
                    <a:pt x="935" y="129"/>
                  </a:lnTo>
                  <a:lnTo>
                    <a:pt x="964" y="140"/>
                  </a:lnTo>
                  <a:lnTo>
                    <a:pt x="994" y="148"/>
                  </a:lnTo>
                  <a:lnTo>
                    <a:pt x="1609" y="325"/>
                  </a:lnTo>
                  <a:lnTo>
                    <a:pt x="672" y="102"/>
                  </a:lnTo>
                  <a:lnTo>
                    <a:pt x="333" y="67"/>
                  </a:lnTo>
                  <a:lnTo>
                    <a:pt x="0" y="11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99640" y="1837440"/>
              <a:ext cx="588960" cy="4437360"/>
            </a:xfrm>
            <a:custGeom>
              <a:avLst/>
              <a:gdLst/>
              <a:ahLst/>
              <a:rect l="l" t="t" r="r" b="b"/>
              <a:pathLst>
                <a:path w="341" h="2026">
                  <a:moveTo>
                    <a:pt x="0" y="0"/>
                  </a:moveTo>
                  <a:lnTo>
                    <a:pt x="164" y="723"/>
                  </a:lnTo>
                  <a:lnTo>
                    <a:pt x="264" y="1239"/>
                  </a:lnTo>
                  <a:lnTo>
                    <a:pt x="341" y="2026"/>
                  </a:lnTo>
                  <a:lnTo>
                    <a:pt x="339" y="1537"/>
                  </a:lnTo>
                  <a:lnTo>
                    <a:pt x="250" y="946"/>
                  </a:lnTo>
                  <a:lnTo>
                    <a:pt x="143" y="4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60560" y="906120"/>
              <a:ext cx="445320" cy="2350080"/>
            </a:xfrm>
            <a:custGeom>
              <a:avLst/>
              <a:gdLst/>
              <a:ahLst/>
              <a:rect l="l" t="t" r="r" b="b"/>
              <a:pathLst>
                <a:path w="258" h="1073">
                  <a:moveTo>
                    <a:pt x="258" y="1073"/>
                  </a:moveTo>
                  <a:lnTo>
                    <a:pt x="258" y="1073"/>
                  </a:lnTo>
                  <a:lnTo>
                    <a:pt x="237" y="903"/>
                  </a:lnTo>
                  <a:lnTo>
                    <a:pt x="207" y="726"/>
                  </a:lnTo>
                  <a:lnTo>
                    <a:pt x="169" y="546"/>
                  </a:lnTo>
                  <a:lnTo>
                    <a:pt x="129" y="377"/>
                  </a:lnTo>
                  <a:lnTo>
                    <a:pt x="94" y="229"/>
                  </a:lnTo>
                  <a:lnTo>
                    <a:pt x="62" y="108"/>
                  </a:lnTo>
                  <a:lnTo>
                    <a:pt x="41" y="30"/>
                  </a:lnTo>
                  <a:lnTo>
                    <a:pt x="33" y="0"/>
                  </a:lnTo>
                  <a:lnTo>
                    <a:pt x="0" y="6"/>
                  </a:lnTo>
                  <a:lnTo>
                    <a:pt x="8" y="35"/>
                  </a:lnTo>
                  <a:lnTo>
                    <a:pt x="30" y="113"/>
                  </a:lnTo>
                  <a:lnTo>
                    <a:pt x="62" y="234"/>
                  </a:lnTo>
                  <a:lnTo>
                    <a:pt x="97" y="382"/>
                  </a:lnTo>
                  <a:lnTo>
                    <a:pt x="137" y="551"/>
                  </a:lnTo>
                  <a:lnTo>
                    <a:pt x="175" y="731"/>
                  </a:lnTo>
                  <a:lnTo>
                    <a:pt x="204" y="909"/>
                  </a:lnTo>
                  <a:lnTo>
                    <a:pt x="226" y="1073"/>
                  </a:lnTo>
                  <a:lnTo>
                    <a:pt x="226" y="1073"/>
                  </a:lnTo>
                  <a:lnTo>
                    <a:pt x="258" y="1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4360" y="3256560"/>
              <a:ext cx="126000" cy="2347560"/>
            </a:xfrm>
            <a:custGeom>
              <a:avLst/>
              <a:gdLst/>
              <a:ahLst/>
              <a:rect l="l" t="t" r="r" b="b"/>
              <a:pathLst>
                <a:path w="73" h="1072">
                  <a:moveTo>
                    <a:pt x="32" y="1072"/>
                  </a:moveTo>
                  <a:lnTo>
                    <a:pt x="40" y="962"/>
                  </a:lnTo>
                  <a:lnTo>
                    <a:pt x="59" y="693"/>
                  </a:lnTo>
                  <a:lnTo>
                    <a:pt x="73" y="344"/>
                  </a:lnTo>
                  <a:lnTo>
                    <a:pt x="59" y="0"/>
                  </a:lnTo>
                  <a:lnTo>
                    <a:pt x="27" y="0"/>
                  </a:lnTo>
                  <a:lnTo>
                    <a:pt x="35" y="344"/>
                  </a:lnTo>
                  <a:lnTo>
                    <a:pt x="27" y="693"/>
                  </a:lnTo>
                  <a:lnTo>
                    <a:pt x="8" y="962"/>
                  </a:lnTo>
                  <a:lnTo>
                    <a:pt x="0" y="1072"/>
                  </a:lnTo>
                  <a:lnTo>
                    <a:pt x="32" y="1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81640" y="118080"/>
              <a:ext cx="2377440" cy="5486400"/>
            </a:xfrm>
            <a:custGeom>
              <a:avLst/>
              <a:gdLst/>
              <a:ahLst/>
              <a:rect l="l" t="t" r="r" b="b"/>
              <a:pathLst>
                <a:path w="1377" h="2505">
                  <a:moveTo>
                    <a:pt x="1162" y="363"/>
                  </a:moveTo>
                  <a:lnTo>
                    <a:pt x="1160" y="358"/>
                  </a:lnTo>
                  <a:lnTo>
                    <a:pt x="1149" y="342"/>
                  </a:lnTo>
                  <a:lnTo>
                    <a:pt x="1133" y="315"/>
                  </a:lnTo>
                  <a:lnTo>
                    <a:pt x="1111" y="282"/>
                  </a:lnTo>
                  <a:lnTo>
                    <a:pt x="1079" y="247"/>
                  </a:lnTo>
                  <a:lnTo>
                    <a:pt x="1042" y="207"/>
                  </a:lnTo>
                  <a:lnTo>
                    <a:pt x="996" y="167"/>
                  </a:lnTo>
                  <a:lnTo>
                    <a:pt x="940" y="127"/>
                  </a:lnTo>
                  <a:lnTo>
                    <a:pt x="875" y="89"/>
                  </a:lnTo>
                  <a:lnTo>
                    <a:pt x="803" y="54"/>
                  </a:lnTo>
                  <a:lnTo>
                    <a:pt x="719" y="27"/>
                  </a:lnTo>
                  <a:lnTo>
                    <a:pt x="625" y="8"/>
                  </a:lnTo>
                  <a:lnTo>
                    <a:pt x="521" y="0"/>
                  </a:lnTo>
                  <a:lnTo>
                    <a:pt x="405" y="3"/>
                  </a:lnTo>
                  <a:lnTo>
                    <a:pt x="279" y="22"/>
                  </a:lnTo>
                  <a:lnTo>
                    <a:pt x="139" y="54"/>
                  </a:lnTo>
                  <a:lnTo>
                    <a:pt x="61" y="84"/>
                  </a:lnTo>
                  <a:lnTo>
                    <a:pt x="18" y="124"/>
                  </a:lnTo>
                  <a:lnTo>
                    <a:pt x="0" y="167"/>
                  </a:lnTo>
                  <a:lnTo>
                    <a:pt x="8" y="218"/>
                  </a:lnTo>
                  <a:lnTo>
                    <a:pt x="37" y="277"/>
                  </a:lnTo>
                  <a:lnTo>
                    <a:pt x="86" y="339"/>
                  </a:lnTo>
                  <a:lnTo>
                    <a:pt x="145" y="406"/>
                  </a:lnTo>
                  <a:lnTo>
                    <a:pt x="214" y="479"/>
                  </a:lnTo>
                  <a:lnTo>
                    <a:pt x="292" y="557"/>
                  </a:lnTo>
                  <a:lnTo>
                    <a:pt x="373" y="637"/>
                  </a:lnTo>
                  <a:lnTo>
                    <a:pt x="451" y="718"/>
                  </a:lnTo>
                  <a:lnTo>
                    <a:pt x="526" y="804"/>
                  </a:lnTo>
                  <a:lnTo>
                    <a:pt x="590" y="892"/>
                  </a:lnTo>
                  <a:lnTo>
                    <a:pt x="647" y="981"/>
                  </a:lnTo>
                  <a:lnTo>
                    <a:pt x="684" y="1070"/>
                  </a:lnTo>
                  <a:lnTo>
                    <a:pt x="706" y="1161"/>
                  </a:lnTo>
                  <a:lnTo>
                    <a:pt x="706" y="1250"/>
                  </a:lnTo>
                  <a:lnTo>
                    <a:pt x="690" y="1344"/>
                  </a:lnTo>
                  <a:lnTo>
                    <a:pt x="658" y="1441"/>
                  </a:lnTo>
                  <a:lnTo>
                    <a:pt x="617" y="1540"/>
                  </a:lnTo>
                  <a:lnTo>
                    <a:pt x="569" y="1640"/>
                  </a:lnTo>
                  <a:lnTo>
                    <a:pt x="518" y="1739"/>
                  </a:lnTo>
                  <a:lnTo>
                    <a:pt x="464" y="1833"/>
                  </a:lnTo>
                  <a:lnTo>
                    <a:pt x="410" y="1925"/>
                  </a:lnTo>
                  <a:lnTo>
                    <a:pt x="362" y="2011"/>
                  </a:lnTo>
                  <a:lnTo>
                    <a:pt x="325" y="2088"/>
                  </a:lnTo>
                  <a:lnTo>
                    <a:pt x="295" y="2156"/>
                  </a:lnTo>
                  <a:lnTo>
                    <a:pt x="279" y="2215"/>
                  </a:lnTo>
                  <a:lnTo>
                    <a:pt x="279" y="2260"/>
                  </a:lnTo>
                  <a:lnTo>
                    <a:pt x="300" y="2295"/>
                  </a:lnTo>
                  <a:lnTo>
                    <a:pt x="346" y="2312"/>
                  </a:lnTo>
                  <a:lnTo>
                    <a:pt x="416" y="2314"/>
                  </a:lnTo>
                  <a:lnTo>
                    <a:pt x="488" y="2312"/>
                  </a:lnTo>
                  <a:lnTo>
                    <a:pt x="566" y="2314"/>
                  </a:lnTo>
                  <a:lnTo>
                    <a:pt x="644" y="2320"/>
                  </a:lnTo>
                  <a:lnTo>
                    <a:pt x="722" y="2330"/>
                  </a:lnTo>
                  <a:lnTo>
                    <a:pt x="803" y="2346"/>
                  </a:lnTo>
                  <a:lnTo>
                    <a:pt x="880" y="2363"/>
                  </a:lnTo>
                  <a:lnTo>
                    <a:pt x="958" y="2379"/>
                  </a:lnTo>
                  <a:lnTo>
                    <a:pt x="1031" y="2398"/>
                  </a:lnTo>
                  <a:lnTo>
                    <a:pt x="1098" y="2419"/>
                  </a:lnTo>
                  <a:lnTo>
                    <a:pt x="1162" y="2438"/>
                  </a:lnTo>
                  <a:lnTo>
                    <a:pt x="1219" y="2454"/>
                  </a:lnTo>
                  <a:lnTo>
                    <a:pt x="1267" y="2470"/>
                  </a:lnTo>
                  <a:lnTo>
                    <a:pt x="1307" y="2486"/>
                  </a:lnTo>
                  <a:lnTo>
                    <a:pt x="1337" y="2494"/>
                  </a:lnTo>
                  <a:lnTo>
                    <a:pt x="1356" y="2502"/>
                  </a:lnTo>
                  <a:lnTo>
                    <a:pt x="1361" y="2505"/>
                  </a:lnTo>
                  <a:lnTo>
                    <a:pt x="1367" y="2363"/>
                  </a:lnTo>
                  <a:lnTo>
                    <a:pt x="1375" y="2029"/>
                  </a:lnTo>
                  <a:lnTo>
                    <a:pt x="1377" y="1642"/>
                  </a:lnTo>
                  <a:lnTo>
                    <a:pt x="1369" y="1344"/>
                  </a:lnTo>
                  <a:lnTo>
                    <a:pt x="1356" y="1231"/>
                  </a:lnTo>
                  <a:lnTo>
                    <a:pt x="1329" y="1089"/>
                  </a:lnTo>
                  <a:lnTo>
                    <a:pt x="1297" y="927"/>
                  </a:lnTo>
                  <a:lnTo>
                    <a:pt x="1259" y="763"/>
                  </a:lnTo>
                  <a:lnTo>
                    <a:pt x="1224" y="610"/>
                  </a:lnTo>
                  <a:lnTo>
                    <a:pt x="1192" y="481"/>
                  </a:lnTo>
                  <a:lnTo>
                    <a:pt x="1170" y="395"/>
                  </a:lnTo>
                  <a:lnTo>
                    <a:pt x="1162" y="36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1523880" y="838080"/>
            <a:ext cx="358164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En el año 1954   la zona  había incrementado notablemente el nivel de polución, por lo que el Patronato que dirigía el hospital decidió vender el terreno  y adquirir otro en un entorno más tranquilo, en  la  Loma del  Príncipe, aledaño al Castillo del mismo no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 descr=""/>
          <p:cNvPicPr/>
          <p:nvPr/>
        </p:nvPicPr>
        <p:blipFill>
          <a:blip r:embed="rId1"/>
          <a:stretch/>
        </p:blipFill>
        <p:spPr>
          <a:xfrm>
            <a:off x="5508720" y="1197000"/>
            <a:ext cx="2303280" cy="1511280"/>
          </a:xfrm>
          <a:prstGeom prst="rect">
            <a:avLst/>
          </a:prstGeom>
          <a:ln w="0">
            <a:noFill/>
          </a:ln>
        </p:spPr>
      </p:pic>
      <p:pic>
        <p:nvPicPr>
          <p:cNvPr id="213" name="" descr=""/>
          <p:cNvPicPr/>
          <p:nvPr/>
        </p:nvPicPr>
        <p:blipFill>
          <a:blip r:embed="rId2"/>
          <a:stretch/>
        </p:blipFill>
        <p:spPr>
          <a:xfrm>
            <a:off x="5508720" y="3141720"/>
            <a:ext cx="2519280" cy="1871640"/>
          </a:xfrm>
          <a:prstGeom prst="rect">
            <a:avLst/>
          </a:prstGeom>
          <a:ln w="0">
            <a:noFill/>
          </a:ln>
        </p:spPr>
      </p:pic>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9">
                                  <p:stCondLst>
                                    <p:cond delay="0"/>
                                  </p:stCondLst>
                                  <p:childTnLst>
                                    <p:set>
                                      <p:cBhvr>
                                        <p:cTn id="190" dur="1" fill="hold">
                                          <p:stCondLst>
                                            <p:cond delay="0"/>
                                          </p:stCondLst>
                                        </p:cTn>
                                        <p:tgtEl>
                                          <p:spTgt spid="170"/>
                                        </p:tgtEl>
                                        <p:attrNameLst>
                                          <p:attrName>style.visibility</p:attrName>
                                        </p:attrNameLst>
                                      </p:cBhvr>
                                      <p:to>
                                        <p:strVal val="visible"/>
                                      </p:to>
                                    </p:set>
                                    <p:animEffect filter="dissolve" transition="in">
                                      <p:cBhvr additive="repl">
                                        <p:cTn id="191" dur="500"/>
                                        <p:tgtEl>
                                          <p:spTgt spid="170"/>
                                        </p:tgtEl>
                                      </p:cBhvr>
                                    </p:animEffect>
                                  </p:childTnLst>
                                </p:cTn>
                              </p:par>
                            </p:childTnLst>
                          </p:cTn>
                        </p:par>
                        <p:par>
                          <p:cTn id="192" fill="hold">
                            <p:stCondLst>
                              <p:cond delay="500"/>
                            </p:stCondLst>
                            <p:childTnLst>
                              <p:par>
                                <p:cTn id="193" nodeType="afterEffect" fill="hold" presetClass="entr" presetID="2" presetSubtype="12">
                                  <p:stCondLst>
                                    <p:cond delay="0"/>
                                  </p:stCondLst>
                                  <p:childTnLst>
                                    <p:set>
                                      <p:cBhvr>
                                        <p:cTn id="194" dur="1" fill="hold">
                                          <p:stCondLst>
                                            <p:cond delay="0"/>
                                          </p:stCondLst>
                                        </p:cTn>
                                        <p:tgtEl>
                                          <p:spTgt spid="211"/>
                                        </p:tgtEl>
                                        <p:attrNameLst>
                                          <p:attrName>style.visibility</p:attrName>
                                        </p:attrNameLst>
                                      </p:cBhvr>
                                      <p:to>
                                        <p:strVal val="visible"/>
                                      </p:to>
                                    </p:set>
                                    <p:anim calcmode="lin" valueType="num">
                                      <p:cBhvr additive="base">
                                        <p:cTn id="195" dur="500" fill="hold"/>
                                        <p:tgtEl>
                                          <p:spTgt spid="211"/>
                                        </p:tgtEl>
                                        <p:attrNameLst>
                                          <p:attrName>ppt_x</p:attrName>
                                        </p:attrNameLst>
                                      </p:cBhvr>
                                      <p:tavLst>
                                        <p:tav tm="0">
                                          <p:val>
                                            <p:strVal val="0-#ppt_w/2"/>
                                          </p:val>
                                        </p:tav>
                                        <p:tav tm="100000">
                                          <p:val>
                                            <p:strVal val="#ppt_x"/>
                                          </p:val>
                                        </p:tav>
                                      </p:tavLst>
                                    </p:anim>
                                    <p:anim calcmode="lin" valueType="num">
                                      <p:cBhvr additive="base">
                                        <p:cTn id="196" dur="500" fill="hold"/>
                                        <p:tgtEl>
                                          <p:spTgt spid="211"/>
                                        </p:tgtEl>
                                        <p:attrNameLst>
                                          <p:attrName>ppt_y</p:attrName>
                                        </p:attrNameLst>
                                      </p:cBhvr>
                                      <p:tavLst>
                                        <p:tav tm="0">
                                          <p:val>
                                            <p:strVal val="1+#ppt_h/2"/>
                                          </p:val>
                                        </p:tav>
                                        <p:tav tm="100000">
                                          <p:val>
                                            <p:strVal val="#ppt_y"/>
                                          </p:val>
                                        </p:tav>
                                      </p:tavLst>
                                    </p:anim>
                                  </p:childTnLst>
                                </p:cTn>
                              </p:par>
                            </p:childTnLst>
                          </p:cTn>
                        </p:par>
                        <p:par>
                          <p:cTn id="197" fill="hold">
                            <p:stCondLst>
                              <p:cond delay="1000"/>
                            </p:stCondLst>
                            <p:childTnLst>
                              <p:par>
                                <p:cTn id="198" nodeType="afterEffect" fill="hold" presetClass="entr" presetID="2" presetSubtype="4">
                                  <p:stCondLst>
                                    <p:cond delay="0"/>
                                  </p:stCondLst>
                                  <p:childTnLst>
                                    <p:set>
                                      <p:cBhvr>
                                        <p:cTn id="199" dur="1" fill="hold">
                                          <p:stCondLst>
                                            <p:cond delay="0"/>
                                          </p:stCondLst>
                                        </p:cTn>
                                        <p:tgtEl>
                                          <p:spTgt spid="212"/>
                                        </p:tgtEl>
                                        <p:attrNameLst>
                                          <p:attrName>style.visibility</p:attrName>
                                        </p:attrNameLst>
                                      </p:cBhvr>
                                      <p:to>
                                        <p:strVal val="visible"/>
                                      </p:to>
                                    </p:set>
                                    <p:anim calcmode="lin" valueType="num">
                                      <p:cBhvr additive="base">
                                        <p:cTn id="200" dur="500" fill="hold"/>
                                        <p:tgtEl>
                                          <p:spTgt spid="212"/>
                                        </p:tgtEl>
                                        <p:attrNameLst>
                                          <p:attrName>ppt_x</p:attrName>
                                        </p:attrNameLst>
                                      </p:cBhvr>
                                      <p:tavLst>
                                        <p:tav tm="0">
                                          <p:val>
                                            <p:strVal val="#ppt_x"/>
                                          </p:val>
                                        </p:tav>
                                        <p:tav tm="100000">
                                          <p:val>
                                            <p:strVal val="#ppt_x"/>
                                          </p:val>
                                        </p:tav>
                                      </p:tavLst>
                                    </p:anim>
                                    <p:anim calcmode="lin" valueType="num">
                                      <p:cBhvr additive="base">
                                        <p:cTn id="201" dur="500" fill="hold"/>
                                        <p:tgtEl>
                                          <p:spTgt spid="212"/>
                                        </p:tgtEl>
                                        <p:attrNameLst>
                                          <p:attrName>ppt_y</p:attrName>
                                        </p:attrNameLst>
                                      </p:cBhvr>
                                      <p:tavLst>
                                        <p:tav tm="0">
                                          <p:val>
                                            <p:strVal val="1+#ppt_h/2"/>
                                          </p:val>
                                        </p:tav>
                                        <p:tav tm="100000">
                                          <p:val>
                                            <p:strVal val="#ppt_y"/>
                                          </p:val>
                                        </p:tav>
                                      </p:tavLst>
                                    </p:anim>
                                  </p:childTnLst>
                                </p:cTn>
                              </p:par>
                            </p:childTnLst>
                          </p:cTn>
                        </p:par>
                        <p:par>
                          <p:cTn id="202" fill="hold">
                            <p:stCondLst>
                              <p:cond delay="1500"/>
                            </p:stCondLst>
                            <p:childTnLst>
                              <p:par>
                                <p:cTn id="203" nodeType="afterEffect" fill="hold" presetClass="entr" presetID="2" presetSubtype="4">
                                  <p:stCondLst>
                                    <p:cond delay="0"/>
                                  </p:stCondLst>
                                  <p:childTnLst>
                                    <p:set>
                                      <p:cBhvr>
                                        <p:cTn id="204" dur="1" fill="hold">
                                          <p:stCondLst>
                                            <p:cond delay="0"/>
                                          </p:stCondLst>
                                        </p:cTn>
                                        <p:tgtEl>
                                          <p:spTgt spid="213"/>
                                        </p:tgtEl>
                                        <p:attrNameLst>
                                          <p:attrName>style.visibility</p:attrName>
                                        </p:attrNameLst>
                                      </p:cBhvr>
                                      <p:to>
                                        <p:strVal val="visible"/>
                                      </p:to>
                                    </p:set>
                                    <p:anim calcmode="lin" valueType="num">
                                      <p:cBhvr additive="base">
                                        <p:cTn id="205" dur="500" fill="hold"/>
                                        <p:tgtEl>
                                          <p:spTgt spid="213"/>
                                        </p:tgtEl>
                                        <p:attrNameLst>
                                          <p:attrName>ppt_x</p:attrName>
                                        </p:attrNameLst>
                                      </p:cBhvr>
                                      <p:tavLst>
                                        <p:tav tm="0">
                                          <p:val>
                                            <p:strVal val="#ppt_x"/>
                                          </p:val>
                                        </p:tav>
                                        <p:tav tm="100000">
                                          <p:val>
                                            <p:strVal val="#ppt_x"/>
                                          </p:val>
                                        </p:tav>
                                      </p:tavLst>
                                    </p:anim>
                                    <p:anim calcmode="lin" valueType="num">
                                      <p:cBhvr additive="base">
                                        <p:cTn id="20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4"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395280" y="0"/>
            <a:ext cx="8457840" cy="6857640"/>
            <a:chOff x="395280" y="0"/>
            <a:chExt cx="8457840" cy="6857640"/>
          </a:xfrm>
        </p:grpSpPr>
        <p:sp>
          <p:nvSpPr>
            <p:cNvPr id="216" name=""/>
            <p:cNvSpPr/>
            <p:nvPr/>
          </p:nvSpPr>
          <p:spPr>
            <a:xfrm>
              <a:off x="395280" y="0"/>
              <a:ext cx="8452800" cy="6857640"/>
            </a:xfrm>
            <a:custGeom>
              <a:avLst/>
              <a:gdLst/>
              <a:ahLst/>
              <a:rect l="l" t="t" r="r" b="b"/>
              <a:pathLst>
                <a:path w="4895" h="3131">
                  <a:moveTo>
                    <a:pt x="2478" y="339"/>
                  </a:moveTo>
                  <a:lnTo>
                    <a:pt x="2489" y="331"/>
                  </a:lnTo>
                  <a:lnTo>
                    <a:pt x="2519" y="312"/>
                  </a:lnTo>
                  <a:lnTo>
                    <a:pt x="2562" y="283"/>
                  </a:lnTo>
                  <a:lnTo>
                    <a:pt x="2615" y="248"/>
                  </a:lnTo>
                  <a:lnTo>
                    <a:pt x="2680" y="210"/>
                  </a:lnTo>
                  <a:lnTo>
                    <a:pt x="2747" y="172"/>
                  </a:lnTo>
                  <a:lnTo>
                    <a:pt x="2814" y="138"/>
                  </a:lnTo>
                  <a:lnTo>
                    <a:pt x="2881" y="111"/>
                  </a:lnTo>
                  <a:lnTo>
                    <a:pt x="2946" y="89"/>
                  </a:lnTo>
                  <a:lnTo>
                    <a:pt x="3010" y="68"/>
                  </a:lnTo>
                  <a:lnTo>
                    <a:pt x="3072" y="52"/>
                  </a:lnTo>
                  <a:lnTo>
                    <a:pt x="3134" y="35"/>
                  </a:lnTo>
                  <a:lnTo>
                    <a:pt x="3193" y="22"/>
                  </a:lnTo>
                  <a:lnTo>
                    <a:pt x="3252" y="11"/>
                  </a:lnTo>
                  <a:lnTo>
                    <a:pt x="3311" y="6"/>
                  </a:lnTo>
                  <a:lnTo>
                    <a:pt x="3370" y="0"/>
                  </a:lnTo>
                  <a:lnTo>
                    <a:pt x="3429" y="0"/>
                  </a:lnTo>
                  <a:lnTo>
                    <a:pt x="3485" y="6"/>
                  </a:lnTo>
                  <a:lnTo>
                    <a:pt x="3542" y="14"/>
                  </a:lnTo>
                  <a:lnTo>
                    <a:pt x="3601" y="27"/>
                  </a:lnTo>
                  <a:lnTo>
                    <a:pt x="3657" y="46"/>
                  </a:lnTo>
                  <a:lnTo>
                    <a:pt x="3714" y="70"/>
                  </a:lnTo>
                  <a:lnTo>
                    <a:pt x="3773" y="97"/>
                  </a:lnTo>
                  <a:lnTo>
                    <a:pt x="3829" y="132"/>
                  </a:lnTo>
                  <a:lnTo>
                    <a:pt x="3878" y="167"/>
                  </a:lnTo>
                  <a:lnTo>
                    <a:pt x="3926" y="207"/>
                  </a:lnTo>
                  <a:lnTo>
                    <a:pt x="3972" y="253"/>
                  </a:lnTo>
                  <a:lnTo>
                    <a:pt x="4012" y="299"/>
                  </a:lnTo>
                  <a:lnTo>
                    <a:pt x="4047" y="339"/>
                  </a:lnTo>
                  <a:lnTo>
                    <a:pt x="4076" y="371"/>
                  </a:lnTo>
                  <a:lnTo>
                    <a:pt x="4095" y="396"/>
                  </a:lnTo>
                  <a:lnTo>
                    <a:pt x="4100" y="404"/>
                  </a:lnTo>
                  <a:lnTo>
                    <a:pt x="4576" y="439"/>
                  </a:lnTo>
                  <a:lnTo>
                    <a:pt x="4584" y="436"/>
                  </a:lnTo>
                  <a:lnTo>
                    <a:pt x="4605" y="433"/>
                  </a:lnTo>
                  <a:lnTo>
                    <a:pt x="4638" y="430"/>
                  </a:lnTo>
                  <a:lnTo>
                    <a:pt x="4675" y="428"/>
                  </a:lnTo>
                  <a:lnTo>
                    <a:pt x="4718" y="428"/>
                  </a:lnTo>
                  <a:lnTo>
                    <a:pt x="4761" y="433"/>
                  </a:lnTo>
                  <a:lnTo>
                    <a:pt x="4804" y="444"/>
                  </a:lnTo>
                  <a:lnTo>
                    <a:pt x="4839" y="463"/>
                  </a:lnTo>
                  <a:lnTo>
                    <a:pt x="4855" y="522"/>
                  </a:lnTo>
                  <a:lnTo>
                    <a:pt x="4858" y="651"/>
                  </a:lnTo>
                  <a:lnTo>
                    <a:pt x="4855" y="826"/>
                  </a:lnTo>
                  <a:lnTo>
                    <a:pt x="4847" y="1024"/>
                  </a:lnTo>
                  <a:lnTo>
                    <a:pt x="4836" y="1223"/>
                  </a:lnTo>
                  <a:lnTo>
                    <a:pt x="4825" y="1393"/>
                  </a:lnTo>
                  <a:lnTo>
                    <a:pt x="4815" y="1514"/>
                  </a:lnTo>
                  <a:lnTo>
                    <a:pt x="4812" y="1559"/>
                  </a:lnTo>
                  <a:lnTo>
                    <a:pt x="4842" y="2328"/>
                  </a:lnTo>
                  <a:lnTo>
                    <a:pt x="4895" y="2581"/>
                  </a:lnTo>
                  <a:lnTo>
                    <a:pt x="4686" y="2688"/>
                  </a:lnTo>
                  <a:lnTo>
                    <a:pt x="4726" y="2919"/>
                  </a:lnTo>
                  <a:lnTo>
                    <a:pt x="4318" y="2884"/>
                  </a:lnTo>
                  <a:lnTo>
                    <a:pt x="3612" y="2804"/>
                  </a:lnTo>
                  <a:lnTo>
                    <a:pt x="3037" y="2691"/>
                  </a:lnTo>
                  <a:lnTo>
                    <a:pt x="3034" y="2693"/>
                  </a:lnTo>
                  <a:lnTo>
                    <a:pt x="3026" y="2699"/>
                  </a:lnTo>
                  <a:lnTo>
                    <a:pt x="3010" y="2707"/>
                  </a:lnTo>
                  <a:lnTo>
                    <a:pt x="2991" y="2718"/>
                  </a:lnTo>
                  <a:lnTo>
                    <a:pt x="2970" y="2731"/>
                  </a:lnTo>
                  <a:lnTo>
                    <a:pt x="2943" y="2744"/>
                  </a:lnTo>
                  <a:lnTo>
                    <a:pt x="2913" y="2758"/>
                  </a:lnTo>
                  <a:lnTo>
                    <a:pt x="2881" y="2771"/>
                  </a:lnTo>
                  <a:lnTo>
                    <a:pt x="2846" y="2785"/>
                  </a:lnTo>
                  <a:lnTo>
                    <a:pt x="2811" y="2798"/>
                  </a:lnTo>
                  <a:lnTo>
                    <a:pt x="2774" y="2809"/>
                  </a:lnTo>
                  <a:lnTo>
                    <a:pt x="2739" y="2817"/>
                  </a:lnTo>
                  <a:lnTo>
                    <a:pt x="2701" y="2822"/>
                  </a:lnTo>
                  <a:lnTo>
                    <a:pt x="2666" y="2822"/>
                  </a:lnTo>
                  <a:lnTo>
                    <a:pt x="2631" y="2820"/>
                  </a:lnTo>
                  <a:lnTo>
                    <a:pt x="2599" y="2812"/>
                  </a:lnTo>
                  <a:lnTo>
                    <a:pt x="2575" y="2801"/>
                  </a:lnTo>
                  <a:lnTo>
                    <a:pt x="2548" y="2785"/>
                  </a:lnTo>
                  <a:lnTo>
                    <a:pt x="2521" y="2769"/>
                  </a:lnTo>
                  <a:lnTo>
                    <a:pt x="2500" y="2753"/>
                  </a:lnTo>
                  <a:lnTo>
                    <a:pt x="2478" y="2736"/>
                  </a:lnTo>
                  <a:lnTo>
                    <a:pt x="2462" y="2726"/>
                  </a:lnTo>
                  <a:lnTo>
                    <a:pt x="2449" y="2715"/>
                  </a:lnTo>
                  <a:lnTo>
                    <a:pt x="2446" y="2712"/>
                  </a:lnTo>
                  <a:lnTo>
                    <a:pt x="2438" y="2715"/>
                  </a:lnTo>
                  <a:lnTo>
                    <a:pt x="2414" y="2720"/>
                  </a:lnTo>
                  <a:lnTo>
                    <a:pt x="2374" y="2728"/>
                  </a:lnTo>
                  <a:lnTo>
                    <a:pt x="2323" y="2742"/>
                  </a:lnTo>
                  <a:lnTo>
                    <a:pt x="2258" y="2755"/>
                  </a:lnTo>
                  <a:lnTo>
                    <a:pt x="2183" y="2771"/>
                  </a:lnTo>
                  <a:lnTo>
                    <a:pt x="2102" y="2790"/>
                  </a:lnTo>
                  <a:lnTo>
                    <a:pt x="2011" y="2812"/>
                  </a:lnTo>
                  <a:lnTo>
                    <a:pt x="1917" y="2833"/>
                  </a:lnTo>
                  <a:lnTo>
                    <a:pt x="1818" y="2855"/>
                  </a:lnTo>
                  <a:lnTo>
                    <a:pt x="1716" y="2879"/>
                  </a:lnTo>
                  <a:lnTo>
                    <a:pt x="1611" y="2900"/>
                  </a:lnTo>
                  <a:lnTo>
                    <a:pt x="1509" y="2922"/>
                  </a:lnTo>
                  <a:lnTo>
                    <a:pt x="1407" y="2946"/>
                  </a:lnTo>
                  <a:lnTo>
                    <a:pt x="1307" y="2968"/>
                  </a:lnTo>
                  <a:lnTo>
                    <a:pt x="1213" y="2986"/>
                  </a:lnTo>
                  <a:lnTo>
                    <a:pt x="1162" y="2997"/>
                  </a:lnTo>
                  <a:lnTo>
                    <a:pt x="1109" y="3011"/>
                  </a:lnTo>
                  <a:lnTo>
                    <a:pt x="1058" y="3021"/>
                  </a:lnTo>
                  <a:lnTo>
                    <a:pt x="1004" y="3035"/>
                  </a:lnTo>
                  <a:lnTo>
                    <a:pt x="950" y="3048"/>
                  </a:lnTo>
                  <a:lnTo>
                    <a:pt x="899" y="3062"/>
                  </a:lnTo>
                  <a:lnTo>
                    <a:pt x="848" y="3075"/>
                  </a:lnTo>
                  <a:lnTo>
                    <a:pt x="800" y="3088"/>
                  </a:lnTo>
                  <a:lnTo>
                    <a:pt x="752" y="3099"/>
                  </a:lnTo>
                  <a:lnTo>
                    <a:pt x="709" y="3110"/>
                  </a:lnTo>
                  <a:lnTo>
                    <a:pt x="666" y="3118"/>
                  </a:lnTo>
                  <a:lnTo>
                    <a:pt x="628" y="3123"/>
                  </a:lnTo>
                  <a:lnTo>
                    <a:pt x="593" y="3129"/>
                  </a:lnTo>
                  <a:lnTo>
                    <a:pt x="561" y="3131"/>
                  </a:lnTo>
                  <a:lnTo>
                    <a:pt x="534" y="3131"/>
                  </a:lnTo>
                  <a:lnTo>
                    <a:pt x="513" y="3129"/>
                  </a:lnTo>
                  <a:lnTo>
                    <a:pt x="462" y="3075"/>
                  </a:lnTo>
                  <a:lnTo>
                    <a:pt x="416" y="2951"/>
                  </a:lnTo>
                  <a:lnTo>
                    <a:pt x="370" y="2785"/>
                  </a:lnTo>
                  <a:lnTo>
                    <a:pt x="333" y="2591"/>
                  </a:lnTo>
                  <a:lnTo>
                    <a:pt x="300" y="2403"/>
                  </a:lnTo>
                  <a:lnTo>
                    <a:pt x="276" y="2237"/>
                  </a:lnTo>
                  <a:lnTo>
                    <a:pt x="260" y="2116"/>
                  </a:lnTo>
                  <a:lnTo>
                    <a:pt x="255" y="2065"/>
                  </a:lnTo>
                  <a:lnTo>
                    <a:pt x="247" y="2003"/>
                  </a:lnTo>
                  <a:lnTo>
                    <a:pt x="236" y="1914"/>
                  </a:lnTo>
                  <a:lnTo>
                    <a:pt x="220" y="1812"/>
                  </a:lnTo>
                  <a:lnTo>
                    <a:pt x="204" y="1702"/>
                  </a:lnTo>
                  <a:lnTo>
                    <a:pt x="188" y="1600"/>
                  </a:lnTo>
                  <a:lnTo>
                    <a:pt x="177" y="1514"/>
                  </a:lnTo>
                  <a:lnTo>
                    <a:pt x="166" y="1452"/>
                  </a:lnTo>
                  <a:lnTo>
                    <a:pt x="163" y="1430"/>
                  </a:lnTo>
                  <a:lnTo>
                    <a:pt x="155" y="1401"/>
                  </a:lnTo>
                  <a:lnTo>
                    <a:pt x="131" y="1320"/>
                  </a:lnTo>
                  <a:lnTo>
                    <a:pt x="99" y="1204"/>
                  </a:lnTo>
                  <a:lnTo>
                    <a:pt x="67" y="1070"/>
                  </a:lnTo>
                  <a:lnTo>
                    <a:pt x="35" y="938"/>
                  </a:lnTo>
                  <a:lnTo>
                    <a:pt x="10" y="817"/>
                  </a:lnTo>
                  <a:lnTo>
                    <a:pt x="0" y="729"/>
                  </a:lnTo>
                  <a:lnTo>
                    <a:pt x="8" y="688"/>
                  </a:lnTo>
                  <a:lnTo>
                    <a:pt x="48" y="678"/>
                  </a:lnTo>
                  <a:lnTo>
                    <a:pt x="91" y="672"/>
                  </a:lnTo>
                  <a:lnTo>
                    <a:pt x="137" y="670"/>
                  </a:lnTo>
                  <a:lnTo>
                    <a:pt x="180" y="670"/>
                  </a:lnTo>
                  <a:lnTo>
                    <a:pt x="217" y="672"/>
                  </a:lnTo>
                  <a:lnTo>
                    <a:pt x="249" y="675"/>
                  </a:lnTo>
                  <a:lnTo>
                    <a:pt x="268" y="678"/>
                  </a:lnTo>
                  <a:lnTo>
                    <a:pt x="276" y="678"/>
                  </a:lnTo>
                  <a:lnTo>
                    <a:pt x="231" y="522"/>
                  </a:lnTo>
                  <a:lnTo>
                    <a:pt x="693" y="366"/>
                  </a:lnTo>
                  <a:lnTo>
                    <a:pt x="701" y="363"/>
                  </a:lnTo>
                  <a:lnTo>
                    <a:pt x="719" y="350"/>
                  </a:lnTo>
                  <a:lnTo>
                    <a:pt x="752" y="334"/>
                  </a:lnTo>
                  <a:lnTo>
                    <a:pt x="795" y="312"/>
                  </a:lnTo>
                  <a:lnTo>
                    <a:pt x="846" y="285"/>
                  </a:lnTo>
                  <a:lnTo>
                    <a:pt x="907" y="256"/>
                  </a:lnTo>
                  <a:lnTo>
                    <a:pt x="974" y="224"/>
                  </a:lnTo>
                  <a:lnTo>
                    <a:pt x="1050" y="191"/>
                  </a:lnTo>
                  <a:lnTo>
                    <a:pt x="1128" y="159"/>
                  </a:lnTo>
                  <a:lnTo>
                    <a:pt x="1211" y="129"/>
                  </a:lnTo>
                  <a:lnTo>
                    <a:pt x="1297" y="100"/>
                  </a:lnTo>
                  <a:lnTo>
                    <a:pt x="1383" y="76"/>
                  </a:lnTo>
                  <a:lnTo>
                    <a:pt x="1471" y="54"/>
                  </a:lnTo>
                  <a:lnTo>
                    <a:pt x="1557" y="38"/>
                  </a:lnTo>
                  <a:lnTo>
                    <a:pt x="1643" y="27"/>
                  </a:lnTo>
                  <a:lnTo>
                    <a:pt x="1724" y="25"/>
                  </a:lnTo>
                  <a:lnTo>
                    <a:pt x="1850" y="30"/>
                  </a:lnTo>
                  <a:lnTo>
                    <a:pt x="1960" y="43"/>
                  </a:lnTo>
                  <a:lnTo>
                    <a:pt x="2057" y="60"/>
                  </a:lnTo>
                  <a:lnTo>
                    <a:pt x="2140" y="81"/>
                  </a:lnTo>
                  <a:lnTo>
                    <a:pt x="2213" y="105"/>
                  </a:lnTo>
                  <a:lnTo>
                    <a:pt x="2274" y="132"/>
                  </a:lnTo>
                  <a:lnTo>
                    <a:pt x="2325" y="159"/>
                  </a:lnTo>
                  <a:lnTo>
                    <a:pt x="2368" y="189"/>
                  </a:lnTo>
                  <a:lnTo>
                    <a:pt x="2400" y="218"/>
                  </a:lnTo>
                  <a:lnTo>
                    <a:pt x="2427" y="245"/>
                  </a:lnTo>
                  <a:lnTo>
                    <a:pt x="2446" y="269"/>
                  </a:lnTo>
                  <a:lnTo>
                    <a:pt x="2460" y="293"/>
                  </a:lnTo>
                  <a:lnTo>
                    <a:pt x="2470" y="312"/>
                  </a:lnTo>
                  <a:lnTo>
                    <a:pt x="2476" y="326"/>
                  </a:lnTo>
                  <a:lnTo>
                    <a:pt x="2478" y="336"/>
                  </a:lnTo>
                  <a:lnTo>
                    <a:pt x="2478"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492600" y="82800"/>
              <a:ext cx="2360520" cy="5940360"/>
            </a:xfrm>
            <a:custGeom>
              <a:avLst/>
              <a:gdLst/>
              <a:ahLst/>
              <a:rect l="l" t="t" r="r" b="b"/>
              <a:pathLst>
                <a:path w="1367" h="2712">
                  <a:moveTo>
                    <a:pt x="1141" y="2712"/>
                  </a:moveTo>
                  <a:lnTo>
                    <a:pt x="1354" y="2588"/>
                  </a:lnTo>
                  <a:lnTo>
                    <a:pt x="1332" y="1529"/>
                  </a:lnTo>
                  <a:lnTo>
                    <a:pt x="1367" y="390"/>
                  </a:lnTo>
                  <a:lnTo>
                    <a:pt x="859" y="374"/>
                  </a:lnTo>
                  <a:lnTo>
                    <a:pt x="0" y="0"/>
                  </a:lnTo>
                  <a:lnTo>
                    <a:pt x="1096" y="1607"/>
                  </a:lnTo>
                  <a:lnTo>
                    <a:pt x="1141" y="2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55760" y="1101600"/>
              <a:ext cx="4228560" cy="606240"/>
            </a:xfrm>
            <a:custGeom>
              <a:avLst/>
              <a:gdLst/>
              <a:ahLst/>
              <a:rect l="l" t="t" r="r" b="b"/>
              <a:pathLst>
                <a:path w="2449" h="277">
                  <a:moveTo>
                    <a:pt x="37" y="258"/>
                  </a:moveTo>
                  <a:lnTo>
                    <a:pt x="21" y="277"/>
                  </a:lnTo>
                  <a:lnTo>
                    <a:pt x="2449" y="32"/>
                  </a:lnTo>
                  <a:lnTo>
                    <a:pt x="2449" y="0"/>
                  </a:lnTo>
                  <a:lnTo>
                    <a:pt x="21" y="245"/>
                  </a:lnTo>
                  <a:lnTo>
                    <a:pt x="5" y="263"/>
                  </a:lnTo>
                  <a:lnTo>
                    <a:pt x="21" y="245"/>
                  </a:lnTo>
                  <a:lnTo>
                    <a:pt x="0" y="245"/>
                  </a:lnTo>
                  <a:lnTo>
                    <a:pt x="5" y="263"/>
                  </a:lnTo>
                  <a:lnTo>
                    <a:pt x="3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4400" y="1666800"/>
              <a:ext cx="819720" cy="5138280"/>
            </a:xfrm>
            <a:custGeom>
              <a:avLst/>
              <a:gdLst/>
              <a:ahLst/>
              <a:rect l="l" t="t" r="r" b="b"/>
              <a:pathLst>
                <a:path w="475" h="2346">
                  <a:moveTo>
                    <a:pt x="456" y="2309"/>
                  </a:moveTo>
                  <a:lnTo>
                    <a:pt x="475" y="2322"/>
                  </a:lnTo>
                  <a:lnTo>
                    <a:pt x="32" y="0"/>
                  </a:lnTo>
                  <a:lnTo>
                    <a:pt x="0" y="5"/>
                  </a:lnTo>
                  <a:lnTo>
                    <a:pt x="443" y="2327"/>
                  </a:lnTo>
                  <a:lnTo>
                    <a:pt x="462" y="2341"/>
                  </a:lnTo>
                  <a:lnTo>
                    <a:pt x="443" y="2327"/>
                  </a:lnTo>
                  <a:lnTo>
                    <a:pt x="446" y="2346"/>
                  </a:lnTo>
                  <a:lnTo>
                    <a:pt x="462" y="2341"/>
                  </a:lnTo>
                  <a:lnTo>
                    <a:pt x="456" y="2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51360" y="5821560"/>
              <a:ext cx="3465720" cy="972360"/>
            </a:xfrm>
            <a:custGeom>
              <a:avLst/>
              <a:gdLst/>
              <a:ahLst/>
              <a:rect l="l" t="t" r="r" b="b"/>
              <a:pathLst>
                <a:path w="2007" h="444">
                  <a:moveTo>
                    <a:pt x="2007" y="9"/>
                  </a:moveTo>
                  <a:lnTo>
                    <a:pt x="1990" y="3"/>
                  </a:lnTo>
                  <a:lnTo>
                    <a:pt x="0" y="412"/>
                  </a:lnTo>
                  <a:lnTo>
                    <a:pt x="6" y="444"/>
                  </a:lnTo>
                  <a:lnTo>
                    <a:pt x="1996" y="35"/>
                  </a:lnTo>
                  <a:lnTo>
                    <a:pt x="1980" y="30"/>
                  </a:lnTo>
                  <a:lnTo>
                    <a:pt x="2007" y="9"/>
                  </a:lnTo>
                  <a:lnTo>
                    <a:pt x="1998" y="0"/>
                  </a:lnTo>
                  <a:lnTo>
                    <a:pt x="1990" y="3"/>
                  </a:lnTo>
                  <a:lnTo>
                    <a:pt x="20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671000" y="5841360"/>
              <a:ext cx="184320" cy="244800"/>
            </a:xfrm>
            <a:custGeom>
              <a:avLst/>
              <a:gdLst/>
              <a:ahLst/>
              <a:rect l="l" t="t" r="r" b="b"/>
              <a:pathLst>
                <a:path w="107" h="112">
                  <a:moveTo>
                    <a:pt x="94" y="75"/>
                  </a:moveTo>
                  <a:lnTo>
                    <a:pt x="107" y="83"/>
                  </a:lnTo>
                  <a:lnTo>
                    <a:pt x="27" y="0"/>
                  </a:lnTo>
                  <a:lnTo>
                    <a:pt x="0" y="21"/>
                  </a:lnTo>
                  <a:lnTo>
                    <a:pt x="80" y="104"/>
                  </a:lnTo>
                  <a:lnTo>
                    <a:pt x="94" y="112"/>
                  </a:lnTo>
                  <a:lnTo>
                    <a:pt x="80" y="104"/>
                  </a:lnTo>
                  <a:lnTo>
                    <a:pt x="88" y="110"/>
                  </a:lnTo>
                  <a:lnTo>
                    <a:pt x="94" y="112"/>
                  </a:lnTo>
                  <a:lnTo>
                    <a:pt x="9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33000" y="6005520"/>
              <a:ext cx="443520" cy="87840"/>
            </a:xfrm>
            <a:custGeom>
              <a:avLst/>
              <a:gdLst/>
              <a:ahLst/>
              <a:rect l="l" t="t" r="r" b="b"/>
              <a:pathLst>
                <a:path w="257" h="40">
                  <a:moveTo>
                    <a:pt x="241" y="8"/>
                  </a:moveTo>
                  <a:lnTo>
                    <a:pt x="249" y="2"/>
                  </a:lnTo>
                  <a:lnTo>
                    <a:pt x="0" y="0"/>
                  </a:lnTo>
                  <a:lnTo>
                    <a:pt x="0" y="37"/>
                  </a:lnTo>
                  <a:lnTo>
                    <a:pt x="249" y="40"/>
                  </a:lnTo>
                  <a:lnTo>
                    <a:pt x="257" y="35"/>
                  </a:lnTo>
                  <a:lnTo>
                    <a:pt x="249" y="40"/>
                  </a:lnTo>
                  <a:lnTo>
                    <a:pt x="255" y="40"/>
                  </a:lnTo>
                  <a:lnTo>
                    <a:pt x="257" y="35"/>
                  </a:lnTo>
                  <a:lnTo>
                    <a:pt x="241"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5" name=""/>
            <p:cNvSpPr/>
            <p:nvPr/>
          </p:nvSpPr>
          <p:spPr>
            <a:xfrm>
              <a:off x="5249520" y="5781960"/>
              <a:ext cx="296640" cy="300240"/>
            </a:xfrm>
            <a:custGeom>
              <a:avLst/>
              <a:gdLst/>
              <a:ahLst/>
              <a:rect l="l" t="t" r="r" b="b"/>
              <a:pathLst>
                <a:path w="172" h="137">
                  <a:moveTo>
                    <a:pt x="164" y="2"/>
                  </a:moveTo>
                  <a:lnTo>
                    <a:pt x="156" y="5"/>
                  </a:lnTo>
                  <a:lnTo>
                    <a:pt x="0" y="110"/>
                  </a:lnTo>
                  <a:lnTo>
                    <a:pt x="16" y="137"/>
                  </a:lnTo>
                  <a:lnTo>
                    <a:pt x="172" y="32"/>
                  </a:lnTo>
                  <a:lnTo>
                    <a:pt x="164" y="35"/>
                  </a:lnTo>
                  <a:lnTo>
                    <a:pt x="164" y="2"/>
                  </a:lnTo>
                  <a:lnTo>
                    <a:pt x="161" y="0"/>
                  </a:lnTo>
                  <a:lnTo>
                    <a:pt x="156" y="5"/>
                  </a:lnTo>
                  <a:lnTo>
                    <a:pt x="16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32480" y="5786280"/>
              <a:ext cx="2995920" cy="543240"/>
            </a:xfrm>
            <a:custGeom>
              <a:avLst/>
              <a:gdLst/>
              <a:ahLst/>
              <a:rect l="l" t="t" r="r" b="b"/>
              <a:pathLst>
                <a:path w="1735" h="248">
                  <a:moveTo>
                    <a:pt x="1700" y="229"/>
                  </a:moveTo>
                  <a:lnTo>
                    <a:pt x="1716" y="213"/>
                  </a:lnTo>
                  <a:lnTo>
                    <a:pt x="0" y="0"/>
                  </a:lnTo>
                  <a:lnTo>
                    <a:pt x="0" y="33"/>
                  </a:lnTo>
                  <a:lnTo>
                    <a:pt x="1716" y="245"/>
                  </a:lnTo>
                  <a:lnTo>
                    <a:pt x="1732" y="229"/>
                  </a:lnTo>
                  <a:lnTo>
                    <a:pt x="1716" y="245"/>
                  </a:lnTo>
                  <a:lnTo>
                    <a:pt x="1735" y="248"/>
                  </a:lnTo>
                  <a:lnTo>
                    <a:pt x="1732" y="229"/>
                  </a:lnTo>
                  <a:lnTo>
                    <a:pt x="170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36800" y="1195920"/>
              <a:ext cx="286560" cy="5091840"/>
            </a:xfrm>
            <a:custGeom>
              <a:avLst/>
              <a:gdLst/>
              <a:ahLst/>
              <a:rect l="l" t="t" r="r" b="b"/>
              <a:pathLst>
                <a:path w="166" h="2325">
                  <a:moveTo>
                    <a:pt x="16" y="32"/>
                  </a:moveTo>
                  <a:lnTo>
                    <a:pt x="0" y="16"/>
                  </a:lnTo>
                  <a:lnTo>
                    <a:pt x="134" y="2325"/>
                  </a:lnTo>
                  <a:lnTo>
                    <a:pt x="166" y="2325"/>
                  </a:lnTo>
                  <a:lnTo>
                    <a:pt x="32" y="16"/>
                  </a:lnTo>
                  <a:lnTo>
                    <a:pt x="16" y="0"/>
                  </a:lnTo>
                  <a:lnTo>
                    <a:pt x="32" y="16"/>
                  </a:lnTo>
                  <a:lnTo>
                    <a:pt x="32" y="0"/>
                  </a:lnTo>
                  <a:lnTo>
                    <a:pt x="16" y="0"/>
                  </a:lnTo>
                  <a:lnTo>
                    <a:pt x="1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684680" y="1101600"/>
              <a:ext cx="3579480" cy="164160"/>
            </a:xfrm>
            <a:custGeom>
              <a:avLst/>
              <a:gdLst/>
              <a:ahLst/>
              <a:rect l="l" t="t" r="r" b="b"/>
              <a:pathLst>
                <a:path w="2073" h="75">
                  <a:moveTo>
                    <a:pt x="0" y="32"/>
                  </a:moveTo>
                  <a:lnTo>
                    <a:pt x="0" y="32"/>
                  </a:lnTo>
                  <a:lnTo>
                    <a:pt x="2073" y="75"/>
                  </a:lnTo>
                  <a:lnTo>
                    <a:pt x="2073" y="43"/>
                  </a:lnTo>
                  <a:lnTo>
                    <a:pt x="0"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9640" y="501480"/>
              <a:ext cx="7734240" cy="6033600"/>
            </a:xfrm>
            <a:custGeom>
              <a:avLst/>
              <a:gdLst/>
              <a:ahLst/>
              <a:rect l="l" t="t" r="r" b="b"/>
              <a:pathLst>
                <a:path w="4479" h="2755">
                  <a:moveTo>
                    <a:pt x="172" y="446"/>
                  </a:moveTo>
                  <a:lnTo>
                    <a:pt x="0" y="680"/>
                  </a:lnTo>
                  <a:lnTo>
                    <a:pt x="397" y="2755"/>
                  </a:lnTo>
                  <a:lnTo>
                    <a:pt x="2204" y="2338"/>
                  </a:lnTo>
                  <a:lnTo>
                    <a:pt x="2776" y="2338"/>
                  </a:lnTo>
                  <a:lnTo>
                    <a:pt x="3770" y="2467"/>
                  </a:lnTo>
                  <a:lnTo>
                    <a:pt x="4479" y="2537"/>
                  </a:lnTo>
                  <a:lnTo>
                    <a:pt x="4460" y="395"/>
                  </a:lnTo>
                  <a:lnTo>
                    <a:pt x="4452" y="390"/>
                  </a:lnTo>
                  <a:lnTo>
                    <a:pt x="4425" y="376"/>
                  </a:lnTo>
                  <a:lnTo>
                    <a:pt x="4388" y="357"/>
                  </a:lnTo>
                  <a:lnTo>
                    <a:pt x="4334" y="330"/>
                  </a:lnTo>
                  <a:lnTo>
                    <a:pt x="4267" y="298"/>
                  </a:lnTo>
                  <a:lnTo>
                    <a:pt x="4192" y="263"/>
                  </a:lnTo>
                  <a:lnTo>
                    <a:pt x="4106" y="228"/>
                  </a:lnTo>
                  <a:lnTo>
                    <a:pt x="4014" y="191"/>
                  </a:lnTo>
                  <a:lnTo>
                    <a:pt x="3915" y="153"/>
                  </a:lnTo>
                  <a:lnTo>
                    <a:pt x="3810" y="118"/>
                  </a:lnTo>
                  <a:lnTo>
                    <a:pt x="3706" y="83"/>
                  </a:lnTo>
                  <a:lnTo>
                    <a:pt x="3598" y="56"/>
                  </a:lnTo>
                  <a:lnTo>
                    <a:pt x="3488" y="32"/>
                  </a:lnTo>
                  <a:lnTo>
                    <a:pt x="3381" y="16"/>
                  </a:lnTo>
                  <a:lnTo>
                    <a:pt x="3276" y="8"/>
                  </a:lnTo>
                  <a:lnTo>
                    <a:pt x="3177" y="11"/>
                  </a:lnTo>
                  <a:lnTo>
                    <a:pt x="3107" y="16"/>
                  </a:lnTo>
                  <a:lnTo>
                    <a:pt x="3034" y="29"/>
                  </a:lnTo>
                  <a:lnTo>
                    <a:pt x="2962" y="46"/>
                  </a:lnTo>
                  <a:lnTo>
                    <a:pt x="2887" y="64"/>
                  </a:lnTo>
                  <a:lnTo>
                    <a:pt x="2814" y="86"/>
                  </a:lnTo>
                  <a:lnTo>
                    <a:pt x="2739" y="107"/>
                  </a:lnTo>
                  <a:lnTo>
                    <a:pt x="2669" y="134"/>
                  </a:lnTo>
                  <a:lnTo>
                    <a:pt x="2602" y="158"/>
                  </a:lnTo>
                  <a:lnTo>
                    <a:pt x="2537" y="183"/>
                  </a:lnTo>
                  <a:lnTo>
                    <a:pt x="2478" y="207"/>
                  </a:lnTo>
                  <a:lnTo>
                    <a:pt x="2427" y="228"/>
                  </a:lnTo>
                  <a:lnTo>
                    <a:pt x="2382" y="250"/>
                  </a:lnTo>
                  <a:lnTo>
                    <a:pt x="2347" y="266"/>
                  </a:lnTo>
                  <a:lnTo>
                    <a:pt x="2320" y="279"/>
                  </a:lnTo>
                  <a:lnTo>
                    <a:pt x="2301" y="287"/>
                  </a:lnTo>
                  <a:lnTo>
                    <a:pt x="2296" y="290"/>
                  </a:lnTo>
                  <a:lnTo>
                    <a:pt x="2288" y="287"/>
                  </a:lnTo>
                  <a:lnTo>
                    <a:pt x="2266" y="277"/>
                  </a:lnTo>
                  <a:lnTo>
                    <a:pt x="2231" y="261"/>
                  </a:lnTo>
                  <a:lnTo>
                    <a:pt x="2183" y="239"/>
                  </a:lnTo>
                  <a:lnTo>
                    <a:pt x="2124" y="215"/>
                  </a:lnTo>
                  <a:lnTo>
                    <a:pt x="2057" y="188"/>
                  </a:lnTo>
                  <a:lnTo>
                    <a:pt x="1982" y="158"/>
                  </a:lnTo>
                  <a:lnTo>
                    <a:pt x="1898" y="129"/>
                  </a:lnTo>
                  <a:lnTo>
                    <a:pt x="1812" y="102"/>
                  </a:lnTo>
                  <a:lnTo>
                    <a:pt x="1721" y="75"/>
                  </a:lnTo>
                  <a:lnTo>
                    <a:pt x="1624" y="51"/>
                  </a:lnTo>
                  <a:lnTo>
                    <a:pt x="1530" y="29"/>
                  </a:lnTo>
                  <a:lnTo>
                    <a:pt x="1434" y="13"/>
                  </a:lnTo>
                  <a:lnTo>
                    <a:pt x="1340" y="3"/>
                  </a:lnTo>
                  <a:lnTo>
                    <a:pt x="1248" y="0"/>
                  </a:lnTo>
                  <a:lnTo>
                    <a:pt x="1160" y="5"/>
                  </a:lnTo>
                  <a:lnTo>
                    <a:pt x="1079" y="16"/>
                  </a:lnTo>
                  <a:lnTo>
                    <a:pt x="996" y="38"/>
                  </a:lnTo>
                  <a:lnTo>
                    <a:pt x="913" y="62"/>
                  </a:lnTo>
                  <a:lnTo>
                    <a:pt x="829" y="91"/>
                  </a:lnTo>
                  <a:lnTo>
                    <a:pt x="746" y="126"/>
                  </a:lnTo>
                  <a:lnTo>
                    <a:pt x="663" y="164"/>
                  </a:lnTo>
                  <a:lnTo>
                    <a:pt x="585" y="201"/>
                  </a:lnTo>
                  <a:lnTo>
                    <a:pt x="510" y="242"/>
                  </a:lnTo>
                  <a:lnTo>
                    <a:pt x="437" y="279"/>
                  </a:lnTo>
                  <a:lnTo>
                    <a:pt x="373" y="317"/>
                  </a:lnTo>
                  <a:lnTo>
                    <a:pt x="317" y="352"/>
                  </a:lnTo>
                  <a:lnTo>
                    <a:pt x="268" y="384"/>
                  </a:lnTo>
                  <a:lnTo>
                    <a:pt x="228" y="408"/>
                  </a:lnTo>
                  <a:lnTo>
                    <a:pt x="196" y="430"/>
                  </a:lnTo>
                  <a:lnTo>
                    <a:pt x="177" y="441"/>
                  </a:lnTo>
                  <a:lnTo>
                    <a:pt x="172"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92280" y="1460520"/>
              <a:ext cx="346680" cy="547560"/>
            </a:xfrm>
            <a:custGeom>
              <a:avLst/>
              <a:gdLst/>
              <a:ahLst/>
              <a:rect l="l" t="t" r="r" b="b"/>
              <a:pathLst>
                <a:path w="201" h="250">
                  <a:moveTo>
                    <a:pt x="32" y="239"/>
                  </a:moveTo>
                  <a:lnTo>
                    <a:pt x="29" y="250"/>
                  </a:lnTo>
                  <a:lnTo>
                    <a:pt x="201" y="16"/>
                  </a:lnTo>
                  <a:lnTo>
                    <a:pt x="174" y="0"/>
                  </a:lnTo>
                  <a:lnTo>
                    <a:pt x="2" y="234"/>
                  </a:lnTo>
                  <a:lnTo>
                    <a:pt x="0" y="245"/>
                  </a:lnTo>
                  <a:lnTo>
                    <a:pt x="2" y="234"/>
                  </a:lnTo>
                  <a:lnTo>
                    <a:pt x="0" y="239"/>
                  </a:lnTo>
                  <a:lnTo>
                    <a:pt x="0" y="245"/>
                  </a:lnTo>
                  <a:lnTo>
                    <a:pt x="32"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92280" y="1983960"/>
              <a:ext cx="740160" cy="4590720"/>
            </a:xfrm>
            <a:custGeom>
              <a:avLst/>
              <a:gdLst/>
              <a:ahLst/>
              <a:rect l="l" t="t" r="r" b="b"/>
              <a:pathLst>
                <a:path w="429" h="2096">
                  <a:moveTo>
                    <a:pt x="410" y="2062"/>
                  </a:moveTo>
                  <a:lnTo>
                    <a:pt x="429" y="2075"/>
                  </a:lnTo>
                  <a:lnTo>
                    <a:pt x="32" y="0"/>
                  </a:lnTo>
                  <a:lnTo>
                    <a:pt x="0" y="6"/>
                  </a:lnTo>
                  <a:lnTo>
                    <a:pt x="397" y="2080"/>
                  </a:lnTo>
                  <a:lnTo>
                    <a:pt x="416" y="2094"/>
                  </a:lnTo>
                  <a:lnTo>
                    <a:pt x="397" y="2080"/>
                  </a:lnTo>
                  <a:lnTo>
                    <a:pt x="400" y="2096"/>
                  </a:lnTo>
                  <a:lnTo>
                    <a:pt x="416" y="2094"/>
                  </a:lnTo>
                  <a:lnTo>
                    <a:pt x="41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00400" y="5587200"/>
              <a:ext cx="3130200" cy="983160"/>
            </a:xfrm>
            <a:custGeom>
              <a:avLst/>
              <a:gdLst/>
              <a:ahLst/>
              <a:rect l="l" t="t" r="r" b="b"/>
              <a:pathLst>
                <a:path w="1813" h="449">
                  <a:moveTo>
                    <a:pt x="1810" y="0"/>
                  </a:moveTo>
                  <a:lnTo>
                    <a:pt x="1808" y="0"/>
                  </a:lnTo>
                  <a:lnTo>
                    <a:pt x="0" y="417"/>
                  </a:lnTo>
                  <a:lnTo>
                    <a:pt x="6" y="449"/>
                  </a:lnTo>
                  <a:lnTo>
                    <a:pt x="1813" y="32"/>
                  </a:lnTo>
                  <a:lnTo>
                    <a:pt x="1810" y="32"/>
                  </a:lnTo>
                  <a:lnTo>
                    <a:pt x="1810" y="0"/>
                  </a:lnTo>
                  <a:lnTo>
                    <a:pt x="1810" y="0"/>
                  </a:lnTo>
                  <a:lnTo>
                    <a:pt x="1808" y="0"/>
                  </a:lnTo>
                  <a:lnTo>
                    <a:pt x="18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25560" y="5587200"/>
              <a:ext cx="987840" cy="69840"/>
            </a:xfrm>
            <a:custGeom>
              <a:avLst/>
              <a:gdLst/>
              <a:ahLst/>
              <a:rect l="l" t="t" r="r" b="b"/>
              <a:pathLst>
                <a:path w="572" h="32">
                  <a:moveTo>
                    <a:pt x="572" y="0"/>
                  </a:moveTo>
                  <a:lnTo>
                    <a:pt x="572" y="0"/>
                  </a:lnTo>
                  <a:lnTo>
                    <a:pt x="0" y="0"/>
                  </a:lnTo>
                  <a:lnTo>
                    <a:pt x="0" y="32"/>
                  </a:lnTo>
                  <a:lnTo>
                    <a:pt x="572" y="32"/>
                  </a:lnTo>
                  <a:lnTo>
                    <a:pt x="572" y="32"/>
                  </a:lnTo>
                  <a:lnTo>
                    <a:pt x="5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 name=""/>
            <p:cNvSpPr/>
            <p:nvPr/>
          </p:nvSpPr>
          <p:spPr>
            <a:xfrm>
              <a:off x="5513760" y="5587200"/>
              <a:ext cx="1716120" cy="352440"/>
            </a:xfrm>
            <a:custGeom>
              <a:avLst/>
              <a:gdLst/>
              <a:ahLst/>
              <a:rect l="l" t="t" r="r" b="b"/>
              <a:pathLst>
                <a:path w="994" h="161">
                  <a:moveTo>
                    <a:pt x="994" y="129"/>
                  </a:moveTo>
                  <a:lnTo>
                    <a:pt x="994" y="129"/>
                  </a:lnTo>
                  <a:lnTo>
                    <a:pt x="0" y="0"/>
                  </a:lnTo>
                  <a:lnTo>
                    <a:pt x="0" y="32"/>
                  </a:lnTo>
                  <a:lnTo>
                    <a:pt x="994" y="161"/>
                  </a:lnTo>
                  <a:lnTo>
                    <a:pt x="994" y="161"/>
                  </a:lnTo>
                  <a:lnTo>
                    <a:pt x="99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230240" y="5869800"/>
              <a:ext cx="1251720" cy="229680"/>
            </a:xfrm>
            <a:custGeom>
              <a:avLst/>
              <a:gdLst/>
              <a:ahLst/>
              <a:rect l="l" t="t" r="r" b="b"/>
              <a:pathLst>
                <a:path w="725" h="105">
                  <a:moveTo>
                    <a:pt x="693" y="86"/>
                  </a:moveTo>
                  <a:lnTo>
                    <a:pt x="709" y="70"/>
                  </a:lnTo>
                  <a:lnTo>
                    <a:pt x="0" y="0"/>
                  </a:lnTo>
                  <a:lnTo>
                    <a:pt x="0" y="32"/>
                  </a:lnTo>
                  <a:lnTo>
                    <a:pt x="709" y="102"/>
                  </a:lnTo>
                  <a:lnTo>
                    <a:pt x="725" y="86"/>
                  </a:lnTo>
                  <a:lnTo>
                    <a:pt x="709" y="102"/>
                  </a:lnTo>
                  <a:lnTo>
                    <a:pt x="725" y="105"/>
                  </a:lnTo>
                  <a:lnTo>
                    <a:pt x="725" y="86"/>
                  </a:lnTo>
                  <a:lnTo>
                    <a:pt x="69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393760" y="1337760"/>
              <a:ext cx="87840" cy="4719960"/>
            </a:xfrm>
            <a:custGeom>
              <a:avLst/>
              <a:gdLst/>
              <a:ahLst/>
              <a:rect l="l" t="t" r="r" b="b"/>
              <a:pathLst>
                <a:path w="51" h="2155">
                  <a:moveTo>
                    <a:pt x="8" y="26"/>
                  </a:moveTo>
                  <a:lnTo>
                    <a:pt x="0" y="13"/>
                  </a:lnTo>
                  <a:lnTo>
                    <a:pt x="19" y="2155"/>
                  </a:lnTo>
                  <a:lnTo>
                    <a:pt x="51" y="2155"/>
                  </a:lnTo>
                  <a:lnTo>
                    <a:pt x="32" y="13"/>
                  </a:lnTo>
                  <a:lnTo>
                    <a:pt x="24" y="0"/>
                  </a:lnTo>
                  <a:lnTo>
                    <a:pt x="32" y="13"/>
                  </a:lnTo>
                  <a:lnTo>
                    <a:pt x="32" y="5"/>
                  </a:lnTo>
                  <a:lnTo>
                    <a:pt x="24" y="0"/>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06040" y="483480"/>
              <a:ext cx="2229120" cy="911160"/>
            </a:xfrm>
            <a:custGeom>
              <a:avLst/>
              <a:gdLst/>
              <a:ahLst/>
              <a:rect l="l" t="t" r="r" b="b"/>
              <a:pathLst>
                <a:path w="1291" h="416">
                  <a:moveTo>
                    <a:pt x="0" y="35"/>
                  </a:moveTo>
                  <a:lnTo>
                    <a:pt x="0" y="35"/>
                  </a:lnTo>
                  <a:lnTo>
                    <a:pt x="99" y="32"/>
                  </a:lnTo>
                  <a:lnTo>
                    <a:pt x="204" y="40"/>
                  </a:lnTo>
                  <a:lnTo>
                    <a:pt x="308" y="56"/>
                  </a:lnTo>
                  <a:lnTo>
                    <a:pt x="419" y="80"/>
                  </a:lnTo>
                  <a:lnTo>
                    <a:pt x="526" y="107"/>
                  </a:lnTo>
                  <a:lnTo>
                    <a:pt x="628" y="142"/>
                  </a:lnTo>
                  <a:lnTo>
                    <a:pt x="733" y="177"/>
                  </a:lnTo>
                  <a:lnTo>
                    <a:pt x="832" y="215"/>
                  </a:lnTo>
                  <a:lnTo>
                    <a:pt x="923" y="250"/>
                  </a:lnTo>
                  <a:lnTo>
                    <a:pt x="1009" y="285"/>
                  </a:lnTo>
                  <a:lnTo>
                    <a:pt x="1085" y="320"/>
                  </a:lnTo>
                  <a:lnTo>
                    <a:pt x="1152" y="352"/>
                  </a:lnTo>
                  <a:lnTo>
                    <a:pt x="1205" y="379"/>
                  </a:lnTo>
                  <a:lnTo>
                    <a:pt x="1243" y="398"/>
                  </a:lnTo>
                  <a:lnTo>
                    <a:pt x="1267" y="411"/>
                  </a:lnTo>
                  <a:lnTo>
                    <a:pt x="1275" y="416"/>
                  </a:lnTo>
                  <a:lnTo>
                    <a:pt x="1291" y="390"/>
                  </a:lnTo>
                  <a:lnTo>
                    <a:pt x="1283" y="384"/>
                  </a:lnTo>
                  <a:lnTo>
                    <a:pt x="1254" y="371"/>
                  </a:lnTo>
                  <a:lnTo>
                    <a:pt x="1216" y="352"/>
                  </a:lnTo>
                  <a:lnTo>
                    <a:pt x="1162" y="325"/>
                  </a:lnTo>
                  <a:lnTo>
                    <a:pt x="1095" y="293"/>
                  </a:lnTo>
                  <a:lnTo>
                    <a:pt x="1020" y="258"/>
                  </a:lnTo>
                  <a:lnTo>
                    <a:pt x="934" y="223"/>
                  </a:lnTo>
                  <a:lnTo>
                    <a:pt x="843" y="183"/>
                  </a:lnTo>
                  <a:lnTo>
                    <a:pt x="743" y="145"/>
                  </a:lnTo>
                  <a:lnTo>
                    <a:pt x="639" y="110"/>
                  </a:lnTo>
                  <a:lnTo>
                    <a:pt x="531" y="75"/>
                  </a:lnTo>
                  <a:lnTo>
                    <a:pt x="424" y="48"/>
                  </a:lnTo>
                  <a:lnTo>
                    <a:pt x="314" y="24"/>
                  </a:lnTo>
                  <a:lnTo>
                    <a:pt x="204" y="8"/>
                  </a:lnTo>
                  <a:lnTo>
                    <a:pt x="99" y="0"/>
                  </a:lnTo>
                  <a:lnTo>
                    <a:pt x="0" y="3"/>
                  </a:lnTo>
                  <a:lnTo>
                    <a:pt x="0" y="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674240" y="490680"/>
              <a:ext cx="1531800" cy="687240"/>
            </a:xfrm>
            <a:custGeom>
              <a:avLst/>
              <a:gdLst/>
              <a:ahLst/>
              <a:rect l="l" t="t" r="r" b="b"/>
              <a:pathLst>
                <a:path w="887" h="314">
                  <a:moveTo>
                    <a:pt x="0" y="309"/>
                  </a:moveTo>
                  <a:lnTo>
                    <a:pt x="11" y="309"/>
                  </a:lnTo>
                  <a:lnTo>
                    <a:pt x="16" y="306"/>
                  </a:lnTo>
                  <a:lnTo>
                    <a:pt x="35" y="298"/>
                  </a:lnTo>
                  <a:lnTo>
                    <a:pt x="62" y="284"/>
                  </a:lnTo>
                  <a:lnTo>
                    <a:pt x="97" y="268"/>
                  </a:lnTo>
                  <a:lnTo>
                    <a:pt x="143" y="247"/>
                  </a:lnTo>
                  <a:lnTo>
                    <a:pt x="194" y="225"/>
                  </a:lnTo>
                  <a:lnTo>
                    <a:pt x="253" y="204"/>
                  </a:lnTo>
                  <a:lnTo>
                    <a:pt x="317" y="180"/>
                  </a:lnTo>
                  <a:lnTo>
                    <a:pt x="384" y="155"/>
                  </a:lnTo>
                  <a:lnTo>
                    <a:pt x="454" y="129"/>
                  </a:lnTo>
                  <a:lnTo>
                    <a:pt x="527" y="107"/>
                  </a:lnTo>
                  <a:lnTo>
                    <a:pt x="599" y="86"/>
                  </a:lnTo>
                  <a:lnTo>
                    <a:pt x="674" y="67"/>
                  </a:lnTo>
                  <a:lnTo>
                    <a:pt x="747" y="51"/>
                  </a:lnTo>
                  <a:lnTo>
                    <a:pt x="817" y="37"/>
                  </a:lnTo>
                  <a:lnTo>
                    <a:pt x="887" y="32"/>
                  </a:lnTo>
                  <a:lnTo>
                    <a:pt x="887" y="0"/>
                  </a:lnTo>
                  <a:lnTo>
                    <a:pt x="817" y="5"/>
                  </a:lnTo>
                  <a:lnTo>
                    <a:pt x="742" y="18"/>
                  </a:lnTo>
                  <a:lnTo>
                    <a:pt x="669" y="34"/>
                  </a:lnTo>
                  <a:lnTo>
                    <a:pt x="594" y="53"/>
                  </a:lnTo>
                  <a:lnTo>
                    <a:pt x="521" y="75"/>
                  </a:lnTo>
                  <a:lnTo>
                    <a:pt x="443" y="96"/>
                  </a:lnTo>
                  <a:lnTo>
                    <a:pt x="374" y="123"/>
                  </a:lnTo>
                  <a:lnTo>
                    <a:pt x="307" y="147"/>
                  </a:lnTo>
                  <a:lnTo>
                    <a:pt x="242" y="172"/>
                  </a:lnTo>
                  <a:lnTo>
                    <a:pt x="183" y="198"/>
                  </a:lnTo>
                  <a:lnTo>
                    <a:pt x="132" y="220"/>
                  </a:lnTo>
                  <a:lnTo>
                    <a:pt x="86" y="241"/>
                  </a:lnTo>
                  <a:lnTo>
                    <a:pt x="51" y="258"/>
                  </a:lnTo>
                  <a:lnTo>
                    <a:pt x="25" y="271"/>
                  </a:lnTo>
                  <a:lnTo>
                    <a:pt x="6" y="279"/>
                  </a:lnTo>
                  <a:lnTo>
                    <a:pt x="0" y="282"/>
                  </a:lnTo>
                  <a:lnTo>
                    <a:pt x="11" y="282"/>
                  </a:lnTo>
                  <a:lnTo>
                    <a:pt x="0" y="309"/>
                  </a:lnTo>
                  <a:lnTo>
                    <a:pt x="6" y="314"/>
                  </a:lnTo>
                  <a:lnTo>
                    <a:pt x="11" y="309"/>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722680" y="466200"/>
              <a:ext cx="1970280" cy="700560"/>
            </a:xfrm>
            <a:custGeom>
              <a:avLst/>
              <a:gdLst/>
              <a:ahLst/>
              <a:rect l="l" t="t" r="r" b="b"/>
              <a:pathLst>
                <a:path w="1141" h="320">
                  <a:moveTo>
                    <a:pt x="0" y="37"/>
                  </a:moveTo>
                  <a:lnTo>
                    <a:pt x="0" y="37"/>
                  </a:lnTo>
                  <a:lnTo>
                    <a:pt x="88" y="32"/>
                  </a:lnTo>
                  <a:lnTo>
                    <a:pt x="180" y="35"/>
                  </a:lnTo>
                  <a:lnTo>
                    <a:pt x="274" y="45"/>
                  </a:lnTo>
                  <a:lnTo>
                    <a:pt x="368" y="62"/>
                  </a:lnTo>
                  <a:lnTo>
                    <a:pt x="462" y="83"/>
                  </a:lnTo>
                  <a:lnTo>
                    <a:pt x="558" y="107"/>
                  </a:lnTo>
                  <a:lnTo>
                    <a:pt x="650" y="134"/>
                  </a:lnTo>
                  <a:lnTo>
                    <a:pt x="733" y="161"/>
                  </a:lnTo>
                  <a:lnTo>
                    <a:pt x="816" y="191"/>
                  </a:lnTo>
                  <a:lnTo>
                    <a:pt x="891" y="220"/>
                  </a:lnTo>
                  <a:lnTo>
                    <a:pt x="958" y="247"/>
                  </a:lnTo>
                  <a:lnTo>
                    <a:pt x="1018" y="269"/>
                  </a:lnTo>
                  <a:lnTo>
                    <a:pt x="1066" y="290"/>
                  </a:lnTo>
                  <a:lnTo>
                    <a:pt x="1101" y="306"/>
                  </a:lnTo>
                  <a:lnTo>
                    <a:pt x="1122" y="317"/>
                  </a:lnTo>
                  <a:lnTo>
                    <a:pt x="1130" y="320"/>
                  </a:lnTo>
                  <a:lnTo>
                    <a:pt x="1141" y="293"/>
                  </a:lnTo>
                  <a:lnTo>
                    <a:pt x="1133" y="290"/>
                  </a:lnTo>
                  <a:lnTo>
                    <a:pt x="1112" y="279"/>
                  </a:lnTo>
                  <a:lnTo>
                    <a:pt x="1077" y="263"/>
                  </a:lnTo>
                  <a:lnTo>
                    <a:pt x="1028" y="242"/>
                  </a:lnTo>
                  <a:lnTo>
                    <a:pt x="969" y="215"/>
                  </a:lnTo>
                  <a:lnTo>
                    <a:pt x="902" y="188"/>
                  </a:lnTo>
                  <a:lnTo>
                    <a:pt x="827" y="158"/>
                  </a:lnTo>
                  <a:lnTo>
                    <a:pt x="744" y="129"/>
                  </a:lnTo>
                  <a:lnTo>
                    <a:pt x="655" y="102"/>
                  </a:lnTo>
                  <a:lnTo>
                    <a:pt x="564" y="75"/>
                  </a:lnTo>
                  <a:lnTo>
                    <a:pt x="467" y="51"/>
                  </a:lnTo>
                  <a:lnTo>
                    <a:pt x="373" y="29"/>
                  </a:lnTo>
                  <a:lnTo>
                    <a:pt x="274" y="13"/>
                  </a:lnTo>
                  <a:lnTo>
                    <a:pt x="180" y="2"/>
                  </a:lnTo>
                  <a:lnTo>
                    <a:pt x="88" y="0"/>
                  </a:lnTo>
                  <a:lnTo>
                    <a:pt x="0" y="5"/>
                  </a:lnTo>
                  <a:lnTo>
                    <a:pt x="0" y="5"/>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992520" y="477000"/>
              <a:ext cx="1729800" cy="1029600"/>
            </a:xfrm>
            <a:custGeom>
              <a:avLst/>
              <a:gdLst/>
              <a:ahLst/>
              <a:rect l="l" t="t" r="r" b="b"/>
              <a:pathLst>
                <a:path w="1002" h="470">
                  <a:moveTo>
                    <a:pt x="27" y="465"/>
                  </a:moveTo>
                  <a:lnTo>
                    <a:pt x="22" y="470"/>
                  </a:lnTo>
                  <a:lnTo>
                    <a:pt x="27" y="465"/>
                  </a:lnTo>
                  <a:lnTo>
                    <a:pt x="46" y="454"/>
                  </a:lnTo>
                  <a:lnTo>
                    <a:pt x="78" y="433"/>
                  </a:lnTo>
                  <a:lnTo>
                    <a:pt x="118" y="409"/>
                  </a:lnTo>
                  <a:lnTo>
                    <a:pt x="167" y="376"/>
                  </a:lnTo>
                  <a:lnTo>
                    <a:pt x="223" y="341"/>
                  </a:lnTo>
                  <a:lnTo>
                    <a:pt x="287" y="304"/>
                  </a:lnTo>
                  <a:lnTo>
                    <a:pt x="360" y="266"/>
                  </a:lnTo>
                  <a:lnTo>
                    <a:pt x="432" y="226"/>
                  </a:lnTo>
                  <a:lnTo>
                    <a:pt x="510" y="188"/>
                  </a:lnTo>
                  <a:lnTo>
                    <a:pt x="594" y="151"/>
                  </a:lnTo>
                  <a:lnTo>
                    <a:pt x="677" y="118"/>
                  </a:lnTo>
                  <a:lnTo>
                    <a:pt x="757" y="89"/>
                  </a:lnTo>
                  <a:lnTo>
                    <a:pt x="841" y="65"/>
                  </a:lnTo>
                  <a:lnTo>
                    <a:pt x="924" y="43"/>
                  </a:lnTo>
                  <a:lnTo>
                    <a:pt x="1002" y="32"/>
                  </a:lnTo>
                  <a:lnTo>
                    <a:pt x="1002" y="0"/>
                  </a:lnTo>
                  <a:lnTo>
                    <a:pt x="919" y="11"/>
                  </a:lnTo>
                  <a:lnTo>
                    <a:pt x="835" y="32"/>
                  </a:lnTo>
                  <a:lnTo>
                    <a:pt x="752" y="57"/>
                  </a:lnTo>
                  <a:lnTo>
                    <a:pt x="666" y="86"/>
                  </a:lnTo>
                  <a:lnTo>
                    <a:pt x="583" y="124"/>
                  </a:lnTo>
                  <a:lnTo>
                    <a:pt x="500" y="161"/>
                  </a:lnTo>
                  <a:lnTo>
                    <a:pt x="422" y="199"/>
                  </a:lnTo>
                  <a:lnTo>
                    <a:pt x="344" y="239"/>
                  </a:lnTo>
                  <a:lnTo>
                    <a:pt x="271" y="277"/>
                  </a:lnTo>
                  <a:lnTo>
                    <a:pt x="207" y="315"/>
                  </a:lnTo>
                  <a:lnTo>
                    <a:pt x="150" y="350"/>
                  </a:lnTo>
                  <a:lnTo>
                    <a:pt x="102" y="382"/>
                  </a:lnTo>
                  <a:lnTo>
                    <a:pt x="62" y="406"/>
                  </a:lnTo>
                  <a:lnTo>
                    <a:pt x="30" y="427"/>
                  </a:lnTo>
                  <a:lnTo>
                    <a:pt x="11" y="438"/>
                  </a:lnTo>
                  <a:lnTo>
                    <a:pt x="5" y="444"/>
                  </a:lnTo>
                  <a:lnTo>
                    <a:pt x="0" y="449"/>
                  </a:lnTo>
                  <a:lnTo>
                    <a:pt x="5" y="444"/>
                  </a:lnTo>
                  <a:lnTo>
                    <a:pt x="3" y="446"/>
                  </a:lnTo>
                  <a:lnTo>
                    <a:pt x="0" y="449"/>
                  </a:lnTo>
                  <a:lnTo>
                    <a:pt x="2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9" y="2459"/>
                  </a:lnTo>
                  <a:lnTo>
                    <a:pt x="2484" y="2441"/>
                  </a:lnTo>
                  <a:lnTo>
                    <a:pt x="2522" y="2422"/>
                  </a:lnTo>
                  <a:lnTo>
                    <a:pt x="2562" y="2403"/>
                  </a:lnTo>
                  <a:lnTo>
                    <a:pt x="2605" y="2381"/>
                  </a:lnTo>
                  <a:lnTo>
                    <a:pt x="2650" y="2363"/>
                  </a:lnTo>
                  <a:lnTo>
                    <a:pt x="2696" y="2344"/>
                  </a:lnTo>
                  <a:lnTo>
                    <a:pt x="2742" y="2325"/>
                  </a:lnTo>
                  <a:lnTo>
                    <a:pt x="2790" y="2309"/>
                  </a:lnTo>
                  <a:lnTo>
                    <a:pt x="2833" y="2293"/>
                  </a:lnTo>
                  <a:lnTo>
                    <a:pt x="2879" y="2282"/>
                  </a:lnTo>
                  <a:lnTo>
                    <a:pt x="2919" y="2274"/>
                  </a:lnTo>
                  <a:lnTo>
                    <a:pt x="2978" y="2266"/>
                  </a:lnTo>
                  <a:lnTo>
                    <a:pt x="3032" y="2266"/>
                  </a:lnTo>
                  <a:lnTo>
                    <a:pt x="3083" y="2266"/>
                  </a:lnTo>
                  <a:lnTo>
                    <a:pt x="3129" y="2271"/>
                  </a:lnTo>
                  <a:lnTo>
                    <a:pt x="3174" y="2279"/>
                  </a:lnTo>
                  <a:lnTo>
                    <a:pt x="3220" y="2290"/>
                  </a:lnTo>
                  <a:lnTo>
                    <a:pt x="3263" y="2303"/>
                  </a:lnTo>
                  <a:lnTo>
                    <a:pt x="3306" y="2320"/>
                  </a:lnTo>
                  <a:lnTo>
                    <a:pt x="3346" y="2336"/>
                  </a:lnTo>
                  <a:lnTo>
                    <a:pt x="3389" y="2355"/>
                  </a:lnTo>
                  <a:lnTo>
                    <a:pt x="3432" y="2373"/>
                  </a:lnTo>
                  <a:lnTo>
                    <a:pt x="3478" y="2389"/>
                  </a:lnTo>
                  <a:lnTo>
                    <a:pt x="3526" y="2408"/>
                  </a:lnTo>
                  <a:lnTo>
                    <a:pt x="3574" y="2427"/>
                  </a:lnTo>
                  <a:lnTo>
                    <a:pt x="3628" y="2443"/>
                  </a:lnTo>
                  <a:lnTo>
                    <a:pt x="3684" y="2459"/>
                  </a:lnTo>
                  <a:lnTo>
                    <a:pt x="3722" y="2470"/>
                  </a:lnTo>
                  <a:lnTo>
                    <a:pt x="3760" y="2478"/>
                  </a:lnTo>
                  <a:lnTo>
                    <a:pt x="3792" y="2486"/>
                  </a:lnTo>
                  <a:lnTo>
                    <a:pt x="3824" y="2494"/>
                  </a:lnTo>
                  <a:lnTo>
                    <a:pt x="3854" y="2502"/>
                  </a:lnTo>
                  <a:lnTo>
                    <a:pt x="3883" y="2510"/>
                  </a:lnTo>
                  <a:lnTo>
                    <a:pt x="3910" y="2516"/>
                  </a:lnTo>
                  <a:lnTo>
                    <a:pt x="3937" y="2521"/>
                  </a:lnTo>
                  <a:lnTo>
                    <a:pt x="3964" y="2527"/>
                  </a:lnTo>
                  <a:lnTo>
                    <a:pt x="3988" y="2532"/>
                  </a:lnTo>
                  <a:lnTo>
                    <a:pt x="4015" y="2535"/>
                  </a:lnTo>
                  <a:lnTo>
                    <a:pt x="4044" y="2537"/>
                  </a:lnTo>
                  <a:lnTo>
                    <a:pt x="4071" y="2540"/>
                  </a:lnTo>
                  <a:lnTo>
                    <a:pt x="4101" y="2543"/>
                  </a:lnTo>
                  <a:lnTo>
                    <a:pt x="4133" y="2545"/>
                  </a:lnTo>
                  <a:lnTo>
                    <a:pt x="4168" y="2545"/>
                  </a:lnTo>
                  <a:lnTo>
                    <a:pt x="4213" y="2545"/>
                  </a:lnTo>
                  <a:lnTo>
                    <a:pt x="4264" y="2545"/>
                  </a:lnTo>
                  <a:lnTo>
                    <a:pt x="4316" y="2545"/>
                  </a:lnTo>
                  <a:lnTo>
                    <a:pt x="4367" y="2543"/>
                  </a:lnTo>
                  <a:lnTo>
                    <a:pt x="4412" y="2543"/>
                  </a:lnTo>
                  <a:lnTo>
                    <a:pt x="4450" y="2543"/>
                  </a:lnTo>
                  <a:lnTo>
                    <a:pt x="4477" y="2543"/>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6" y="2454"/>
                  </a:lnTo>
                  <a:lnTo>
                    <a:pt x="2481" y="2438"/>
                  </a:lnTo>
                  <a:lnTo>
                    <a:pt x="2519" y="2416"/>
                  </a:lnTo>
                  <a:lnTo>
                    <a:pt x="2559" y="2395"/>
                  </a:lnTo>
                  <a:lnTo>
                    <a:pt x="2599" y="2376"/>
                  </a:lnTo>
                  <a:lnTo>
                    <a:pt x="2645" y="2355"/>
                  </a:lnTo>
                  <a:lnTo>
                    <a:pt x="2691" y="2333"/>
                  </a:lnTo>
                  <a:lnTo>
                    <a:pt x="2736" y="2317"/>
                  </a:lnTo>
                  <a:lnTo>
                    <a:pt x="2782" y="2298"/>
                  </a:lnTo>
                  <a:lnTo>
                    <a:pt x="2828" y="2285"/>
                  </a:lnTo>
                  <a:lnTo>
                    <a:pt x="2873" y="2274"/>
                  </a:lnTo>
                  <a:lnTo>
                    <a:pt x="2914" y="2269"/>
                  </a:lnTo>
                  <a:lnTo>
                    <a:pt x="2970" y="2266"/>
                  </a:lnTo>
                  <a:lnTo>
                    <a:pt x="3021" y="2266"/>
                  </a:lnTo>
                  <a:lnTo>
                    <a:pt x="3069" y="2269"/>
                  </a:lnTo>
                  <a:lnTo>
                    <a:pt x="3118" y="2277"/>
                  </a:lnTo>
                  <a:lnTo>
                    <a:pt x="3163" y="2285"/>
                  </a:lnTo>
                  <a:lnTo>
                    <a:pt x="3206" y="2295"/>
                  </a:lnTo>
                  <a:lnTo>
                    <a:pt x="3249" y="2309"/>
                  </a:lnTo>
                  <a:lnTo>
                    <a:pt x="3292" y="2325"/>
                  </a:lnTo>
                  <a:lnTo>
                    <a:pt x="3335" y="2341"/>
                  </a:lnTo>
                  <a:lnTo>
                    <a:pt x="3378" y="2357"/>
                  </a:lnTo>
                  <a:lnTo>
                    <a:pt x="3424" y="2376"/>
                  </a:lnTo>
                  <a:lnTo>
                    <a:pt x="3470" y="2395"/>
                  </a:lnTo>
                  <a:lnTo>
                    <a:pt x="3518" y="2411"/>
                  </a:lnTo>
                  <a:lnTo>
                    <a:pt x="3569" y="2427"/>
                  </a:lnTo>
                  <a:lnTo>
                    <a:pt x="3623" y="2443"/>
                  </a:lnTo>
                  <a:lnTo>
                    <a:pt x="3679" y="2459"/>
                  </a:lnTo>
                  <a:lnTo>
                    <a:pt x="3719" y="2470"/>
                  </a:lnTo>
                  <a:lnTo>
                    <a:pt x="3760" y="2481"/>
                  </a:lnTo>
                  <a:lnTo>
                    <a:pt x="3800" y="2492"/>
                  </a:lnTo>
                  <a:lnTo>
                    <a:pt x="3840" y="2502"/>
                  </a:lnTo>
                  <a:lnTo>
                    <a:pt x="3880" y="2516"/>
                  </a:lnTo>
                  <a:lnTo>
                    <a:pt x="3921" y="2527"/>
                  </a:lnTo>
                  <a:lnTo>
                    <a:pt x="3961" y="2537"/>
                  </a:lnTo>
                  <a:lnTo>
                    <a:pt x="4001" y="2548"/>
                  </a:lnTo>
                  <a:lnTo>
                    <a:pt x="4044" y="2559"/>
                  </a:lnTo>
                  <a:lnTo>
                    <a:pt x="4085" y="2570"/>
                  </a:lnTo>
                  <a:lnTo>
                    <a:pt x="4125" y="2578"/>
                  </a:lnTo>
                  <a:lnTo>
                    <a:pt x="4165" y="2583"/>
                  </a:lnTo>
                  <a:lnTo>
                    <a:pt x="4208" y="2588"/>
                  </a:lnTo>
                  <a:lnTo>
                    <a:pt x="4248" y="2591"/>
                  </a:lnTo>
                  <a:lnTo>
                    <a:pt x="4289" y="2591"/>
                  </a:lnTo>
                  <a:lnTo>
                    <a:pt x="4332" y="2591"/>
                  </a:lnTo>
                  <a:lnTo>
                    <a:pt x="4369" y="2586"/>
                  </a:lnTo>
                  <a:lnTo>
                    <a:pt x="4401" y="2580"/>
                  </a:lnTo>
                  <a:lnTo>
                    <a:pt x="4428" y="2572"/>
                  </a:lnTo>
                  <a:lnTo>
                    <a:pt x="4450" y="2564"/>
                  </a:lnTo>
                  <a:lnTo>
                    <a:pt x="4466" y="2556"/>
                  </a:lnTo>
                  <a:lnTo>
                    <a:pt x="4477" y="2548"/>
                  </a:lnTo>
                  <a:lnTo>
                    <a:pt x="4482" y="2545"/>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370480" y="5192640"/>
              <a:ext cx="2778120" cy="711720"/>
            </a:xfrm>
            <a:custGeom>
              <a:avLst/>
              <a:gdLst/>
              <a:ahLst/>
              <a:rect l="l" t="t" r="r" b="b"/>
              <a:pathLst>
                <a:path w="1609" h="325">
                  <a:moveTo>
                    <a:pt x="0" y="118"/>
                  </a:moveTo>
                  <a:lnTo>
                    <a:pt x="27" y="110"/>
                  </a:lnTo>
                  <a:lnTo>
                    <a:pt x="54" y="102"/>
                  </a:lnTo>
                  <a:lnTo>
                    <a:pt x="81" y="94"/>
                  </a:lnTo>
                  <a:lnTo>
                    <a:pt x="108" y="86"/>
                  </a:lnTo>
                  <a:lnTo>
                    <a:pt x="134" y="75"/>
                  </a:lnTo>
                  <a:lnTo>
                    <a:pt x="159" y="67"/>
                  </a:lnTo>
                  <a:lnTo>
                    <a:pt x="185" y="56"/>
                  </a:lnTo>
                  <a:lnTo>
                    <a:pt x="212" y="48"/>
                  </a:lnTo>
                  <a:lnTo>
                    <a:pt x="239" y="40"/>
                  </a:lnTo>
                  <a:lnTo>
                    <a:pt x="266" y="32"/>
                  </a:lnTo>
                  <a:lnTo>
                    <a:pt x="293" y="24"/>
                  </a:lnTo>
                  <a:lnTo>
                    <a:pt x="322" y="16"/>
                  </a:lnTo>
                  <a:lnTo>
                    <a:pt x="349" y="11"/>
                  </a:lnTo>
                  <a:lnTo>
                    <a:pt x="382" y="5"/>
                  </a:lnTo>
                  <a:lnTo>
                    <a:pt x="411" y="3"/>
                  </a:lnTo>
                  <a:lnTo>
                    <a:pt x="443" y="0"/>
                  </a:lnTo>
                  <a:lnTo>
                    <a:pt x="478" y="0"/>
                  </a:lnTo>
                  <a:lnTo>
                    <a:pt x="516" y="3"/>
                  </a:lnTo>
                  <a:lnTo>
                    <a:pt x="551" y="5"/>
                  </a:lnTo>
                  <a:lnTo>
                    <a:pt x="588" y="13"/>
                  </a:lnTo>
                  <a:lnTo>
                    <a:pt x="623" y="21"/>
                  </a:lnTo>
                  <a:lnTo>
                    <a:pt x="661" y="29"/>
                  </a:lnTo>
                  <a:lnTo>
                    <a:pt x="696" y="40"/>
                  </a:lnTo>
                  <a:lnTo>
                    <a:pt x="733" y="54"/>
                  </a:lnTo>
                  <a:lnTo>
                    <a:pt x="768" y="64"/>
                  </a:lnTo>
                  <a:lnTo>
                    <a:pt x="803" y="78"/>
                  </a:lnTo>
                  <a:lnTo>
                    <a:pt x="838" y="91"/>
                  </a:lnTo>
                  <a:lnTo>
                    <a:pt x="870" y="105"/>
                  </a:lnTo>
                  <a:lnTo>
                    <a:pt x="903" y="115"/>
                  </a:lnTo>
                  <a:lnTo>
                    <a:pt x="935" y="129"/>
                  </a:lnTo>
                  <a:lnTo>
                    <a:pt x="964" y="140"/>
                  </a:lnTo>
                  <a:lnTo>
                    <a:pt x="994" y="148"/>
                  </a:lnTo>
                  <a:lnTo>
                    <a:pt x="1609" y="325"/>
                  </a:lnTo>
                  <a:lnTo>
                    <a:pt x="672" y="102"/>
                  </a:lnTo>
                  <a:lnTo>
                    <a:pt x="333" y="67"/>
                  </a:lnTo>
                  <a:lnTo>
                    <a:pt x="0" y="11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99640" y="1837440"/>
              <a:ext cx="588960" cy="4437360"/>
            </a:xfrm>
            <a:custGeom>
              <a:avLst/>
              <a:gdLst/>
              <a:ahLst/>
              <a:rect l="l" t="t" r="r" b="b"/>
              <a:pathLst>
                <a:path w="341" h="2026">
                  <a:moveTo>
                    <a:pt x="0" y="0"/>
                  </a:moveTo>
                  <a:lnTo>
                    <a:pt x="164" y="723"/>
                  </a:lnTo>
                  <a:lnTo>
                    <a:pt x="264" y="1239"/>
                  </a:lnTo>
                  <a:lnTo>
                    <a:pt x="341" y="2026"/>
                  </a:lnTo>
                  <a:lnTo>
                    <a:pt x="339" y="1537"/>
                  </a:lnTo>
                  <a:lnTo>
                    <a:pt x="250" y="946"/>
                  </a:lnTo>
                  <a:lnTo>
                    <a:pt x="143" y="4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60560" y="906120"/>
              <a:ext cx="445320" cy="2350080"/>
            </a:xfrm>
            <a:custGeom>
              <a:avLst/>
              <a:gdLst/>
              <a:ahLst/>
              <a:rect l="l" t="t" r="r" b="b"/>
              <a:pathLst>
                <a:path w="258" h="1073">
                  <a:moveTo>
                    <a:pt x="258" y="1073"/>
                  </a:moveTo>
                  <a:lnTo>
                    <a:pt x="258" y="1073"/>
                  </a:lnTo>
                  <a:lnTo>
                    <a:pt x="237" y="903"/>
                  </a:lnTo>
                  <a:lnTo>
                    <a:pt x="207" y="726"/>
                  </a:lnTo>
                  <a:lnTo>
                    <a:pt x="169" y="546"/>
                  </a:lnTo>
                  <a:lnTo>
                    <a:pt x="129" y="377"/>
                  </a:lnTo>
                  <a:lnTo>
                    <a:pt x="94" y="229"/>
                  </a:lnTo>
                  <a:lnTo>
                    <a:pt x="62" y="108"/>
                  </a:lnTo>
                  <a:lnTo>
                    <a:pt x="41" y="30"/>
                  </a:lnTo>
                  <a:lnTo>
                    <a:pt x="33" y="0"/>
                  </a:lnTo>
                  <a:lnTo>
                    <a:pt x="0" y="6"/>
                  </a:lnTo>
                  <a:lnTo>
                    <a:pt x="8" y="35"/>
                  </a:lnTo>
                  <a:lnTo>
                    <a:pt x="30" y="113"/>
                  </a:lnTo>
                  <a:lnTo>
                    <a:pt x="62" y="234"/>
                  </a:lnTo>
                  <a:lnTo>
                    <a:pt x="97" y="382"/>
                  </a:lnTo>
                  <a:lnTo>
                    <a:pt x="137" y="551"/>
                  </a:lnTo>
                  <a:lnTo>
                    <a:pt x="175" y="731"/>
                  </a:lnTo>
                  <a:lnTo>
                    <a:pt x="204" y="909"/>
                  </a:lnTo>
                  <a:lnTo>
                    <a:pt x="226" y="1073"/>
                  </a:lnTo>
                  <a:lnTo>
                    <a:pt x="226" y="1073"/>
                  </a:lnTo>
                  <a:lnTo>
                    <a:pt x="258" y="1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004360" y="3256560"/>
              <a:ext cx="126000" cy="2347560"/>
            </a:xfrm>
            <a:custGeom>
              <a:avLst/>
              <a:gdLst/>
              <a:ahLst/>
              <a:rect l="l" t="t" r="r" b="b"/>
              <a:pathLst>
                <a:path w="73" h="1072">
                  <a:moveTo>
                    <a:pt x="32" y="1072"/>
                  </a:moveTo>
                  <a:lnTo>
                    <a:pt x="40" y="962"/>
                  </a:lnTo>
                  <a:lnTo>
                    <a:pt x="59" y="693"/>
                  </a:lnTo>
                  <a:lnTo>
                    <a:pt x="73" y="344"/>
                  </a:lnTo>
                  <a:lnTo>
                    <a:pt x="59" y="0"/>
                  </a:lnTo>
                  <a:lnTo>
                    <a:pt x="27" y="0"/>
                  </a:lnTo>
                  <a:lnTo>
                    <a:pt x="35" y="344"/>
                  </a:lnTo>
                  <a:lnTo>
                    <a:pt x="27" y="693"/>
                  </a:lnTo>
                  <a:lnTo>
                    <a:pt x="8" y="962"/>
                  </a:lnTo>
                  <a:lnTo>
                    <a:pt x="0" y="1072"/>
                  </a:lnTo>
                  <a:lnTo>
                    <a:pt x="32" y="1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681640" y="118080"/>
              <a:ext cx="2377440" cy="5486400"/>
            </a:xfrm>
            <a:custGeom>
              <a:avLst/>
              <a:gdLst/>
              <a:ahLst/>
              <a:rect l="l" t="t" r="r" b="b"/>
              <a:pathLst>
                <a:path w="1377" h="2505">
                  <a:moveTo>
                    <a:pt x="1162" y="363"/>
                  </a:moveTo>
                  <a:lnTo>
                    <a:pt x="1160" y="358"/>
                  </a:lnTo>
                  <a:lnTo>
                    <a:pt x="1149" y="342"/>
                  </a:lnTo>
                  <a:lnTo>
                    <a:pt x="1133" y="315"/>
                  </a:lnTo>
                  <a:lnTo>
                    <a:pt x="1111" y="282"/>
                  </a:lnTo>
                  <a:lnTo>
                    <a:pt x="1079" y="247"/>
                  </a:lnTo>
                  <a:lnTo>
                    <a:pt x="1042" y="207"/>
                  </a:lnTo>
                  <a:lnTo>
                    <a:pt x="996" y="167"/>
                  </a:lnTo>
                  <a:lnTo>
                    <a:pt x="940" y="127"/>
                  </a:lnTo>
                  <a:lnTo>
                    <a:pt x="875" y="89"/>
                  </a:lnTo>
                  <a:lnTo>
                    <a:pt x="803" y="54"/>
                  </a:lnTo>
                  <a:lnTo>
                    <a:pt x="719" y="27"/>
                  </a:lnTo>
                  <a:lnTo>
                    <a:pt x="625" y="8"/>
                  </a:lnTo>
                  <a:lnTo>
                    <a:pt x="521" y="0"/>
                  </a:lnTo>
                  <a:lnTo>
                    <a:pt x="405" y="3"/>
                  </a:lnTo>
                  <a:lnTo>
                    <a:pt x="279" y="22"/>
                  </a:lnTo>
                  <a:lnTo>
                    <a:pt x="139" y="54"/>
                  </a:lnTo>
                  <a:lnTo>
                    <a:pt x="61" y="84"/>
                  </a:lnTo>
                  <a:lnTo>
                    <a:pt x="18" y="124"/>
                  </a:lnTo>
                  <a:lnTo>
                    <a:pt x="0" y="167"/>
                  </a:lnTo>
                  <a:lnTo>
                    <a:pt x="8" y="218"/>
                  </a:lnTo>
                  <a:lnTo>
                    <a:pt x="37" y="277"/>
                  </a:lnTo>
                  <a:lnTo>
                    <a:pt x="86" y="339"/>
                  </a:lnTo>
                  <a:lnTo>
                    <a:pt x="145" y="406"/>
                  </a:lnTo>
                  <a:lnTo>
                    <a:pt x="214" y="479"/>
                  </a:lnTo>
                  <a:lnTo>
                    <a:pt x="292" y="557"/>
                  </a:lnTo>
                  <a:lnTo>
                    <a:pt x="373" y="637"/>
                  </a:lnTo>
                  <a:lnTo>
                    <a:pt x="451" y="718"/>
                  </a:lnTo>
                  <a:lnTo>
                    <a:pt x="526" y="804"/>
                  </a:lnTo>
                  <a:lnTo>
                    <a:pt x="590" y="892"/>
                  </a:lnTo>
                  <a:lnTo>
                    <a:pt x="647" y="981"/>
                  </a:lnTo>
                  <a:lnTo>
                    <a:pt x="684" y="1070"/>
                  </a:lnTo>
                  <a:lnTo>
                    <a:pt x="706" y="1161"/>
                  </a:lnTo>
                  <a:lnTo>
                    <a:pt x="706" y="1250"/>
                  </a:lnTo>
                  <a:lnTo>
                    <a:pt x="690" y="1344"/>
                  </a:lnTo>
                  <a:lnTo>
                    <a:pt x="658" y="1441"/>
                  </a:lnTo>
                  <a:lnTo>
                    <a:pt x="617" y="1540"/>
                  </a:lnTo>
                  <a:lnTo>
                    <a:pt x="569" y="1640"/>
                  </a:lnTo>
                  <a:lnTo>
                    <a:pt x="518" y="1739"/>
                  </a:lnTo>
                  <a:lnTo>
                    <a:pt x="464" y="1833"/>
                  </a:lnTo>
                  <a:lnTo>
                    <a:pt x="410" y="1925"/>
                  </a:lnTo>
                  <a:lnTo>
                    <a:pt x="362" y="2011"/>
                  </a:lnTo>
                  <a:lnTo>
                    <a:pt x="325" y="2088"/>
                  </a:lnTo>
                  <a:lnTo>
                    <a:pt x="295" y="2156"/>
                  </a:lnTo>
                  <a:lnTo>
                    <a:pt x="279" y="2215"/>
                  </a:lnTo>
                  <a:lnTo>
                    <a:pt x="279" y="2260"/>
                  </a:lnTo>
                  <a:lnTo>
                    <a:pt x="300" y="2295"/>
                  </a:lnTo>
                  <a:lnTo>
                    <a:pt x="346" y="2312"/>
                  </a:lnTo>
                  <a:lnTo>
                    <a:pt x="416" y="2314"/>
                  </a:lnTo>
                  <a:lnTo>
                    <a:pt x="488" y="2312"/>
                  </a:lnTo>
                  <a:lnTo>
                    <a:pt x="566" y="2314"/>
                  </a:lnTo>
                  <a:lnTo>
                    <a:pt x="644" y="2320"/>
                  </a:lnTo>
                  <a:lnTo>
                    <a:pt x="722" y="2330"/>
                  </a:lnTo>
                  <a:lnTo>
                    <a:pt x="803" y="2346"/>
                  </a:lnTo>
                  <a:lnTo>
                    <a:pt x="880" y="2363"/>
                  </a:lnTo>
                  <a:lnTo>
                    <a:pt x="958" y="2379"/>
                  </a:lnTo>
                  <a:lnTo>
                    <a:pt x="1031" y="2398"/>
                  </a:lnTo>
                  <a:lnTo>
                    <a:pt x="1098" y="2419"/>
                  </a:lnTo>
                  <a:lnTo>
                    <a:pt x="1162" y="2438"/>
                  </a:lnTo>
                  <a:lnTo>
                    <a:pt x="1219" y="2454"/>
                  </a:lnTo>
                  <a:lnTo>
                    <a:pt x="1267" y="2470"/>
                  </a:lnTo>
                  <a:lnTo>
                    <a:pt x="1307" y="2486"/>
                  </a:lnTo>
                  <a:lnTo>
                    <a:pt x="1337" y="2494"/>
                  </a:lnTo>
                  <a:lnTo>
                    <a:pt x="1356" y="2502"/>
                  </a:lnTo>
                  <a:lnTo>
                    <a:pt x="1361" y="2505"/>
                  </a:lnTo>
                  <a:lnTo>
                    <a:pt x="1367" y="2363"/>
                  </a:lnTo>
                  <a:lnTo>
                    <a:pt x="1375" y="2029"/>
                  </a:lnTo>
                  <a:lnTo>
                    <a:pt x="1377" y="1642"/>
                  </a:lnTo>
                  <a:lnTo>
                    <a:pt x="1369" y="1344"/>
                  </a:lnTo>
                  <a:lnTo>
                    <a:pt x="1356" y="1231"/>
                  </a:lnTo>
                  <a:lnTo>
                    <a:pt x="1329" y="1089"/>
                  </a:lnTo>
                  <a:lnTo>
                    <a:pt x="1297" y="927"/>
                  </a:lnTo>
                  <a:lnTo>
                    <a:pt x="1259" y="763"/>
                  </a:lnTo>
                  <a:lnTo>
                    <a:pt x="1224" y="610"/>
                  </a:lnTo>
                  <a:lnTo>
                    <a:pt x="1192" y="481"/>
                  </a:lnTo>
                  <a:lnTo>
                    <a:pt x="1170" y="395"/>
                  </a:lnTo>
                  <a:lnTo>
                    <a:pt x="1162" y="36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5219640" y="914400"/>
            <a:ext cx="34671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El Proyecto fue  del  Arquitecto Víctor  Morales,en una extensión de 300 mts. y 8 plantas. El nuevo inmueble</a:t>
            </a:r>
            <a:r>
              <a:rPr b="0" i="1" lang="es-ES_tradnl" sz="2400" spc="-1" strike="noStrike">
                <a:solidFill>
                  <a:srgbClr val="000000"/>
                </a:solidFill>
                <a:latin typeface="Times New Roman"/>
              </a:rPr>
              <a:t> f</a:t>
            </a:r>
            <a:r>
              <a:rPr b="1" i="1" lang="es-ES_tradnl" sz="2400" spc="-1" strike="noStrike">
                <a:solidFill>
                  <a:srgbClr val="000000"/>
                </a:solidFill>
                <a:latin typeface="Times New Roman"/>
              </a:rPr>
              <a:t>ue inaugurado en el año 1958 manteniendo el nombre de “Nuestra Señora de las Mercedes”y siendo  dirigido por el Dr. Luis Ortega Verde. </a:t>
            </a:r>
            <a:endParaRPr b="0" lang="en-US" sz="2400" spc="-1" strike="noStrike">
              <a:solidFill>
                <a:srgbClr val="000000"/>
              </a:solidFill>
              <a:latin typeface="Times New Roman"/>
            </a:endParaRPr>
          </a:p>
        </p:txBody>
      </p:sp>
      <p:pic>
        <p:nvPicPr>
          <p:cNvPr id="257" name="" descr=""/>
          <p:cNvPicPr/>
          <p:nvPr/>
        </p:nvPicPr>
        <p:blipFill>
          <a:blip r:embed="rId1"/>
          <a:stretch/>
        </p:blipFill>
        <p:spPr>
          <a:xfrm>
            <a:off x="1835280" y="1844640"/>
            <a:ext cx="2449440" cy="2592360"/>
          </a:xfrm>
          <a:prstGeom prst="rect">
            <a:avLst/>
          </a:prstGeom>
          <a:ln w="0">
            <a:noFill/>
          </a:ln>
        </p:spPr>
      </p:pic>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9">
                                  <p:stCondLst>
                                    <p:cond delay="0"/>
                                  </p:stCondLst>
                                  <p:childTnLst>
                                    <p:set>
                                      <p:cBhvr>
                                        <p:cTn id="212" dur="1" fill="hold">
                                          <p:stCondLst>
                                            <p:cond delay="0"/>
                                          </p:stCondLst>
                                        </p:cTn>
                                        <p:tgtEl>
                                          <p:spTgt spid="215"/>
                                        </p:tgtEl>
                                        <p:attrNameLst>
                                          <p:attrName>style.visibility</p:attrName>
                                        </p:attrNameLst>
                                      </p:cBhvr>
                                      <p:to>
                                        <p:strVal val="visible"/>
                                      </p:to>
                                    </p:set>
                                    <p:animEffect filter="dissolve" transition="in">
                                      <p:cBhvr additive="repl">
                                        <p:cTn id="213" dur="500"/>
                                        <p:tgtEl>
                                          <p:spTgt spid="215"/>
                                        </p:tgtEl>
                                      </p:cBhvr>
                                    </p:animEffect>
                                  </p:childTnLst>
                                </p:cTn>
                              </p:par>
                            </p:childTnLst>
                          </p:cTn>
                        </p:par>
                        <p:par>
                          <p:cTn id="214" fill="hold">
                            <p:stCondLst>
                              <p:cond delay="500"/>
                            </p:stCondLst>
                            <p:childTnLst>
                              <p:par>
                                <p:cTn id="215" nodeType="afterEffect" fill="hold" presetClass="entr" presetID="2" presetSubtype="12">
                                  <p:stCondLst>
                                    <p:cond delay="0"/>
                                  </p:stCondLst>
                                  <p:childTnLst>
                                    <p:set>
                                      <p:cBhvr>
                                        <p:cTn id="216" dur="1" fill="hold">
                                          <p:stCondLst>
                                            <p:cond delay="0"/>
                                          </p:stCondLst>
                                        </p:cTn>
                                        <p:tgtEl>
                                          <p:spTgt spid="256"/>
                                        </p:tgtEl>
                                        <p:attrNameLst>
                                          <p:attrName>style.visibility</p:attrName>
                                        </p:attrNameLst>
                                      </p:cBhvr>
                                      <p:to>
                                        <p:strVal val="visible"/>
                                      </p:to>
                                    </p:set>
                                    <p:anim calcmode="lin" valueType="num">
                                      <p:cBhvr additive="base">
                                        <p:cTn id="217" dur="500" fill="hold"/>
                                        <p:tgtEl>
                                          <p:spTgt spid="256"/>
                                        </p:tgtEl>
                                        <p:attrNameLst>
                                          <p:attrName>ppt_x</p:attrName>
                                        </p:attrNameLst>
                                      </p:cBhvr>
                                      <p:tavLst>
                                        <p:tav tm="0">
                                          <p:val>
                                            <p:strVal val="0-#ppt_w/2"/>
                                          </p:val>
                                        </p:tav>
                                        <p:tav tm="100000">
                                          <p:val>
                                            <p:strVal val="#ppt_x"/>
                                          </p:val>
                                        </p:tav>
                                      </p:tavLst>
                                    </p:anim>
                                    <p:anim calcmode="lin" valueType="num">
                                      <p:cBhvr additive="base">
                                        <p:cTn id="218" dur="500" fill="hold"/>
                                        <p:tgtEl>
                                          <p:spTgt spid="256"/>
                                        </p:tgtEl>
                                        <p:attrNameLst>
                                          <p:attrName>ppt_y</p:attrName>
                                        </p:attrNameLst>
                                      </p:cBhvr>
                                      <p:tavLst>
                                        <p:tav tm="0">
                                          <p:val>
                                            <p:strVal val="1+#ppt_h/2"/>
                                          </p:val>
                                        </p:tav>
                                        <p:tav tm="100000">
                                          <p:val>
                                            <p:strVal val="#ppt_y"/>
                                          </p:val>
                                        </p:tav>
                                      </p:tavLst>
                                    </p:anim>
                                  </p:childTnLst>
                                </p:cTn>
                              </p:par>
                            </p:childTnLst>
                          </p:cTn>
                        </p:par>
                        <p:par>
                          <p:cTn id="219" fill="hold">
                            <p:stCondLst>
                              <p:cond delay="1000"/>
                            </p:stCondLst>
                            <p:childTnLst>
                              <p:par>
                                <p:cTn id="220" nodeType="afterEffect" fill="hold" presetClass="entr" presetID="4" presetSubtype="16">
                                  <p:stCondLst>
                                    <p:cond delay="0"/>
                                  </p:stCondLst>
                                  <p:childTnLst>
                                    <p:set>
                                      <p:cBhvr>
                                        <p:cTn id="221" dur="1" fill="hold">
                                          <p:stCondLst>
                                            <p:cond delay="0"/>
                                          </p:stCondLst>
                                        </p:cTn>
                                        <p:tgtEl>
                                          <p:spTgt spid="257"/>
                                        </p:tgtEl>
                                        <p:attrNameLst>
                                          <p:attrName>style.visibility</p:attrName>
                                        </p:attrNameLst>
                                      </p:cBhvr>
                                      <p:to>
                                        <p:strVal val="visible"/>
                                      </p:to>
                                    </p:set>
                                    <p:animEffect filter="box(in)" transition="in">
                                      <p:cBhvr additive="repl">
                                        <p:cTn id="22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8"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800" spc="-1" strike="noStrike">
                <a:solidFill>
                  <a:srgbClr val="ffffff"/>
                </a:solidFill>
                <a:latin typeface="Times New Roman"/>
              </a:rPr>
              <a:t>El 23 de Agosto de 1958  se efectúo una ceremonia de despedida del  antiguo edificio, el cual fue catalogado como uno de los mejores y más funcionales  de  su tiempo  por su  estructura  y  distribución, sin  obviar  el  hecho  de  haber  sido  el  laboratorio  donde prestigiosos médicos desarrollaron la práctica de importantes especialidades en el país:</a:t>
            </a:r>
            <a:r>
              <a:rPr b="1"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260" name="" descr=""/>
          <p:cNvPicPr/>
          <p:nvPr/>
        </p:nvPicPr>
        <p:blipFill>
          <a:blip r:embed="rId1"/>
          <a:stretch/>
        </p:blipFill>
        <p:spPr>
          <a:xfrm>
            <a:off x="1908000" y="3429000"/>
            <a:ext cx="5616720" cy="3024360"/>
          </a:xfrm>
          <a:prstGeom prst="rect">
            <a:avLst/>
          </a:prstGeom>
          <a:ln w="0">
            <a:noFill/>
          </a:ln>
        </p:spPr>
      </p:pic>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5">
                                  <p:stCondLst>
                                    <p:cond delay="0"/>
                                  </p:stCondLst>
                                  <p:childTnLst>
                                    <p:set>
                                      <p:cBhvr>
                                        <p:cTn id="228" dur="1" fill="hold">
                                          <p:stCondLst>
                                            <p:cond delay="0"/>
                                          </p:stCondLst>
                                        </p:cTn>
                                        <p:tgtEl>
                                          <p:spTgt spid="259"/>
                                        </p:tgtEl>
                                        <p:attrNameLst>
                                          <p:attrName>style.visibility</p:attrName>
                                        </p:attrNameLst>
                                      </p:cBhvr>
                                      <p:to>
                                        <p:strVal val="visible"/>
                                      </p:to>
                                    </p:set>
                                    <p:anim calcmode="lin" valueType="num">
                                      <p:cBhvr additive="repl">
                                        <p:cTn id="229" dur="1000" fill="hold"/>
                                        <p:tgtEl>
                                          <p:spTgt spid="259"/>
                                        </p:tgtEl>
                                        <p:attrNameLst>
                                          <p:attrName>ppt_w</p:attrName>
                                        </p:attrNameLst>
                                      </p:cBhvr>
                                      <p:tavLst>
                                        <p:tav tm="0">
                                          <p:val>
                                            <p:fltVal val="0"/>
                                          </p:val>
                                        </p:tav>
                                        <p:tav tm="100000">
                                          <p:val>
                                            <p:strVal val="#ppt_w"/>
                                          </p:val>
                                        </p:tav>
                                      </p:tavLst>
                                    </p:anim>
                                    <p:anim calcmode="lin" valueType="num">
                                      <p:cBhvr additive="repl">
                                        <p:cTn id="230" dur="1000" fill="hold"/>
                                        <p:tgtEl>
                                          <p:spTgt spid="259"/>
                                        </p:tgtEl>
                                        <p:attrNameLst>
                                          <p:attrName>ppt_h</p:attrName>
                                        </p:attrNameLst>
                                      </p:cBhvr>
                                      <p:tavLst>
                                        <p:tav tm="0">
                                          <p:val>
                                            <p:fltVal val="0"/>
                                          </p:val>
                                        </p:tav>
                                        <p:tav tm="100000">
                                          <p:val>
                                            <p:strVal val="#ppt_h"/>
                                          </p:val>
                                        </p:tav>
                                      </p:tavLst>
                                    </p:anim>
                                    <p:anim calcmode="lin" valueType="num">
                                      <p:cBhvr additive="repl">
                                        <p:cTn id="231"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1"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304920"/>
            <a:ext cx="693432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Angel Aballí  desarrolló la Pediatrí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F. Domínguez Roldán introdujo la Radiologí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Raimundo Menocal inició  el combate contra las E.T.S.</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Nicolás Puente desarrolló la Oncologí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Los Dres. Sánchez Toledo y Alberto Inclán  desarrollaron la Ortopedi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La enfermera Miss Mary O`Donnell fundó la 1ra Escuela de Enfermeras de Cuba.</a:t>
            </a:r>
            <a:endParaRPr b="0" lang="en-US" sz="2400" spc="-1" strike="noStrike">
              <a:solidFill>
                <a:srgbClr val="000000"/>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l Dr. José Iglesias de la Torre fundó el 1er</a:t>
            </a:r>
            <a:r>
              <a:rPr b="1" lang="es-ES_tradnl" sz="2400" spc="-1" strike="noStrike">
                <a:solidFill>
                  <a:srgbClr val="ffffff"/>
                </a:solidFill>
                <a:latin typeface="Times New Roman"/>
              </a:rPr>
              <a:t> </a:t>
            </a:r>
            <a:r>
              <a:rPr b="1" i="1" lang="es-ES_tradnl" sz="2400" spc="-1" strike="noStrike">
                <a:solidFill>
                  <a:srgbClr val="ffffff"/>
                </a:solidFill>
                <a:latin typeface="Times New Roman"/>
              </a:rPr>
              <a:t>Departamento de Asistencia Social,  etc.</a:t>
            </a:r>
            <a:endParaRPr b="0" lang="en-US" sz="2400" spc="-1" strike="noStrike">
              <a:solidFill>
                <a:srgbClr val="000000"/>
              </a:solidFill>
              <a:latin typeface="Times New Roman"/>
            </a:endParaRPr>
          </a:p>
        </p:txBody>
      </p:sp>
      <p:pic>
        <p:nvPicPr>
          <p:cNvPr id="263" name="" descr=""/>
          <p:cNvPicPr/>
          <p:nvPr/>
        </p:nvPicPr>
        <p:blipFill>
          <a:blip r:embed="rId1"/>
          <a:stretch/>
        </p:blipFill>
        <p:spPr>
          <a:xfrm>
            <a:off x="7238880" y="228600"/>
            <a:ext cx="1600200" cy="1219320"/>
          </a:xfrm>
          <a:prstGeom prst="rect">
            <a:avLst/>
          </a:prstGeom>
          <a:ln w="9360">
            <a:solidFill>
              <a:srgbClr val="99ff33"/>
            </a:solidFill>
            <a:miter/>
          </a:ln>
        </p:spPr>
      </p:pic>
      <p:pic>
        <p:nvPicPr>
          <p:cNvPr id="264" name="" descr=""/>
          <p:cNvPicPr/>
          <p:nvPr/>
        </p:nvPicPr>
        <p:blipFill>
          <a:blip r:embed="rId2"/>
          <a:stretch/>
        </p:blipFill>
        <p:spPr>
          <a:xfrm>
            <a:off x="6705720" y="1752480"/>
            <a:ext cx="1600200" cy="1447920"/>
          </a:xfrm>
          <a:prstGeom prst="rect">
            <a:avLst/>
          </a:prstGeom>
          <a:ln w="9360">
            <a:solidFill>
              <a:srgbClr val="ff99ff"/>
            </a:solidFill>
            <a:miter/>
          </a:ln>
        </p:spPr>
      </p:pic>
      <p:pic>
        <p:nvPicPr>
          <p:cNvPr id="265" name="" descr=""/>
          <p:cNvPicPr/>
          <p:nvPr/>
        </p:nvPicPr>
        <p:blipFill>
          <a:blip r:embed="rId3"/>
          <a:stretch/>
        </p:blipFill>
        <p:spPr>
          <a:xfrm>
            <a:off x="6732720" y="4005360"/>
            <a:ext cx="1800000" cy="2087640"/>
          </a:xfrm>
          <a:prstGeom prst="rect">
            <a:avLst/>
          </a:prstGeom>
          <a:ln w="0">
            <a:noFill/>
          </a:ln>
        </p:spPr>
      </p:pic>
      <p:pic>
        <p:nvPicPr>
          <p:cNvPr id="266" name="" descr=""/>
          <p:cNvPicPr/>
          <p:nvPr/>
        </p:nvPicPr>
        <p:blipFill>
          <a:blip r:embed="rId4"/>
          <a:stretch/>
        </p:blipFill>
        <p:spPr>
          <a:xfrm>
            <a:off x="3419640" y="4941720"/>
            <a:ext cx="2519280" cy="1582920"/>
          </a:xfrm>
          <a:prstGeom prst="rect">
            <a:avLst/>
          </a:prstGeom>
          <a:ln w="0">
            <a:noFill/>
          </a:ln>
        </p:spPr>
      </p:pic>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7" presetSubtype="4">
                                  <p:stCondLst>
                                    <p:cond delay="0"/>
                                  </p:stCondLst>
                                  <p:childTnLst>
                                    <p:set>
                                      <p:cBhvr>
                                        <p:cTn id="238" dur="1" fill="hold">
                                          <p:stCondLst>
                                            <p:cond delay="0"/>
                                          </p:stCondLst>
                                        </p:cTn>
                                        <p:tgtEl>
                                          <p:spTgt spid="262"/>
                                        </p:tgtEl>
                                        <p:attrNameLst>
                                          <p:attrName>style.visibility</p:attrName>
                                        </p:attrNameLst>
                                      </p:cBhvr>
                                      <p:to>
                                        <p:strVal val="visible"/>
                                      </p:to>
                                    </p:set>
                                    <p:anim calcmode="lin" valueType="num">
                                      <p:cBhvr additive="repl">
                                        <p:cTn id="239" dur="500" fill="hold"/>
                                        <p:tgtEl>
                                          <p:spTgt spid="262"/>
                                        </p:tgtEl>
                                        <p:attrNameLst>
                                          <p:attrName>ppt_x</p:attrName>
                                        </p:attrNameLst>
                                      </p:cBhvr>
                                      <p:tavLst>
                                        <p:tav tm="0">
                                          <p:val>
                                            <p:strVal val="#ppt_x"/>
                                          </p:val>
                                        </p:tav>
                                        <p:tav tm="100000">
                                          <p:val>
                                            <p:strVal val="#ppt_x"/>
                                          </p:val>
                                        </p:tav>
                                      </p:tavLst>
                                    </p:anim>
                                    <p:anim calcmode="lin" valueType="num">
                                      <p:cBhvr additive="repl">
                                        <p:cTn id="240" dur="500" fill="hold"/>
                                        <p:tgtEl>
                                          <p:spTgt spid="262"/>
                                        </p:tgtEl>
                                        <p:attrNameLst>
                                          <p:attrName>ppt_y</p:attrName>
                                        </p:attrNameLst>
                                      </p:cBhvr>
                                      <p:tavLst>
                                        <p:tav tm="0">
                                          <p:val>
                                            <p:strVal val="#ppt_y+#ppt_h/2"/>
                                          </p:val>
                                        </p:tav>
                                        <p:tav tm="100000">
                                          <p:val>
                                            <p:strVal val="#ppt_y"/>
                                          </p:val>
                                        </p:tav>
                                      </p:tavLst>
                                    </p:anim>
                                    <p:anim calcmode="lin" valueType="num">
                                      <p:cBhvr additive="repl">
                                        <p:cTn id="241" dur="500" fill="hold"/>
                                        <p:tgtEl>
                                          <p:spTgt spid="262"/>
                                        </p:tgtEl>
                                        <p:attrNameLst>
                                          <p:attrName>ppt_w</p:attrName>
                                        </p:attrNameLst>
                                      </p:cBhvr>
                                      <p:tavLst>
                                        <p:tav tm="0">
                                          <p:val>
                                            <p:strVal val="#ppt_w"/>
                                          </p:val>
                                        </p:tav>
                                        <p:tav tm="100000">
                                          <p:val>
                                            <p:strVal val="#ppt_w"/>
                                          </p:val>
                                        </p:tav>
                                      </p:tavLst>
                                    </p:anim>
                                    <p:anim calcmode="lin" valueType="num">
                                      <p:cBhvr additive="repl">
                                        <p:cTn id="242" dur="500" fill="hold"/>
                                        <p:tgtEl>
                                          <p:spTgt spid="262"/>
                                        </p:tgtEl>
                                        <p:attrNameLst>
                                          <p:attrName>ppt_h</p:attrName>
                                        </p:attrNameLst>
                                      </p:cBhvr>
                                      <p:tavLst>
                                        <p:tav tm="0">
                                          <p:val>
                                            <p:fltVal val="0"/>
                                          </p:val>
                                        </p:tav>
                                        <p:tav tm="100000">
                                          <p:val>
                                            <p:strVal val="#ppt_h"/>
                                          </p:val>
                                        </p:tav>
                                      </p:tavLst>
                                    </p:anim>
                                  </p:childTnLst>
                                </p:cTn>
                              </p:par>
                            </p:childTnLst>
                          </p:cTn>
                        </p:par>
                        <p:par>
                          <p:cTn id="243"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63"/>
                                        </p:tgtEl>
                                        <p:attrNameLst>
                                          <p:attrName>style.visibility</p:attrName>
                                        </p:attrNameLst>
                                      </p:cBhvr>
                                      <p:to>
                                        <p:strVal val="visible"/>
                                      </p:to>
                                    </p:set>
                                    <p:anim calcmode="lin" valueType="num">
                                      <p:cBhvr additive="base">
                                        <p:cTn id="246" dur="500" fill="hold"/>
                                        <p:tgtEl>
                                          <p:spTgt spid="263"/>
                                        </p:tgtEl>
                                        <p:attrNameLst>
                                          <p:attrName>ppt_x</p:attrName>
                                        </p:attrNameLst>
                                      </p:cBhvr>
                                      <p:tavLst>
                                        <p:tav tm="0">
                                          <p:val>
                                            <p:strVal val="0-#ppt_w/2"/>
                                          </p:val>
                                        </p:tav>
                                        <p:tav tm="100000">
                                          <p:val>
                                            <p:strVal val="#ppt_x"/>
                                          </p:val>
                                        </p:tav>
                                      </p:tavLst>
                                    </p:anim>
                                    <p:anim calcmode="lin" valueType="num">
                                      <p:cBhvr additive="base">
                                        <p:cTn id="247" dur="500" fill="hold"/>
                                        <p:tgtEl>
                                          <p:spTgt spid="263"/>
                                        </p:tgtEl>
                                        <p:attrNameLst>
                                          <p:attrName>ppt_y</p:attrName>
                                        </p:attrNameLst>
                                      </p:cBhvr>
                                      <p:tavLst>
                                        <p:tav tm="0">
                                          <p:val>
                                            <p:strVal val="#ppt_y"/>
                                          </p:val>
                                        </p:tav>
                                        <p:tav tm="100000">
                                          <p:val>
                                            <p:strVal val="#ppt_y"/>
                                          </p:val>
                                        </p:tav>
                                      </p:tavLst>
                                    </p:anim>
                                  </p:childTnLst>
                                </p:cTn>
                              </p:par>
                            </p:childTnLst>
                          </p:cTn>
                        </p:par>
                        <p:par>
                          <p:cTn id="248" fill="hold">
                            <p:stCondLst>
                              <p:cond delay="1000"/>
                            </p:stCondLst>
                            <p:childTnLst>
                              <p:par>
                                <p:cTn id="249" nodeType="afterEffect" fill="hold" presetClass="entr" presetID="2" presetSubtype="8">
                                  <p:stCondLst>
                                    <p:cond delay="0"/>
                                  </p:stCondLst>
                                  <p:childTnLst>
                                    <p:set>
                                      <p:cBhvr>
                                        <p:cTn id="250" dur="1" fill="hold">
                                          <p:stCondLst>
                                            <p:cond delay="0"/>
                                          </p:stCondLst>
                                        </p:cTn>
                                        <p:tgtEl>
                                          <p:spTgt spid="264"/>
                                        </p:tgtEl>
                                        <p:attrNameLst>
                                          <p:attrName>style.visibility</p:attrName>
                                        </p:attrNameLst>
                                      </p:cBhvr>
                                      <p:to>
                                        <p:strVal val="visible"/>
                                      </p:to>
                                    </p:set>
                                    <p:anim calcmode="lin" valueType="num">
                                      <p:cBhvr additive="base">
                                        <p:cTn id="251" dur="500" fill="hold"/>
                                        <p:tgtEl>
                                          <p:spTgt spid="264"/>
                                        </p:tgtEl>
                                        <p:attrNameLst>
                                          <p:attrName>ppt_x</p:attrName>
                                        </p:attrNameLst>
                                      </p:cBhvr>
                                      <p:tavLst>
                                        <p:tav tm="0">
                                          <p:val>
                                            <p:strVal val="0-#ppt_w/2"/>
                                          </p:val>
                                        </p:tav>
                                        <p:tav tm="100000">
                                          <p:val>
                                            <p:strVal val="#ppt_x"/>
                                          </p:val>
                                        </p:tav>
                                      </p:tavLst>
                                    </p:anim>
                                    <p:anim calcmode="lin" valueType="num">
                                      <p:cBhvr additive="base">
                                        <p:cTn id="252" dur="500" fill="hold"/>
                                        <p:tgtEl>
                                          <p:spTgt spid="264"/>
                                        </p:tgtEl>
                                        <p:attrNameLst>
                                          <p:attrName>ppt_y</p:attrName>
                                        </p:attrNameLst>
                                      </p:cBhvr>
                                      <p:tavLst>
                                        <p:tav tm="0">
                                          <p:val>
                                            <p:strVal val="#ppt_y"/>
                                          </p:val>
                                        </p:tav>
                                        <p:tav tm="100000">
                                          <p:val>
                                            <p:strVal val="#ppt_y"/>
                                          </p:val>
                                        </p:tav>
                                      </p:tavLst>
                                    </p:anim>
                                  </p:childTnLst>
                                </p:cTn>
                              </p:par>
                            </p:childTnLst>
                          </p:cTn>
                        </p:par>
                        <p:par>
                          <p:cTn id="253" fill="hold">
                            <p:stCondLst>
                              <p:cond delay="1500"/>
                            </p:stCondLst>
                            <p:childTnLst>
                              <p:par>
                                <p:cTn id="254" nodeType="afterEffect" fill="hold" presetClass="entr" presetID="2" presetSubtype="4">
                                  <p:stCondLst>
                                    <p:cond delay="0"/>
                                  </p:stCondLst>
                                  <p:childTnLst>
                                    <p:set>
                                      <p:cBhvr>
                                        <p:cTn id="255" dur="1" fill="hold">
                                          <p:stCondLst>
                                            <p:cond delay="0"/>
                                          </p:stCondLst>
                                        </p:cTn>
                                        <p:tgtEl>
                                          <p:spTgt spid="265"/>
                                        </p:tgtEl>
                                        <p:attrNameLst>
                                          <p:attrName>style.visibility</p:attrName>
                                        </p:attrNameLst>
                                      </p:cBhvr>
                                      <p:to>
                                        <p:strVal val="visible"/>
                                      </p:to>
                                    </p:set>
                                    <p:anim calcmode="lin" valueType="num">
                                      <p:cBhvr additive="base">
                                        <p:cTn id="256" dur="500" fill="hold"/>
                                        <p:tgtEl>
                                          <p:spTgt spid="265"/>
                                        </p:tgtEl>
                                        <p:attrNameLst>
                                          <p:attrName>ppt_x</p:attrName>
                                        </p:attrNameLst>
                                      </p:cBhvr>
                                      <p:tavLst>
                                        <p:tav tm="0">
                                          <p:val>
                                            <p:strVal val="#ppt_x"/>
                                          </p:val>
                                        </p:tav>
                                        <p:tav tm="100000">
                                          <p:val>
                                            <p:strVal val="#ppt_x"/>
                                          </p:val>
                                        </p:tav>
                                      </p:tavLst>
                                    </p:anim>
                                    <p:anim calcmode="lin" valueType="num">
                                      <p:cBhvr additive="base">
                                        <p:cTn id="257" dur="500" fill="hold"/>
                                        <p:tgtEl>
                                          <p:spTgt spid="265"/>
                                        </p:tgtEl>
                                        <p:attrNameLst>
                                          <p:attrName>ppt_y</p:attrName>
                                        </p:attrNameLst>
                                      </p:cBhvr>
                                      <p:tavLst>
                                        <p:tav tm="0">
                                          <p:val>
                                            <p:strVal val="1+#ppt_h/2"/>
                                          </p:val>
                                        </p:tav>
                                        <p:tav tm="100000">
                                          <p:val>
                                            <p:strVal val="#ppt_y"/>
                                          </p:val>
                                        </p:tav>
                                      </p:tavLst>
                                    </p:anim>
                                  </p:childTnLst>
                                </p:cTn>
                              </p:par>
                            </p:childTnLst>
                          </p:cTn>
                        </p:par>
                        <p:par>
                          <p:cTn id="258" fill="hold">
                            <p:stCondLst>
                              <p:cond delay="2000"/>
                            </p:stCondLst>
                            <p:childTnLst>
                              <p:par>
                                <p:cTn id="259" nodeType="afterEffect" fill="hold" presetClass="entr" presetID="21" presetSubtype="4">
                                  <p:stCondLst>
                                    <p:cond delay="0"/>
                                  </p:stCondLst>
                                  <p:childTnLst>
                                    <p:set>
                                      <p:cBhvr>
                                        <p:cTn id="260" dur="1" fill="hold">
                                          <p:stCondLst>
                                            <p:cond delay="0"/>
                                          </p:stCondLst>
                                        </p:cTn>
                                        <p:tgtEl>
                                          <p:spTgt spid="266"/>
                                        </p:tgtEl>
                                        <p:attrNameLst>
                                          <p:attrName>style.visibility</p:attrName>
                                        </p:attrNameLst>
                                      </p:cBhvr>
                                      <p:to>
                                        <p:strVal val="visible"/>
                                      </p:to>
                                    </p:set>
                                    <p:animEffect filter="wheel(4)" transition="in">
                                      <p:cBhvr additive="repl">
                                        <p:cTn id="26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7" name=""/>
          <p:cNvSpPr/>
          <p:nvPr/>
        </p:nvSpPr>
        <p:spPr>
          <a:xfrm>
            <a:off x="4114800" y="457200"/>
            <a:ext cx="502920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ffffff"/>
                </a:solidFill>
                <a:latin typeface="Times New Roman"/>
              </a:rPr>
              <a:t>Al triunfo de la Revolución el  Hospital “Calixto García” y el Hospital  “Nuestra Señora de las Mercedes” eran los  únicos  hospitales Universitarios del país y</a:t>
            </a:r>
            <a:r>
              <a:rPr b="1" i="1" lang="es-ES" sz="2400" spc="-1" strike="noStrike">
                <a:solidFill>
                  <a:srgbClr val="ffffff"/>
                </a:solidFill>
                <a:latin typeface="Times New Roman"/>
              </a:rPr>
              <a:t> de sus claustros emergieron las células iniciales de los 14 Hospitales Docentes acreditados por la Junta de Gobierno Revolucionario en 1959</a:t>
            </a:r>
            <a:r>
              <a:rPr b="1" i="1" lang="en-US" sz="2400" spc="-1" strike="noStrike">
                <a:solidFill>
                  <a:srgbClr val="ffffff"/>
                </a:solidFill>
                <a:latin typeface="Times New Roman"/>
              </a:rPr>
              <a:t>,  que sesionó en nuestro Anfiteatro</a:t>
            </a:r>
            <a:r>
              <a:rPr b="1" i="1" lang="es-ES" sz="2400" spc="-1" strike="noStrike">
                <a:solidFill>
                  <a:srgbClr val="ffffff"/>
                </a:solidFill>
                <a:latin typeface="Times New Roman"/>
              </a:rPr>
              <a:t>.</a:t>
            </a:r>
            <a:r>
              <a:rPr b="1" i="1" lang="en-US" sz="2400" spc="-1" strike="noStrike">
                <a:solidFill>
                  <a:srgbClr val="ffffff"/>
                </a:solidFill>
                <a:latin typeface="Times New Roman"/>
              </a:rPr>
              <a:t> </a:t>
            </a:r>
            <a:r>
              <a:rPr b="1" i="1" lang="es-ES" sz="2400" spc="-1" strike="noStrike">
                <a:solidFill>
                  <a:srgbClr val="ffffff"/>
                </a:solidFill>
                <a:latin typeface="Times New Roman"/>
              </a:rPr>
              <a:t>Unidos fungieron como Facultad de Ciencias Médicas #1 hasta 1984, </a:t>
            </a:r>
            <a:r>
              <a:rPr b="1" i="1" lang="en-US" sz="2400" spc="-1" strike="noStrike">
                <a:solidFill>
                  <a:srgbClr val="ffffff"/>
                </a:solidFill>
                <a:latin typeface="Times New Roman"/>
              </a:rPr>
              <a:t>en que </a:t>
            </a:r>
            <a:r>
              <a:rPr b="1" i="1" lang="es-ES" sz="2400" spc="-1" strike="noStrike">
                <a:solidFill>
                  <a:srgbClr val="ffffff"/>
                </a:solidFill>
                <a:latin typeface="Times New Roman"/>
              </a:rPr>
              <a:t> se constituyó como </a:t>
            </a:r>
            <a:r>
              <a:rPr b="1" i="1" lang="en-US" sz="2400" spc="-1" strike="noStrike">
                <a:solidFill>
                  <a:srgbClr val="ffffff"/>
                </a:solidFill>
                <a:latin typeface="Times New Roman"/>
              </a:rPr>
              <a:t>un </a:t>
            </a:r>
            <a:r>
              <a:rPr b="1" i="1" lang="es-ES" sz="2400" spc="-1" strike="noStrike">
                <a:solidFill>
                  <a:srgbClr val="ffffff"/>
                </a:solidFill>
                <a:latin typeface="Times New Roman"/>
              </a:rPr>
              <a:t>Complejo Hospital-Facultad </a:t>
            </a:r>
            <a:r>
              <a:rPr b="1" i="1" lang="en-US" sz="2400" spc="-1" strike="noStrike">
                <a:solidFill>
                  <a:srgbClr val="ffffff"/>
                </a:solidFill>
                <a:latin typeface="Times New Roman"/>
              </a:rPr>
              <a:t> independiente, con el nombre de </a:t>
            </a:r>
            <a:r>
              <a:rPr b="1" i="1" lang="es-ES" sz="2400" spc="-1" strike="noStrike">
                <a:solidFill>
                  <a:srgbClr val="ffffff"/>
                </a:solidFill>
                <a:latin typeface="Times New Roman"/>
              </a:rPr>
              <a:t>“Comandante Manuel Fajardo”.</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258920" y="1916280"/>
            <a:ext cx="2232000" cy="3097080"/>
          </a:xfrm>
          <a:prstGeom prst="rect">
            <a:avLst/>
          </a:prstGeom>
          <a:ln w="0">
            <a:noFill/>
          </a:ln>
        </p:spPr>
      </p:pic>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9">
                                  <p:stCondLst>
                                    <p:cond delay="0"/>
                                  </p:stCondLst>
                                  <p:childTnLst>
                                    <p:set>
                                      <p:cBhvr>
                                        <p:cTn id="267" dur="1" fill="hold">
                                          <p:stCondLst>
                                            <p:cond delay="0"/>
                                          </p:stCondLst>
                                        </p:cTn>
                                        <p:tgtEl>
                                          <p:spTgt spid="267"/>
                                        </p:tgtEl>
                                        <p:attrNameLst>
                                          <p:attrName>style.visibility</p:attrName>
                                        </p:attrNameLst>
                                      </p:cBhvr>
                                      <p:to>
                                        <p:strVal val="visible"/>
                                      </p:to>
                                    </p:set>
                                    <p:animEffect filter="dissolve" transition="in">
                                      <p:cBhvr additive="repl">
                                        <p:cTn id="268" dur="500"/>
                                        <p:tgtEl>
                                          <p:spTgt spid="267"/>
                                        </p:tgtEl>
                                      </p:cBhvr>
                                    </p:animEffect>
                                  </p:childTnLst>
                                </p:cTn>
                              </p:par>
                            </p:childTnLst>
                          </p:cTn>
                        </p:par>
                        <p:par>
                          <p:cTn id="269" fill="hold">
                            <p:stCondLst>
                              <p:cond delay="500"/>
                            </p:stCondLst>
                            <p:childTnLst>
                              <p:par>
                                <p:cTn id="270" nodeType="afterEffect" fill="hold" presetClass="entr" presetID="2" presetSubtype="4">
                                  <p:stCondLst>
                                    <p:cond delay="0"/>
                                  </p:stCondLst>
                                  <p:childTnLst>
                                    <p:set>
                                      <p:cBhvr>
                                        <p:cTn id="271" dur="1" fill="hold">
                                          <p:stCondLst>
                                            <p:cond delay="0"/>
                                          </p:stCondLst>
                                        </p:cTn>
                                        <p:tgtEl>
                                          <p:spTgt spid="268"/>
                                        </p:tgtEl>
                                        <p:attrNameLst>
                                          <p:attrName>style.visibility</p:attrName>
                                        </p:attrNameLst>
                                      </p:cBhvr>
                                      <p:to>
                                        <p:strVal val="visible"/>
                                      </p:to>
                                    </p:set>
                                    <p:anim calcmode="lin" valueType="num">
                                      <p:cBhvr additive="base">
                                        <p:cTn id="272" dur="500" fill="hold"/>
                                        <p:tgtEl>
                                          <p:spTgt spid="268"/>
                                        </p:tgtEl>
                                        <p:attrNameLst>
                                          <p:attrName>ppt_x</p:attrName>
                                        </p:attrNameLst>
                                      </p:cBhvr>
                                      <p:tavLst>
                                        <p:tav tm="0">
                                          <p:val>
                                            <p:strVal val="#ppt_x"/>
                                          </p:val>
                                        </p:tav>
                                        <p:tav tm="100000">
                                          <p:val>
                                            <p:strVal val="#ppt_x"/>
                                          </p:val>
                                        </p:tav>
                                      </p:tavLst>
                                    </p:anim>
                                    <p:anim calcmode="lin" valueType="num">
                                      <p:cBhvr additive="base">
                                        <p:cTn id="273"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69" name=""/>
          <p:cNvSpPr/>
          <p:nvPr/>
        </p:nvSpPr>
        <p:spPr>
          <a:xfrm>
            <a:off x="2895480" y="0"/>
            <a:ext cx="62485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ste nombre honra al Hospital  desde el 1ero. de Diciembre de 1960, debido al póstumo homenaje de la Junta de Gobierno de Hospitales Universitarios, quien  decidió otorgarle dicho nombre en honor a la memoria del Comandante Dr. Manuel  Fajardo  Rivero, quien compartió las labores de Médico Cirujano y de Jefe Guerrillero durante la Guerra Revolucionaria y que recientemente había caído en combate en la Lucha Contra Bandidos en el Escambray el  29 de noviembre de 1960 .</a:t>
            </a:r>
            <a:endParaRPr b="0" lang="en-US" sz="2400" spc="-1" strike="noStrike">
              <a:solidFill>
                <a:srgbClr val="000000"/>
              </a:solidFill>
              <a:latin typeface="Times New Roman"/>
            </a:endParaRPr>
          </a:p>
        </p:txBody>
      </p:sp>
      <p:pic>
        <p:nvPicPr>
          <p:cNvPr id="270" name="" descr=""/>
          <p:cNvPicPr/>
          <p:nvPr/>
        </p:nvPicPr>
        <p:blipFill>
          <a:blip r:embed="rId1"/>
          <a:stretch/>
        </p:blipFill>
        <p:spPr>
          <a:xfrm>
            <a:off x="4356000" y="4365720"/>
            <a:ext cx="2808360" cy="2016000"/>
          </a:xfrm>
          <a:prstGeom prst="rect">
            <a:avLst/>
          </a:prstGeom>
          <a:ln w="0">
            <a:noFill/>
          </a:ln>
        </p:spPr>
      </p:pic>
      <p:pic>
        <p:nvPicPr>
          <p:cNvPr id="271" name="" descr=""/>
          <p:cNvPicPr/>
          <p:nvPr/>
        </p:nvPicPr>
        <p:blipFill>
          <a:blip r:embed="rId2"/>
          <a:stretch/>
        </p:blipFill>
        <p:spPr>
          <a:xfrm>
            <a:off x="468360" y="620640"/>
            <a:ext cx="2282760" cy="5256360"/>
          </a:xfrm>
          <a:prstGeom prst="rect">
            <a:avLst/>
          </a:prstGeom>
          <a:ln w="0">
            <a:noFill/>
          </a:ln>
        </p:spPr>
      </p:pic>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2" presetSubtype="4">
                                  <p:stCondLst>
                                    <p:cond delay="0"/>
                                  </p:stCondLst>
                                  <p:childTnLst>
                                    <p:set>
                                      <p:cBhvr>
                                        <p:cTn id="279" dur="1" fill="hold">
                                          <p:stCondLst>
                                            <p:cond delay="0"/>
                                          </p:stCondLst>
                                        </p:cTn>
                                        <p:tgtEl>
                                          <p:spTgt spid="269"/>
                                        </p:tgtEl>
                                        <p:attrNameLst>
                                          <p:attrName>style.visibility</p:attrName>
                                        </p:attrNameLst>
                                      </p:cBhvr>
                                      <p:to>
                                        <p:strVal val="visible"/>
                                      </p:to>
                                    </p:set>
                                    <p:animEffect filter="wipe(down)" transition="in">
                                      <p:cBhvr additive="repl">
                                        <p:cTn id="280" dur="500"/>
                                        <p:tgtEl>
                                          <p:spTgt spid="269"/>
                                        </p:tgtEl>
                                      </p:cBhvr>
                                    </p:animEffect>
                                  </p:childTnLst>
                                </p:cTn>
                              </p:par>
                            </p:childTnLst>
                          </p:cTn>
                        </p:par>
                        <p:par>
                          <p:cTn id="281" fill="hold">
                            <p:stCondLst>
                              <p:cond delay="500"/>
                            </p:stCondLst>
                            <p:childTnLst>
                              <p:par>
                                <p:cTn id="282" nodeType="afterEffect" fill="hold" presetClass="entr" presetID="4" presetSubtype="16">
                                  <p:stCondLst>
                                    <p:cond delay="0"/>
                                  </p:stCondLst>
                                  <p:childTnLst>
                                    <p:set>
                                      <p:cBhvr>
                                        <p:cTn id="283" dur="1" fill="hold">
                                          <p:stCondLst>
                                            <p:cond delay="0"/>
                                          </p:stCondLst>
                                        </p:cTn>
                                        <p:tgtEl>
                                          <p:spTgt spid="270"/>
                                        </p:tgtEl>
                                        <p:attrNameLst>
                                          <p:attrName>style.visibility</p:attrName>
                                        </p:attrNameLst>
                                      </p:cBhvr>
                                      <p:to>
                                        <p:strVal val="visible"/>
                                      </p:to>
                                    </p:set>
                                    <p:animEffect filter="box(in)" transition="in">
                                      <p:cBhvr additive="repl">
                                        <p:cTn id="284" dur="500"/>
                                        <p:tgtEl>
                                          <p:spTgt spid="270"/>
                                        </p:tgtEl>
                                      </p:cBhvr>
                                    </p:animEffect>
                                  </p:childTnLst>
                                </p:cTn>
                              </p:par>
                            </p:childTnLst>
                          </p:cTn>
                        </p:par>
                        <p:par>
                          <p:cTn id="285" fill="hold">
                            <p:stCondLst>
                              <p:cond delay="1000"/>
                            </p:stCondLst>
                            <p:childTnLst>
                              <p:par>
                                <p:cTn id="286" nodeType="afterEffect" fill="hold" presetClass="entr" presetID="2" presetSubtype="4">
                                  <p:stCondLst>
                                    <p:cond delay="0"/>
                                  </p:stCondLst>
                                  <p:childTnLst>
                                    <p:set>
                                      <p:cBhvr>
                                        <p:cTn id="287" dur="1" fill="hold">
                                          <p:stCondLst>
                                            <p:cond delay="0"/>
                                          </p:stCondLst>
                                        </p:cTn>
                                        <p:tgtEl>
                                          <p:spTgt spid="271"/>
                                        </p:tgtEl>
                                        <p:attrNameLst>
                                          <p:attrName>style.visibility</p:attrName>
                                        </p:attrNameLst>
                                      </p:cBhvr>
                                      <p:to>
                                        <p:strVal val="visible"/>
                                      </p:to>
                                    </p:set>
                                    <p:anim calcmode="lin" valueType="num">
                                      <p:cBhvr additive="base">
                                        <p:cTn id="288" dur="500" fill="hold"/>
                                        <p:tgtEl>
                                          <p:spTgt spid="271"/>
                                        </p:tgtEl>
                                        <p:attrNameLst>
                                          <p:attrName>ppt_x</p:attrName>
                                        </p:attrNameLst>
                                      </p:cBhvr>
                                      <p:tavLst>
                                        <p:tav tm="0">
                                          <p:val>
                                            <p:strVal val="#ppt_x"/>
                                          </p:val>
                                        </p:tav>
                                        <p:tav tm="100000">
                                          <p:val>
                                            <p:strVal val="#ppt_x"/>
                                          </p:val>
                                        </p:tav>
                                      </p:tavLst>
                                    </p:anim>
                                    <p:anim calcmode="lin" valueType="num">
                                      <p:cBhvr additive="base">
                                        <p:cTn id="289"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2" name=""/>
          <p:cNvSpPr/>
          <p:nvPr/>
        </p:nvSpPr>
        <p:spPr>
          <a:xfrm>
            <a:off x="990720" y="106668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3809880" y="0"/>
            <a:ext cx="53341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ffffff"/>
                </a:solidFill>
                <a:latin typeface="Times New Roman"/>
              </a:rPr>
              <a:t>Con el decursar del tiempo y merced al desarrollo alcanzado, varios servicios del Hospital  se desagregaron, convirtiéndose  el Servicio de Radium en Instituto Nacional de Oncología y Radiobiología. El  servicio de Endocrinología se convirtió en  Instituto Nacional de Endocrinología y Enfermedades Metabólicas y lo mismo sucedió con el de Cardiología, que pasó a ser Instituto Nacional de Cardiología y Cirugía  Cardiovascul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Por otra parte y gracias a los esfuerzos del  Dr. Armando de Córdoba, se creó el 1er Hospital de Día Psiquiátrico del país y el Servicio de Dermatología, dirigido por el Dr. Alfredo Abreu se constituyó en Centro de Referencia Nacional.</a:t>
            </a:r>
            <a:endParaRPr b="0" lang="en-US" sz="2400" spc="-1" strike="noStrike">
              <a:solidFill>
                <a:srgbClr val="000000"/>
              </a:solidFill>
              <a:latin typeface="Times New Roman"/>
            </a:endParaRPr>
          </a:p>
        </p:txBody>
      </p:sp>
      <p:pic>
        <p:nvPicPr>
          <p:cNvPr id="274" name="" descr=""/>
          <p:cNvPicPr/>
          <p:nvPr/>
        </p:nvPicPr>
        <p:blipFill>
          <a:blip r:embed="rId1"/>
          <a:stretch/>
        </p:blipFill>
        <p:spPr>
          <a:xfrm>
            <a:off x="1332000" y="1700280"/>
            <a:ext cx="2087640" cy="3384360"/>
          </a:xfrm>
          <a:prstGeom prst="rect">
            <a:avLst/>
          </a:prstGeom>
          <a:ln w="0">
            <a:noFill/>
          </a:ln>
        </p:spPr>
      </p:pic>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3" presetSubtype="528">
                                  <p:stCondLst>
                                    <p:cond delay="0"/>
                                  </p:stCondLst>
                                  <p:childTnLst>
                                    <p:set>
                                      <p:cBhvr>
                                        <p:cTn id="295" dur="1" fill="hold">
                                          <p:stCondLst>
                                            <p:cond delay="0"/>
                                          </p:stCondLst>
                                        </p:cTn>
                                        <p:tgtEl>
                                          <p:spTgt spid="273"/>
                                        </p:tgtEl>
                                        <p:attrNameLst>
                                          <p:attrName>style.visibility</p:attrName>
                                        </p:attrNameLst>
                                      </p:cBhvr>
                                      <p:to>
                                        <p:strVal val="visible"/>
                                      </p:to>
                                    </p:set>
                                    <p:anim calcmode="lin" valueType="num">
                                      <p:cBhvr additive="repl">
                                        <p:cTn id="296" dur="500" fill="hold"/>
                                        <p:tgtEl>
                                          <p:spTgt spid="273"/>
                                        </p:tgtEl>
                                        <p:attrNameLst>
                                          <p:attrName>ppt_w</p:attrName>
                                        </p:attrNameLst>
                                      </p:cBhvr>
                                      <p:tavLst>
                                        <p:tav tm="0">
                                          <p:val>
                                            <p:fltVal val="0"/>
                                          </p:val>
                                        </p:tav>
                                        <p:tav tm="100000">
                                          <p:val>
                                            <p:strVal val="#ppt_w"/>
                                          </p:val>
                                        </p:tav>
                                      </p:tavLst>
                                    </p:anim>
                                    <p:anim calcmode="lin" valueType="num">
                                      <p:cBhvr additive="repl">
                                        <p:cTn id="297" dur="500" fill="hold"/>
                                        <p:tgtEl>
                                          <p:spTgt spid="273"/>
                                        </p:tgtEl>
                                        <p:attrNameLst>
                                          <p:attrName>ppt_h</p:attrName>
                                        </p:attrNameLst>
                                      </p:cBhvr>
                                      <p:tavLst>
                                        <p:tav tm="0">
                                          <p:val>
                                            <p:fltVal val="0"/>
                                          </p:val>
                                        </p:tav>
                                        <p:tav tm="100000">
                                          <p:val>
                                            <p:strVal val="#ppt_h"/>
                                          </p:val>
                                        </p:tav>
                                      </p:tavLst>
                                    </p:anim>
                                    <p:anim calcmode="lin" valueType="num">
                                      <p:cBhvr additive="repl">
                                        <p:cTn id="298" dur="500" fill="hold"/>
                                        <p:tgtEl>
                                          <p:spTgt spid="273"/>
                                        </p:tgtEl>
                                        <p:attrNameLst>
                                          <p:attrName>ppt_x</p:attrName>
                                        </p:attrNameLst>
                                      </p:cBhvr>
                                      <p:tavLst>
                                        <p:tav tm="0">
                                          <p:val>
                                            <p:fltVal val="0.5"/>
                                          </p:val>
                                        </p:tav>
                                        <p:tav tm="100000">
                                          <p:val>
                                            <p:strVal val="#ppt_x"/>
                                          </p:val>
                                        </p:tav>
                                      </p:tavLst>
                                    </p:anim>
                                    <p:anim calcmode="lin" valueType="num">
                                      <p:cBhvr additive="repl">
                                        <p:cTn id="299" dur="500" fill="hold"/>
                                        <p:tgtEl>
                                          <p:spTgt spid="273"/>
                                        </p:tgtEl>
                                        <p:attrNameLst>
                                          <p:attrName>ppt_y</p:attrName>
                                        </p:attrNameLst>
                                      </p:cBhvr>
                                      <p:tavLst>
                                        <p:tav tm="0">
                                          <p:val>
                                            <p:fltVal val="0.5"/>
                                          </p:val>
                                        </p:tav>
                                        <p:tav tm="100000">
                                          <p:val>
                                            <p:strVal val="#ppt_y"/>
                                          </p:val>
                                        </p:tav>
                                      </p:tavLst>
                                    </p:anim>
                                  </p:childTnLst>
                                </p:cTn>
                              </p:par>
                            </p:childTnLst>
                          </p:cTn>
                        </p:par>
                        <p:par>
                          <p:cTn id="300" fill="hold">
                            <p:stCondLst>
                              <p:cond delay="500"/>
                            </p:stCondLst>
                            <p:childTnLst>
                              <p:par>
                                <p:cTn id="301" nodeType="afterEffect" fill="hold" presetClass="entr" presetID="2" presetSubtype="4">
                                  <p:stCondLst>
                                    <p:cond delay="0"/>
                                  </p:stCondLst>
                                  <p:childTnLst>
                                    <p:set>
                                      <p:cBhvr>
                                        <p:cTn id="302" dur="1" fill="hold">
                                          <p:stCondLst>
                                            <p:cond delay="0"/>
                                          </p:stCondLst>
                                        </p:cTn>
                                        <p:tgtEl>
                                          <p:spTgt spid="274"/>
                                        </p:tgtEl>
                                        <p:attrNameLst>
                                          <p:attrName>style.visibility</p:attrName>
                                        </p:attrNameLst>
                                      </p:cBhvr>
                                      <p:to>
                                        <p:strVal val="visible"/>
                                      </p:to>
                                    </p:set>
                                    <p:anim calcmode="lin" valueType="num">
                                      <p:cBhvr additive="base">
                                        <p:cTn id="303" dur="500" fill="hold"/>
                                        <p:tgtEl>
                                          <p:spTgt spid="274"/>
                                        </p:tgtEl>
                                        <p:attrNameLst>
                                          <p:attrName>ppt_x</p:attrName>
                                        </p:attrNameLst>
                                      </p:cBhvr>
                                      <p:tavLst>
                                        <p:tav tm="0">
                                          <p:val>
                                            <p:strVal val="#ppt_x"/>
                                          </p:val>
                                        </p:tav>
                                        <p:tav tm="100000">
                                          <p:val>
                                            <p:strVal val="#ppt_x"/>
                                          </p:val>
                                        </p:tav>
                                      </p:tavLst>
                                    </p:anim>
                                    <p:anim calcmode="lin" valueType="num">
                                      <p:cBhvr additive="base">
                                        <p:cTn id="304"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5"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0" y="0"/>
            <a:ext cx="5486400" cy="5722920"/>
          </a:xfrm>
          <a:prstGeom prst="rect">
            <a:avLst/>
          </a:prstGeom>
          <a:noFill/>
          <a:ln w="0">
            <a:noFill/>
          </a:ln>
        </p:spPr>
        <p:style>
          <a:lnRef idx="0"/>
          <a:fillRef idx="0"/>
          <a:effectRef idx="0"/>
          <a:fontRef idx="minor"/>
        </p:style>
        <p:txBody>
          <a:bodyPr lIns="90000" rIns="90000" tIns="46800" bIns="46800" anchor="t">
            <a:spAutoFit/>
          </a:bodyPr>
          <a:p>
            <a:pPr marL="380880" indent="-380880" algn="ctr">
              <a:lnSpc>
                <a:spcPct val="110000"/>
              </a:lnSpc>
              <a:spcBef>
                <a:spcPts val="174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800" spc="-1" strike="noStrike">
                <a:solidFill>
                  <a:srgbClr val="ffffff"/>
                </a:solidFill>
                <a:latin typeface="Bookman Old Style"/>
              </a:rPr>
              <a:t>Analizando pues la trayectoria histórica de este Hospital,  podríamos concluir que no solamente fue el primero fundado en nuestro país, sino que ha sido pionero en múltiples ramas de la Medicina y precursor de varios Institutos especializados que hoy distinguen al Sistema de Salud Cubano.</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6156360" y="1484280"/>
            <a:ext cx="2503440" cy="2040120"/>
          </a:xfrm>
          <a:prstGeom prst="rect">
            <a:avLst/>
          </a:prstGeom>
          <a:ln w="0">
            <a:noFill/>
          </a:ln>
        </p:spPr>
      </p:pic>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6" presetSubtype="26">
                                  <p:stCondLst>
                                    <p:cond delay="0"/>
                                  </p:stCondLst>
                                  <p:childTnLst>
                                    <p:set>
                                      <p:cBhvr>
                                        <p:cTn id="310" dur="1" fill="hold">
                                          <p:stCondLst>
                                            <p:cond delay="0"/>
                                          </p:stCondLst>
                                        </p:cTn>
                                        <p:tgtEl>
                                          <p:spTgt spid="277"/>
                                        </p:tgtEl>
                                        <p:attrNameLst>
                                          <p:attrName>style.visibility</p:attrName>
                                        </p:attrNameLst>
                                      </p:cBhvr>
                                      <p:to>
                                        <p:strVal val="visible"/>
                                      </p:to>
                                    </p:set>
                                    <p:animEffect filter="barn(inHorizontal)" transition="in">
                                      <p:cBhvr additive="repl">
                                        <p:cTn id="31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txBox="1"/>
          <p:nvPr/>
        </p:nvSpPr>
        <p:spPr>
          <a:xfrm>
            <a:off x="609480" y="-228600"/>
            <a:ext cx="8136000" cy="177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00">
                    <a:alpha val="99000"/>
                  </a:srgbClr>
                </a:solidFill>
                <a:latin typeface="Times New Roman"/>
              </a:rPr>
              <a:t>Honremos nuestra  Historia</a:t>
            </a:r>
            <a:endParaRPr b="0" lang="en-US" sz="2400" spc="1" strike="noStrike">
              <a:ln w="9360">
                <a:solidFill>
                  <a:srgbClr val="000000"/>
                </a:solidFill>
                <a:miter/>
              </a:ln>
              <a:solidFill>
                <a:srgbClr val="00ff00">
                  <a:alpha val="99000"/>
                </a:srgbClr>
              </a:solidFill>
              <a:latin typeface="Times New Roman"/>
              <a:ea typeface="Times New Roman"/>
            </a:endParaRPr>
          </a:p>
        </p:txBody>
      </p:sp>
      <p:pic>
        <p:nvPicPr>
          <p:cNvPr id="280" name="" descr=""/>
          <p:cNvPicPr/>
          <p:nvPr/>
        </p:nvPicPr>
        <p:blipFill>
          <a:blip r:embed="rId1"/>
          <a:stretch/>
        </p:blipFill>
        <p:spPr>
          <a:xfrm>
            <a:off x="5508720" y="4076640"/>
            <a:ext cx="1944720" cy="1835280"/>
          </a:xfrm>
          <a:prstGeom prst="rect">
            <a:avLst/>
          </a:prstGeom>
          <a:ln w="0">
            <a:noFill/>
          </a:ln>
        </p:spPr>
      </p:pic>
      <p:pic>
        <p:nvPicPr>
          <p:cNvPr id="281" name="" descr=""/>
          <p:cNvPicPr/>
          <p:nvPr/>
        </p:nvPicPr>
        <p:blipFill>
          <a:blip r:embed="rId2"/>
          <a:stretch/>
        </p:blipFill>
        <p:spPr>
          <a:xfrm>
            <a:off x="1763640" y="2637000"/>
            <a:ext cx="2735280" cy="2663640"/>
          </a:xfrm>
          <a:prstGeom prst="rect">
            <a:avLst/>
          </a:prstGeom>
          <a:ln w="0">
            <a:noFill/>
          </a:ln>
        </p:spPr>
      </p:pic>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1">
                                  <p:stCondLst>
                                    <p:cond delay="0"/>
                                  </p:stCondLst>
                                  <p:childTnLst>
                                    <p:set>
                                      <p:cBhvr>
                                        <p:cTn id="317" dur="1" fill="hold">
                                          <p:stCondLst>
                                            <p:cond delay="499"/>
                                          </p:stCondLst>
                                        </p:cTn>
                                        <p:tgtEl>
                                          <p:spTgt spid="279"/>
                                        </p:tgtEl>
                                        <p:attrNameLst>
                                          <p:attrName>style.visibility</p:attrName>
                                        </p:attrNameLst>
                                      </p:cBhvr>
                                      <p:to>
                                        <p:strVal val="visible"/>
                                      </p:to>
                                    </p:set>
                                  </p:childTnLst>
                                </p:cTn>
                              </p:par>
                            </p:childTnLst>
                          </p:cTn>
                        </p:par>
                        <p:par>
                          <p:cTn id="318" fill="hold">
                            <p:stCondLst>
                              <p:cond delay="500"/>
                            </p:stCondLst>
                            <p:childTnLst>
                              <p:par>
                                <p:cTn id="319" nodeType="afterEffect" fill="hold" presetClass="entr" presetID="3" presetSubtype="10">
                                  <p:stCondLst>
                                    <p:cond delay="0"/>
                                  </p:stCondLst>
                                  <p:childTnLst>
                                    <p:set>
                                      <p:cBhvr>
                                        <p:cTn id="320" dur="1" fill="hold">
                                          <p:stCondLst>
                                            <p:cond delay="0"/>
                                          </p:stCondLst>
                                        </p:cTn>
                                        <p:tgtEl>
                                          <p:spTgt spid="281"/>
                                        </p:tgtEl>
                                        <p:attrNameLst>
                                          <p:attrName>style.visibility</p:attrName>
                                        </p:attrNameLst>
                                      </p:cBhvr>
                                      <p:to>
                                        <p:strVal val="visible"/>
                                      </p:to>
                                    </p:set>
                                    <p:animEffect filter="blinds(horizontal)" transition="in">
                                      <p:cBhvr additive="repl">
                                        <p:cTn id="321" dur="500"/>
                                        <p:tgtEl>
                                          <p:spTgt spid="281"/>
                                        </p:tgtEl>
                                      </p:cBhvr>
                                    </p:animEffect>
                                  </p:childTnLst>
                                </p:cTn>
                              </p:par>
                            </p:childTnLst>
                          </p:cTn>
                        </p:par>
                        <p:par>
                          <p:cTn id="322" fill="hold">
                            <p:stCondLst>
                              <p:cond delay="1000"/>
                            </p:stCondLst>
                            <p:childTnLst>
                              <p:par>
                                <p:cTn id="323" nodeType="afterEffect" fill="hold" presetClass="entr" presetID="3" presetSubtype="10">
                                  <p:stCondLst>
                                    <p:cond delay="0"/>
                                  </p:stCondLst>
                                  <p:childTnLst>
                                    <p:set>
                                      <p:cBhvr>
                                        <p:cTn id="324" dur="1" fill="hold">
                                          <p:stCondLst>
                                            <p:cond delay="0"/>
                                          </p:stCondLst>
                                        </p:cTn>
                                        <p:tgtEl>
                                          <p:spTgt spid="280"/>
                                        </p:tgtEl>
                                        <p:attrNameLst>
                                          <p:attrName>style.visibility</p:attrName>
                                        </p:attrNameLst>
                                      </p:cBhvr>
                                      <p:to>
                                        <p:strVal val="visible"/>
                                      </p:to>
                                    </p:set>
                                    <p:animEffect filter="blinds(horizontal)" transition="in">
                                      <p:cBhvr additive="repl">
                                        <p:cTn id="325"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395280" y="0"/>
            <a:ext cx="8457840" cy="6857640"/>
            <a:chOff x="395280" y="0"/>
            <a:chExt cx="8457840" cy="6857640"/>
          </a:xfrm>
        </p:grpSpPr>
        <p:sp>
          <p:nvSpPr>
            <p:cNvPr id="47" name=""/>
            <p:cNvSpPr/>
            <p:nvPr/>
          </p:nvSpPr>
          <p:spPr>
            <a:xfrm>
              <a:off x="395280" y="0"/>
              <a:ext cx="8452800" cy="6857640"/>
            </a:xfrm>
            <a:custGeom>
              <a:avLst/>
              <a:gdLst/>
              <a:ahLst/>
              <a:rect l="l" t="t" r="r" b="b"/>
              <a:pathLst>
                <a:path w="4895" h="3131">
                  <a:moveTo>
                    <a:pt x="2478" y="339"/>
                  </a:moveTo>
                  <a:lnTo>
                    <a:pt x="2489" y="331"/>
                  </a:lnTo>
                  <a:lnTo>
                    <a:pt x="2519" y="312"/>
                  </a:lnTo>
                  <a:lnTo>
                    <a:pt x="2562" y="283"/>
                  </a:lnTo>
                  <a:lnTo>
                    <a:pt x="2615" y="248"/>
                  </a:lnTo>
                  <a:lnTo>
                    <a:pt x="2680" y="210"/>
                  </a:lnTo>
                  <a:lnTo>
                    <a:pt x="2747" y="172"/>
                  </a:lnTo>
                  <a:lnTo>
                    <a:pt x="2814" y="138"/>
                  </a:lnTo>
                  <a:lnTo>
                    <a:pt x="2881" y="111"/>
                  </a:lnTo>
                  <a:lnTo>
                    <a:pt x="2946" y="89"/>
                  </a:lnTo>
                  <a:lnTo>
                    <a:pt x="3010" y="68"/>
                  </a:lnTo>
                  <a:lnTo>
                    <a:pt x="3072" y="52"/>
                  </a:lnTo>
                  <a:lnTo>
                    <a:pt x="3134" y="35"/>
                  </a:lnTo>
                  <a:lnTo>
                    <a:pt x="3193" y="22"/>
                  </a:lnTo>
                  <a:lnTo>
                    <a:pt x="3252" y="11"/>
                  </a:lnTo>
                  <a:lnTo>
                    <a:pt x="3311" y="6"/>
                  </a:lnTo>
                  <a:lnTo>
                    <a:pt x="3370" y="0"/>
                  </a:lnTo>
                  <a:lnTo>
                    <a:pt x="3429" y="0"/>
                  </a:lnTo>
                  <a:lnTo>
                    <a:pt x="3485" y="6"/>
                  </a:lnTo>
                  <a:lnTo>
                    <a:pt x="3542" y="14"/>
                  </a:lnTo>
                  <a:lnTo>
                    <a:pt x="3601" y="27"/>
                  </a:lnTo>
                  <a:lnTo>
                    <a:pt x="3657" y="46"/>
                  </a:lnTo>
                  <a:lnTo>
                    <a:pt x="3714" y="70"/>
                  </a:lnTo>
                  <a:lnTo>
                    <a:pt x="3773" y="97"/>
                  </a:lnTo>
                  <a:lnTo>
                    <a:pt x="3829" y="132"/>
                  </a:lnTo>
                  <a:lnTo>
                    <a:pt x="3878" y="167"/>
                  </a:lnTo>
                  <a:lnTo>
                    <a:pt x="3926" y="207"/>
                  </a:lnTo>
                  <a:lnTo>
                    <a:pt x="3972" y="253"/>
                  </a:lnTo>
                  <a:lnTo>
                    <a:pt x="4012" y="299"/>
                  </a:lnTo>
                  <a:lnTo>
                    <a:pt x="4047" y="339"/>
                  </a:lnTo>
                  <a:lnTo>
                    <a:pt x="4076" y="371"/>
                  </a:lnTo>
                  <a:lnTo>
                    <a:pt x="4095" y="396"/>
                  </a:lnTo>
                  <a:lnTo>
                    <a:pt x="4100" y="404"/>
                  </a:lnTo>
                  <a:lnTo>
                    <a:pt x="4576" y="439"/>
                  </a:lnTo>
                  <a:lnTo>
                    <a:pt x="4584" y="436"/>
                  </a:lnTo>
                  <a:lnTo>
                    <a:pt x="4605" y="433"/>
                  </a:lnTo>
                  <a:lnTo>
                    <a:pt x="4638" y="430"/>
                  </a:lnTo>
                  <a:lnTo>
                    <a:pt x="4675" y="428"/>
                  </a:lnTo>
                  <a:lnTo>
                    <a:pt x="4718" y="428"/>
                  </a:lnTo>
                  <a:lnTo>
                    <a:pt x="4761" y="433"/>
                  </a:lnTo>
                  <a:lnTo>
                    <a:pt x="4804" y="444"/>
                  </a:lnTo>
                  <a:lnTo>
                    <a:pt x="4839" y="463"/>
                  </a:lnTo>
                  <a:lnTo>
                    <a:pt x="4855" y="522"/>
                  </a:lnTo>
                  <a:lnTo>
                    <a:pt x="4858" y="651"/>
                  </a:lnTo>
                  <a:lnTo>
                    <a:pt x="4855" y="826"/>
                  </a:lnTo>
                  <a:lnTo>
                    <a:pt x="4847" y="1024"/>
                  </a:lnTo>
                  <a:lnTo>
                    <a:pt x="4836" y="1223"/>
                  </a:lnTo>
                  <a:lnTo>
                    <a:pt x="4825" y="1393"/>
                  </a:lnTo>
                  <a:lnTo>
                    <a:pt x="4815" y="1514"/>
                  </a:lnTo>
                  <a:lnTo>
                    <a:pt x="4812" y="1559"/>
                  </a:lnTo>
                  <a:lnTo>
                    <a:pt x="4842" y="2328"/>
                  </a:lnTo>
                  <a:lnTo>
                    <a:pt x="4895" y="2581"/>
                  </a:lnTo>
                  <a:lnTo>
                    <a:pt x="4686" y="2688"/>
                  </a:lnTo>
                  <a:lnTo>
                    <a:pt x="4726" y="2919"/>
                  </a:lnTo>
                  <a:lnTo>
                    <a:pt x="4318" y="2884"/>
                  </a:lnTo>
                  <a:lnTo>
                    <a:pt x="3612" y="2804"/>
                  </a:lnTo>
                  <a:lnTo>
                    <a:pt x="3037" y="2691"/>
                  </a:lnTo>
                  <a:lnTo>
                    <a:pt x="3034" y="2693"/>
                  </a:lnTo>
                  <a:lnTo>
                    <a:pt x="3026" y="2699"/>
                  </a:lnTo>
                  <a:lnTo>
                    <a:pt x="3010" y="2707"/>
                  </a:lnTo>
                  <a:lnTo>
                    <a:pt x="2991" y="2718"/>
                  </a:lnTo>
                  <a:lnTo>
                    <a:pt x="2970" y="2731"/>
                  </a:lnTo>
                  <a:lnTo>
                    <a:pt x="2943" y="2744"/>
                  </a:lnTo>
                  <a:lnTo>
                    <a:pt x="2913" y="2758"/>
                  </a:lnTo>
                  <a:lnTo>
                    <a:pt x="2881" y="2771"/>
                  </a:lnTo>
                  <a:lnTo>
                    <a:pt x="2846" y="2785"/>
                  </a:lnTo>
                  <a:lnTo>
                    <a:pt x="2811" y="2798"/>
                  </a:lnTo>
                  <a:lnTo>
                    <a:pt x="2774" y="2809"/>
                  </a:lnTo>
                  <a:lnTo>
                    <a:pt x="2739" y="2817"/>
                  </a:lnTo>
                  <a:lnTo>
                    <a:pt x="2701" y="2822"/>
                  </a:lnTo>
                  <a:lnTo>
                    <a:pt x="2666" y="2822"/>
                  </a:lnTo>
                  <a:lnTo>
                    <a:pt x="2631" y="2820"/>
                  </a:lnTo>
                  <a:lnTo>
                    <a:pt x="2599" y="2812"/>
                  </a:lnTo>
                  <a:lnTo>
                    <a:pt x="2575" y="2801"/>
                  </a:lnTo>
                  <a:lnTo>
                    <a:pt x="2548" y="2785"/>
                  </a:lnTo>
                  <a:lnTo>
                    <a:pt x="2521" y="2769"/>
                  </a:lnTo>
                  <a:lnTo>
                    <a:pt x="2500" y="2753"/>
                  </a:lnTo>
                  <a:lnTo>
                    <a:pt x="2478" y="2736"/>
                  </a:lnTo>
                  <a:lnTo>
                    <a:pt x="2462" y="2726"/>
                  </a:lnTo>
                  <a:lnTo>
                    <a:pt x="2449" y="2715"/>
                  </a:lnTo>
                  <a:lnTo>
                    <a:pt x="2446" y="2712"/>
                  </a:lnTo>
                  <a:lnTo>
                    <a:pt x="2438" y="2715"/>
                  </a:lnTo>
                  <a:lnTo>
                    <a:pt x="2414" y="2720"/>
                  </a:lnTo>
                  <a:lnTo>
                    <a:pt x="2374" y="2728"/>
                  </a:lnTo>
                  <a:lnTo>
                    <a:pt x="2323" y="2742"/>
                  </a:lnTo>
                  <a:lnTo>
                    <a:pt x="2258" y="2755"/>
                  </a:lnTo>
                  <a:lnTo>
                    <a:pt x="2183" y="2771"/>
                  </a:lnTo>
                  <a:lnTo>
                    <a:pt x="2102" y="2790"/>
                  </a:lnTo>
                  <a:lnTo>
                    <a:pt x="2011" y="2812"/>
                  </a:lnTo>
                  <a:lnTo>
                    <a:pt x="1917" y="2833"/>
                  </a:lnTo>
                  <a:lnTo>
                    <a:pt x="1818" y="2855"/>
                  </a:lnTo>
                  <a:lnTo>
                    <a:pt x="1716" y="2879"/>
                  </a:lnTo>
                  <a:lnTo>
                    <a:pt x="1611" y="2900"/>
                  </a:lnTo>
                  <a:lnTo>
                    <a:pt x="1509" y="2922"/>
                  </a:lnTo>
                  <a:lnTo>
                    <a:pt x="1407" y="2946"/>
                  </a:lnTo>
                  <a:lnTo>
                    <a:pt x="1307" y="2968"/>
                  </a:lnTo>
                  <a:lnTo>
                    <a:pt x="1213" y="2986"/>
                  </a:lnTo>
                  <a:lnTo>
                    <a:pt x="1162" y="2997"/>
                  </a:lnTo>
                  <a:lnTo>
                    <a:pt x="1109" y="3011"/>
                  </a:lnTo>
                  <a:lnTo>
                    <a:pt x="1058" y="3021"/>
                  </a:lnTo>
                  <a:lnTo>
                    <a:pt x="1004" y="3035"/>
                  </a:lnTo>
                  <a:lnTo>
                    <a:pt x="950" y="3048"/>
                  </a:lnTo>
                  <a:lnTo>
                    <a:pt x="899" y="3062"/>
                  </a:lnTo>
                  <a:lnTo>
                    <a:pt x="848" y="3075"/>
                  </a:lnTo>
                  <a:lnTo>
                    <a:pt x="800" y="3088"/>
                  </a:lnTo>
                  <a:lnTo>
                    <a:pt x="752" y="3099"/>
                  </a:lnTo>
                  <a:lnTo>
                    <a:pt x="709" y="3110"/>
                  </a:lnTo>
                  <a:lnTo>
                    <a:pt x="666" y="3118"/>
                  </a:lnTo>
                  <a:lnTo>
                    <a:pt x="628" y="3123"/>
                  </a:lnTo>
                  <a:lnTo>
                    <a:pt x="593" y="3129"/>
                  </a:lnTo>
                  <a:lnTo>
                    <a:pt x="561" y="3131"/>
                  </a:lnTo>
                  <a:lnTo>
                    <a:pt x="534" y="3131"/>
                  </a:lnTo>
                  <a:lnTo>
                    <a:pt x="513" y="3129"/>
                  </a:lnTo>
                  <a:lnTo>
                    <a:pt x="462" y="3075"/>
                  </a:lnTo>
                  <a:lnTo>
                    <a:pt x="416" y="2951"/>
                  </a:lnTo>
                  <a:lnTo>
                    <a:pt x="370" y="2785"/>
                  </a:lnTo>
                  <a:lnTo>
                    <a:pt x="333" y="2591"/>
                  </a:lnTo>
                  <a:lnTo>
                    <a:pt x="300" y="2403"/>
                  </a:lnTo>
                  <a:lnTo>
                    <a:pt x="276" y="2237"/>
                  </a:lnTo>
                  <a:lnTo>
                    <a:pt x="260" y="2116"/>
                  </a:lnTo>
                  <a:lnTo>
                    <a:pt x="255" y="2065"/>
                  </a:lnTo>
                  <a:lnTo>
                    <a:pt x="247" y="2003"/>
                  </a:lnTo>
                  <a:lnTo>
                    <a:pt x="236" y="1914"/>
                  </a:lnTo>
                  <a:lnTo>
                    <a:pt x="220" y="1812"/>
                  </a:lnTo>
                  <a:lnTo>
                    <a:pt x="204" y="1702"/>
                  </a:lnTo>
                  <a:lnTo>
                    <a:pt x="188" y="1600"/>
                  </a:lnTo>
                  <a:lnTo>
                    <a:pt x="177" y="1514"/>
                  </a:lnTo>
                  <a:lnTo>
                    <a:pt x="166" y="1452"/>
                  </a:lnTo>
                  <a:lnTo>
                    <a:pt x="163" y="1430"/>
                  </a:lnTo>
                  <a:lnTo>
                    <a:pt x="155" y="1401"/>
                  </a:lnTo>
                  <a:lnTo>
                    <a:pt x="131" y="1320"/>
                  </a:lnTo>
                  <a:lnTo>
                    <a:pt x="99" y="1204"/>
                  </a:lnTo>
                  <a:lnTo>
                    <a:pt x="67" y="1070"/>
                  </a:lnTo>
                  <a:lnTo>
                    <a:pt x="35" y="938"/>
                  </a:lnTo>
                  <a:lnTo>
                    <a:pt x="10" y="817"/>
                  </a:lnTo>
                  <a:lnTo>
                    <a:pt x="0" y="729"/>
                  </a:lnTo>
                  <a:lnTo>
                    <a:pt x="8" y="688"/>
                  </a:lnTo>
                  <a:lnTo>
                    <a:pt x="48" y="678"/>
                  </a:lnTo>
                  <a:lnTo>
                    <a:pt x="91" y="672"/>
                  </a:lnTo>
                  <a:lnTo>
                    <a:pt x="137" y="670"/>
                  </a:lnTo>
                  <a:lnTo>
                    <a:pt x="180" y="670"/>
                  </a:lnTo>
                  <a:lnTo>
                    <a:pt x="217" y="672"/>
                  </a:lnTo>
                  <a:lnTo>
                    <a:pt x="249" y="675"/>
                  </a:lnTo>
                  <a:lnTo>
                    <a:pt x="268" y="678"/>
                  </a:lnTo>
                  <a:lnTo>
                    <a:pt x="276" y="678"/>
                  </a:lnTo>
                  <a:lnTo>
                    <a:pt x="231" y="522"/>
                  </a:lnTo>
                  <a:lnTo>
                    <a:pt x="693" y="366"/>
                  </a:lnTo>
                  <a:lnTo>
                    <a:pt x="701" y="363"/>
                  </a:lnTo>
                  <a:lnTo>
                    <a:pt x="719" y="350"/>
                  </a:lnTo>
                  <a:lnTo>
                    <a:pt x="752" y="334"/>
                  </a:lnTo>
                  <a:lnTo>
                    <a:pt x="795" y="312"/>
                  </a:lnTo>
                  <a:lnTo>
                    <a:pt x="846" y="285"/>
                  </a:lnTo>
                  <a:lnTo>
                    <a:pt x="907" y="256"/>
                  </a:lnTo>
                  <a:lnTo>
                    <a:pt x="974" y="224"/>
                  </a:lnTo>
                  <a:lnTo>
                    <a:pt x="1050" y="191"/>
                  </a:lnTo>
                  <a:lnTo>
                    <a:pt x="1128" y="159"/>
                  </a:lnTo>
                  <a:lnTo>
                    <a:pt x="1211" y="129"/>
                  </a:lnTo>
                  <a:lnTo>
                    <a:pt x="1297" y="100"/>
                  </a:lnTo>
                  <a:lnTo>
                    <a:pt x="1383" y="76"/>
                  </a:lnTo>
                  <a:lnTo>
                    <a:pt x="1471" y="54"/>
                  </a:lnTo>
                  <a:lnTo>
                    <a:pt x="1557" y="38"/>
                  </a:lnTo>
                  <a:lnTo>
                    <a:pt x="1643" y="27"/>
                  </a:lnTo>
                  <a:lnTo>
                    <a:pt x="1724" y="25"/>
                  </a:lnTo>
                  <a:lnTo>
                    <a:pt x="1850" y="30"/>
                  </a:lnTo>
                  <a:lnTo>
                    <a:pt x="1960" y="43"/>
                  </a:lnTo>
                  <a:lnTo>
                    <a:pt x="2057" y="60"/>
                  </a:lnTo>
                  <a:lnTo>
                    <a:pt x="2140" y="81"/>
                  </a:lnTo>
                  <a:lnTo>
                    <a:pt x="2213" y="105"/>
                  </a:lnTo>
                  <a:lnTo>
                    <a:pt x="2274" y="132"/>
                  </a:lnTo>
                  <a:lnTo>
                    <a:pt x="2325" y="159"/>
                  </a:lnTo>
                  <a:lnTo>
                    <a:pt x="2368" y="189"/>
                  </a:lnTo>
                  <a:lnTo>
                    <a:pt x="2400" y="218"/>
                  </a:lnTo>
                  <a:lnTo>
                    <a:pt x="2427" y="245"/>
                  </a:lnTo>
                  <a:lnTo>
                    <a:pt x="2446" y="269"/>
                  </a:lnTo>
                  <a:lnTo>
                    <a:pt x="2460" y="293"/>
                  </a:lnTo>
                  <a:lnTo>
                    <a:pt x="2470" y="312"/>
                  </a:lnTo>
                  <a:lnTo>
                    <a:pt x="2476" y="326"/>
                  </a:lnTo>
                  <a:lnTo>
                    <a:pt x="2478" y="336"/>
                  </a:lnTo>
                  <a:lnTo>
                    <a:pt x="2478"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492600" y="82800"/>
              <a:ext cx="2360520" cy="5940360"/>
            </a:xfrm>
            <a:custGeom>
              <a:avLst/>
              <a:gdLst/>
              <a:ahLst/>
              <a:rect l="l" t="t" r="r" b="b"/>
              <a:pathLst>
                <a:path w="1367" h="2712">
                  <a:moveTo>
                    <a:pt x="1141" y="2712"/>
                  </a:moveTo>
                  <a:lnTo>
                    <a:pt x="1354" y="2588"/>
                  </a:lnTo>
                  <a:lnTo>
                    <a:pt x="1332" y="1529"/>
                  </a:lnTo>
                  <a:lnTo>
                    <a:pt x="1367" y="390"/>
                  </a:lnTo>
                  <a:lnTo>
                    <a:pt x="859" y="374"/>
                  </a:lnTo>
                  <a:lnTo>
                    <a:pt x="0" y="0"/>
                  </a:lnTo>
                  <a:lnTo>
                    <a:pt x="1096" y="1607"/>
                  </a:lnTo>
                  <a:lnTo>
                    <a:pt x="1141" y="2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55760" y="1101600"/>
              <a:ext cx="4228560" cy="606240"/>
            </a:xfrm>
            <a:custGeom>
              <a:avLst/>
              <a:gdLst/>
              <a:ahLst/>
              <a:rect l="l" t="t" r="r" b="b"/>
              <a:pathLst>
                <a:path w="2449" h="277">
                  <a:moveTo>
                    <a:pt x="37" y="258"/>
                  </a:moveTo>
                  <a:lnTo>
                    <a:pt x="21" y="277"/>
                  </a:lnTo>
                  <a:lnTo>
                    <a:pt x="2449" y="32"/>
                  </a:lnTo>
                  <a:lnTo>
                    <a:pt x="2449" y="0"/>
                  </a:lnTo>
                  <a:lnTo>
                    <a:pt x="21" y="245"/>
                  </a:lnTo>
                  <a:lnTo>
                    <a:pt x="5" y="263"/>
                  </a:lnTo>
                  <a:lnTo>
                    <a:pt x="21" y="245"/>
                  </a:lnTo>
                  <a:lnTo>
                    <a:pt x="0" y="245"/>
                  </a:lnTo>
                  <a:lnTo>
                    <a:pt x="5" y="263"/>
                  </a:lnTo>
                  <a:lnTo>
                    <a:pt x="3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64400" y="1666800"/>
              <a:ext cx="819720" cy="5138280"/>
            </a:xfrm>
            <a:custGeom>
              <a:avLst/>
              <a:gdLst/>
              <a:ahLst/>
              <a:rect l="l" t="t" r="r" b="b"/>
              <a:pathLst>
                <a:path w="475" h="2346">
                  <a:moveTo>
                    <a:pt x="456" y="2309"/>
                  </a:moveTo>
                  <a:lnTo>
                    <a:pt x="475" y="2322"/>
                  </a:lnTo>
                  <a:lnTo>
                    <a:pt x="32" y="0"/>
                  </a:lnTo>
                  <a:lnTo>
                    <a:pt x="0" y="5"/>
                  </a:lnTo>
                  <a:lnTo>
                    <a:pt x="443" y="2327"/>
                  </a:lnTo>
                  <a:lnTo>
                    <a:pt x="462" y="2341"/>
                  </a:lnTo>
                  <a:lnTo>
                    <a:pt x="443" y="2327"/>
                  </a:lnTo>
                  <a:lnTo>
                    <a:pt x="446" y="2346"/>
                  </a:lnTo>
                  <a:lnTo>
                    <a:pt x="462" y="2341"/>
                  </a:lnTo>
                  <a:lnTo>
                    <a:pt x="456" y="2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51360" y="5821560"/>
              <a:ext cx="3465720" cy="972360"/>
            </a:xfrm>
            <a:custGeom>
              <a:avLst/>
              <a:gdLst/>
              <a:ahLst/>
              <a:rect l="l" t="t" r="r" b="b"/>
              <a:pathLst>
                <a:path w="2007" h="444">
                  <a:moveTo>
                    <a:pt x="2007" y="9"/>
                  </a:moveTo>
                  <a:lnTo>
                    <a:pt x="1990" y="3"/>
                  </a:lnTo>
                  <a:lnTo>
                    <a:pt x="0" y="412"/>
                  </a:lnTo>
                  <a:lnTo>
                    <a:pt x="6" y="444"/>
                  </a:lnTo>
                  <a:lnTo>
                    <a:pt x="1996" y="35"/>
                  </a:lnTo>
                  <a:lnTo>
                    <a:pt x="1980" y="30"/>
                  </a:lnTo>
                  <a:lnTo>
                    <a:pt x="2007" y="9"/>
                  </a:lnTo>
                  <a:lnTo>
                    <a:pt x="1998" y="0"/>
                  </a:lnTo>
                  <a:lnTo>
                    <a:pt x="1990" y="3"/>
                  </a:lnTo>
                  <a:lnTo>
                    <a:pt x="20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671000" y="5841360"/>
              <a:ext cx="184320" cy="244800"/>
            </a:xfrm>
            <a:custGeom>
              <a:avLst/>
              <a:gdLst/>
              <a:ahLst/>
              <a:rect l="l" t="t" r="r" b="b"/>
              <a:pathLst>
                <a:path w="107" h="112">
                  <a:moveTo>
                    <a:pt x="94" y="75"/>
                  </a:moveTo>
                  <a:lnTo>
                    <a:pt x="107" y="83"/>
                  </a:lnTo>
                  <a:lnTo>
                    <a:pt x="27" y="0"/>
                  </a:lnTo>
                  <a:lnTo>
                    <a:pt x="0" y="21"/>
                  </a:lnTo>
                  <a:lnTo>
                    <a:pt x="80" y="104"/>
                  </a:lnTo>
                  <a:lnTo>
                    <a:pt x="94" y="112"/>
                  </a:lnTo>
                  <a:lnTo>
                    <a:pt x="80" y="104"/>
                  </a:lnTo>
                  <a:lnTo>
                    <a:pt x="88" y="110"/>
                  </a:lnTo>
                  <a:lnTo>
                    <a:pt x="94" y="112"/>
                  </a:lnTo>
                  <a:lnTo>
                    <a:pt x="9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33000" y="6005520"/>
              <a:ext cx="443520" cy="87840"/>
            </a:xfrm>
            <a:custGeom>
              <a:avLst/>
              <a:gdLst/>
              <a:ahLst/>
              <a:rect l="l" t="t" r="r" b="b"/>
              <a:pathLst>
                <a:path w="257" h="40">
                  <a:moveTo>
                    <a:pt x="241" y="8"/>
                  </a:moveTo>
                  <a:lnTo>
                    <a:pt x="249" y="2"/>
                  </a:lnTo>
                  <a:lnTo>
                    <a:pt x="0" y="0"/>
                  </a:lnTo>
                  <a:lnTo>
                    <a:pt x="0" y="37"/>
                  </a:lnTo>
                  <a:lnTo>
                    <a:pt x="249" y="40"/>
                  </a:lnTo>
                  <a:lnTo>
                    <a:pt x="257" y="35"/>
                  </a:lnTo>
                  <a:lnTo>
                    <a:pt x="249" y="40"/>
                  </a:lnTo>
                  <a:lnTo>
                    <a:pt x="255" y="40"/>
                  </a:lnTo>
                  <a:lnTo>
                    <a:pt x="257" y="35"/>
                  </a:lnTo>
                  <a:lnTo>
                    <a:pt x="241"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6" name=""/>
            <p:cNvSpPr/>
            <p:nvPr/>
          </p:nvSpPr>
          <p:spPr>
            <a:xfrm>
              <a:off x="5249520" y="5781960"/>
              <a:ext cx="296640" cy="300240"/>
            </a:xfrm>
            <a:custGeom>
              <a:avLst/>
              <a:gdLst/>
              <a:ahLst/>
              <a:rect l="l" t="t" r="r" b="b"/>
              <a:pathLst>
                <a:path w="172" h="137">
                  <a:moveTo>
                    <a:pt x="164" y="2"/>
                  </a:moveTo>
                  <a:lnTo>
                    <a:pt x="156" y="5"/>
                  </a:lnTo>
                  <a:lnTo>
                    <a:pt x="0" y="110"/>
                  </a:lnTo>
                  <a:lnTo>
                    <a:pt x="16" y="137"/>
                  </a:lnTo>
                  <a:lnTo>
                    <a:pt x="172" y="32"/>
                  </a:lnTo>
                  <a:lnTo>
                    <a:pt x="164" y="35"/>
                  </a:lnTo>
                  <a:lnTo>
                    <a:pt x="164" y="2"/>
                  </a:lnTo>
                  <a:lnTo>
                    <a:pt x="161" y="0"/>
                  </a:lnTo>
                  <a:lnTo>
                    <a:pt x="156" y="5"/>
                  </a:lnTo>
                  <a:lnTo>
                    <a:pt x="16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532480" y="5786280"/>
              <a:ext cx="2995920" cy="543240"/>
            </a:xfrm>
            <a:custGeom>
              <a:avLst/>
              <a:gdLst/>
              <a:ahLst/>
              <a:rect l="l" t="t" r="r" b="b"/>
              <a:pathLst>
                <a:path w="1735" h="248">
                  <a:moveTo>
                    <a:pt x="1700" y="229"/>
                  </a:moveTo>
                  <a:lnTo>
                    <a:pt x="1716" y="213"/>
                  </a:lnTo>
                  <a:lnTo>
                    <a:pt x="0" y="0"/>
                  </a:lnTo>
                  <a:lnTo>
                    <a:pt x="0" y="33"/>
                  </a:lnTo>
                  <a:lnTo>
                    <a:pt x="1716" y="245"/>
                  </a:lnTo>
                  <a:lnTo>
                    <a:pt x="1732" y="229"/>
                  </a:lnTo>
                  <a:lnTo>
                    <a:pt x="1716" y="245"/>
                  </a:lnTo>
                  <a:lnTo>
                    <a:pt x="1735" y="248"/>
                  </a:lnTo>
                  <a:lnTo>
                    <a:pt x="1732" y="229"/>
                  </a:lnTo>
                  <a:lnTo>
                    <a:pt x="170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236800" y="1195920"/>
              <a:ext cx="286560" cy="5091840"/>
            </a:xfrm>
            <a:custGeom>
              <a:avLst/>
              <a:gdLst/>
              <a:ahLst/>
              <a:rect l="l" t="t" r="r" b="b"/>
              <a:pathLst>
                <a:path w="166" h="2325">
                  <a:moveTo>
                    <a:pt x="16" y="32"/>
                  </a:moveTo>
                  <a:lnTo>
                    <a:pt x="0" y="16"/>
                  </a:lnTo>
                  <a:lnTo>
                    <a:pt x="134" y="2325"/>
                  </a:lnTo>
                  <a:lnTo>
                    <a:pt x="166" y="2325"/>
                  </a:lnTo>
                  <a:lnTo>
                    <a:pt x="32" y="16"/>
                  </a:lnTo>
                  <a:lnTo>
                    <a:pt x="16" y="0"/>
                  </a:lnTo>
                  <a:lnTo>
                    <a:pt x="32" y="16"/>
                  </a:lnTo>
                  <a:lnTo>
                    <a:pt x="32" y="0"/>
                  </a:lnTo>
                  <a:lnTo>
                    <a:pt x="16" y="0"/>
                  </a:lnTo>
                  <a:lnTo>
                    <a:pt x="1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684680" y="1101600"/>
              <a:ext cx="3579480" cy="164160"/>
            </a:xfrm>
            <a:custGeom>
              <a:avLst/>
              <a:gdLst/>
              <a:ahLst/>
              <a:rect l="l" t="t" r="r" b="b"/>
              <a:pathLst>
                <a:path w="2073" h="75">
                  <a:moveTo>
                    <a:pt x="0" y="32"/>
                  </a:moveTo>
                  <a:lnTo>
                    <a:pt x="0" y="32"/>
                  </a:lnTo>
                  <a:lnTo>
                    <a:pt x="2073" y="75"/>
                  </a:lnTo>
                  <a:lnTo>
                    <a:pt x="2073" y="43"/>
                  </a:lnTo>
                  <a:lnTo>
                    <a:pt x="0"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19640" y="501480"/>
              <a:ext cx="7734240" cy="6033600"/>
            </a:xfrm>
            <a:custGeom>
              <a:avLst/>
              <a:gdLst/>
              <a:ahLst/>
              <a:rect l="l" t="t" r="r" b="b"/>
              <a:pathLst>
                <a:path w="4479" h="2755">
                  <a:moveTo>
                    <a:pt x="172" y="446"/>
                  </a:moveTo>
                  <a:lnTo>
                    <a:pt x="0" y="680"/>
                  </a:lnTo>
                  <a:lnTo>
                    <a:pt x="397" y="2755"/>
                  </a:lnTo>
                  <a:lnTo>
                    <a:pt x="2204" y="2338"/>
                  </a:lnTo>
                  <a:lnTo>
                    <a:pt x="2776" y="2338"/>
                  </a:lnTo>
                  <a:lnTo>
                    <a:pt x="3770" y="2467"/>
                  </a:lnTo>
                  <a:lnTo>
                    <a:pt x="4479" y="2537"/>
                  </a:lnTo>
                  <a:lnTo>
                    <a:pt x="4460" y="395"/>
                  </a:lnTo>
                  <a:lnTo>
                    <a:pt x="4452" y="390"/>
                  </a:lnTo>
                  <a:lnTo>
                    <a:pt x="4425" y="376"/>
                  </a:lnTo>
                  <a:lnTo>
                    <a:pt x="4388" y="357"/>
                  </a:lnTo>
                  <a:lnTo>
                    <a:pt x="4334" y="330"/>
                  </a:lnTo>
                  <a:lnTo>
                    <a:pt x="4267" y="298"/>
                  </a:lnTo>
                  <a:lnTo>
                    <a:pt x="4192" y="263"/>
                  </a:lnTo>
                  <a:lnTo>
                    <a:pt x="4106" y="228"/>
                  </a:lnTo>
                  <a:lnTo>
                    <a:pt x="4014" y="191"/>
                  </a:lnTo>
                  <a:lnTo>
                    <a:pt x="3915" y="153"/>
                  </a:lnTo>
                  <a:lnTo>
                    <a:pt x="3810" y="118"/>
                  </a:lnTo>
                  <a:lnTo>
                    <a:pt x="3706" y="83"/>
                  </a:lnTo>
                  <a:lnTo>
                    <a:pt x="3598" y="56"/>
                  </a:lnTo>
                  <a:lnTo>
                    <a:pt x="3488" y="32"/>
                  </a:lnTo>
                  <a:lnTo>
                    <a:pt x="3381" y="16"/>
                  </a:lnTo>
                  <a:lnTo>
                    <a:pt x="3276" y="8"/>
                  </a:lnTo>
                  <a:lnTo>
                    <a:pt x="3177" y="11"/>
                  </a:lnTo>
                  <a:lnTo>
                    <a:pt x="3107" y="16"/>
                  </a:lnTo>
                  <a:lnTo>
                    <a:pt x="3034" y="29"/>
                  </a:lnTo>
                  <a:lnTo>
                    <a:pt x="2962" y="46"/>
                  </a:lnTo>
                  <a:lnTo>
                    <a:pt x="2887" y="64"/>
                  </a:lnTo>
                  <a:lnTo>
                    <a:pt x="2814" y="86"/>
                  </a:lnTo>
                  <a:lnTo>
                    <a:pt x="2739" y="107"/>
                  </a:lnTo>
                  <a:lnTo>
                    <a:pt x="2669" y="134"/>
                  </a:lnTo>
                  <a:lnTo>
                    <a:pt x="2602" y="158"/>
                  </a:lnTo>
                  <a:lnTo>
                    <a:pt x="2537" y="183"/>
                  </a:lnTo>
                  <a:lnTo>
                    <a:pt x="2478" y="207"/>
                  </a:lnTo>
                  <a:lnTo>
                    <a:pt x="2427" y="228"/>
                  </a:lnTo>
                  <a:lnTo>
                    <a:pt x="2382" y="250"/>
                  </a:lnTo>
                  <a:lnTo>
                    <a:pt x="2347" y="266"/>
                  </a:lnTo>
                  <a:lnTo>
                    <a:pt x="2320" y="279"/>
                  </a:lnTo>
                  <a:lnTo>
                    <a:pt x="2301" y="287"/>
                  </a:lnTo>
                  <a:lnTo>
                    <a:pt x="2296" y="290"/>
                  </a:lnTo>
                  <a:lnTo>
                    <a:pt x="2288" y="287"/>
                  </a:lnTo>
                  <a:lnTo>
                    <a:pt x="2266" y="277"/>
                  </a:lnTo>
                  <a:lnTo>
                    <a:pt x="2231" y="261"/>
                  </a:lnTo>
                  <a:lnTo>
                    <a:pt x="2183" y="239"/>
                  </a:lnTo>
                  <a:lnTo>
                    <a:pt x="2124" y="215"/>
                  </a:lnTo>
                  <a:lnTo>
                    <a:pt x="2057" y="188"/>
                  </a:lnTo>
                  <a:lnTo>
                    <a:pt x="1982" y="158"/>
                  </a:lnTo>
                  <a:lnTo>
                    <a:pt x="1898" y="129"/>
                  </a:lnTo>
                  <a:lnTo>
                    <a:pt x="1812" y="102"/>
                  </a:lnTo>
                  <a:lnTo>
                    <a:pt x="1721" y="75"/>
                  </a:lnTo>
                  <a:lnTo>
                    <a:pt x="1624" y="51"/>
                  </a:lnTo>
                  <a:lnTo>
                    <a:pt x="1530" y="29"/>
                  </a:lnTo>
                  <a:lnTo>
                    <a:pt x="1434" y="13"/>
                  </a:lnTo>
                  <a:lnTo>
                    <a:pt x="1340" y="3"/>
                  </a:lnTo>
                  <a:lnTo>
                    <a:pt x="1248" y="0"/>
                  </a:lnTo>
                  <a:lnTo>
                    <a:pt x="1160" y="5"/>
                  </a:lnTo>
                  <a:lnTo>
                    <a:pt x="1079" y="16"/>
                  </a:lnTo>
                  <a:lnTo>
                    <a:pt x="996" y="38"/>
                  </a:lnTo>
                  <a:lnTo>
                    <a:pt x="913" y="62"/>
                  </a:lnTo>
                  <a:lnTo>
                    <a:pt x="829" y="91"/>
                  </a:lnTo>
                  <a:lnTo>
                    <a:pt x="746" y="126"/>
                  </a:lnTo>
                  <a:lnTo>
                    <a:pt x="663" y="164"/>
                  </a:lnTo>
                  <a:lnTo>
                    <a:pt x="585" y="201"/>
                  </a:lnTo>
                  <a:lnTo>
                    <a:pt x="510" y="242"/>
                  </a:lnTo>
                  <a:lnTo>
                    <a:pt x="437" y="279"/>
                  </a:lnTo>
                  <a:lnTo>
                    <a:pt x="373" y="317"/>
                  </a:lnTo>
                  <a:lnTo>
                    <a:pt x="317" y="352"/>
                  </a:lnTo>
                  <a:lnTo>
                    <a:pt x="268" y="384"/>
                  </a:lnTo>
                  <a:lnTo>
                    <a:pt x="228" y="408"/>
                  </a:lnTo>
                  <a:lnTo>
                    <a:pt x="196" y="430"/>
                  </a:lnTo>
                  <a:lnTo>
                    <a:pt x="177" y="441"/>
                  </a:lnTo>
                  <a:lnTo>
                    <a:pt x="172"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92280" y="1460520"/>
              <a:ext cx="346680" cy="547560"/>
            </a:xfrm>
            <a:custGeom>
              <a:avLst/>
              <a:gdLst/>
              <a:ahLst/>
              <a:rect l="l" t="t" r="r" b="b"/>
              <a:pathLst>
                <a:path w="201" h="250">
                  <a:moveTo>
                    <a:pt x="32" y="239"/>
                  </a:moveTo>
                  <a:lnTo>
                    <a:pt x="29" y="250"/>
                  </a:lnTo>
                  <a:lnTo>
                    <a:pt x="201" y="16"/>
                  </a:lnTo>
                  <a:lnTo>
                    <a:pt x="174" y="0"/>
                  </a:lnTo>
                  <a:lnTo>
                    <a:pt x="2" y="234"/>
                  </a:lnTo>
                  <a:lnTo>
                    <a:pt x="0" y="245"/>
                  </a:lnTo>
                  <a:lnTo>
                    <a:pt x="2" y="234"/>
                  </a:lnTo>
                  <a:lnTo>
                    <a:pt x="0" y="239"/>
                  </a:lnTo>
                  <a:lnTo>
                    <a:pt x="0" y="245"/>
                  </a:lnTo>
                  <a:lnTo>
                    <a:pt x="32"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92280" y="1983960"/>
              <a:ext cx="740160" cy="4590720"/>
            </a:xfrm>
            <a:custGeom>
              <a:avLst/>
              <a:gdLst/>
              <a:ahLst/>
              <a:rect l="l" t="t" r="r" b="b"/>
              <a:pathLst>
                <a:path w="429" h="2096">
                  <a:moveTo>
                    <a:pt x="410" y="2062"/>
                  </a:moveTo>
                  <a:lnTo>
                    <a:pt x="429" y="2075"/>
                  </a:lnTo>
                  <a:lnTo>
                    <a:pt x="32" y="0"/>
                  </a:lnTo>
                  <a:lnTo>
                    <a:pt x="0" y="6"/>
                  </a:lnTo>
                  <a:lnTo>
                    <a:pt x="397" y="2080"/>
                  </a:lnTo>
                  <a:lnTo>
                    <a:pt x="416" y="2094"/>
                  </a:lnTo>
                  <a:lnTo>
                    <a:pt x="397" y="2080"/>
                  </a:lnTo>
                  <a:lnTo>
                    <a:pt x="400" y="2096"/>
                  </a:lnTo>
                  <a:lnTo>
                    <a:pt x="416" y="2094"/>
                  </a:lnTo>
                  <a:lnTo>
                    <a:pt x="41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400400" y="5587200"/>
              <a:ext cx="3130200" cy="983160"/>
            </a:xfrm>
            <a:custGeom>
              <a:avLst/>
              <a:gdLst/>
              <a:ahLst/>
              <a:rect l="l" t="t" r="r" b="b"/>
              <a:pathLst>
                <a:path w="1813" h="449">
                  <a:moveTo>
                    <a:pt x="1810" y="0"/>
                  </a:moveTo>
                  <a:lnTo>
                    <a:pt x="1808" y="0"/>
                  </a:lnTo>
                  <a:lnTo>
                    <a:pt x="0" y="417"/>
                  </a:lnTo>
                  <a:lnTo>
                    <a:pt x="6" y="449"/>
                  </a:lnTo>
                  <a:lnTo>
                    <a:pt x="1813" y="32"/>
                  </a:lnTo>
                  <a:lnTo>
                    <a:pt x="1810" y="32"/>
                  </a:lnTo>
                  <a:lnTo>
                    <a:pt x="1810" y="0"/>
                  </a:lnTo>
                  <a:lnTo>
                    <a:pt x="1810" y="0"/>
                  </a:lnTo>
                  <a:lnTo>
                    <a:pt x="1808" y="0"/>
                  </a:lnTo>
                  <a:lnTo>
                    <a:pt x="18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25560" y="5587200"/>
              <a:ext cx="987840" cy="69840"/>
            </a:xfrm>
            <a:custGeom>
              <a:avLst/>
              <a:gdLst/>
              <a:ahLst/>
              <a:rect l="l" t="t" r="r" b="b"/>
              <a:pathLst>
                <a:path w="572" h="32">
                  <a:moveTo>
                    <a:pt x="572" y="0"/>
                  </a:moveTo>
                  <a:lnTo>
                    <a:pt x="572" y="0"/>
                  </a:lnTo>
                  <a:lnTo>
                    <a:pt x="0" y="0"/>
                  </a:lnTo>
                  <a:lnTo>
                    <a:pt x="0" y="32"/>
                  </a:lnTo>
                  <a:lnTo>
                    <a:pt x="572" y="32"/>
                  </a:lnTo>
                  <a:lnTo>
                    <a:pt x="572" y="32"/>
                  </a:lnTo>
                  <a:lnTo>
                    <a:pt x="5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 name=""/>
            <p:cNvSpPr/>
            <p:nvPr/>
          </p:nvSpPr>
          <p:spPr>
            <a:xfrm>
              <a:off x="5513760" y="5587200"/>
              <a:ext cx="1716120" cy="352440"/>
            </a:xfrm>
            <a:custGeom>
              <a:avLst/>
              <a:gdLst/>
              <a:ahLst/>
              <a:rect l="l" t="t" r="r" b="b"/>
              <a:pathLst>
                <a:path w="994" h="161">
                  <a:moveTo>
                    <a:pt x="994" y="129"/>
                  </a:moveTo>
                  <a:lnTo>
                    <a:pt x="994" y="129"/>
                  </a:lnTo>
                  <a:lnTo>
                    <a:pt x="0" y="0"/>
                  </a:lnTo>
                  <a:lnTo>
                    <a:pt x="0" y="32"/>
                  </a:lnTo>
                  <a:lnTo>
                    <a:pt x="994" y="161"/>
                  </a:lnTo>
                  <a:lnTo>
                    <a:pt x="994" y="161"/>
                  </a:lnTo>
                  <a:lnTo>
                    <a:pt x="99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230240" y="5869800"/>
              <a:ext cx="1251720" cy="229680"/>
            </a:xfrm>
            <a:custGeom>
              <a:avLst/>
              <a:gdLst/>
              <a:ahLst/>
              <a:rect l="l" t="t" r="r" b="b"/>
              <a:pathLst>
                <a:path w="725" h="105">
                  <a:moveTo>
                    <a:pt x="693" y="86"/>
                  </a:moveTo>
                  <a:lnTo>
                    <a:pt x="709" y="70"/>
                  </a:lnTo>
                  <a:lnTo>
                    <a:pt x="0" y="0"/>
                  </a:lnTo>
                  <a:lnTo>
                    <a:pt x="0" y="32"/>
                  </a:lnTo>
                  <a:lnTo>
                    <a:pt x="709" y="102"/>
                  </a:lnTo>
                  <a:lnTo>
                    <a:pt x="725" y="86"/>
                  </a:lnTo>
                  <a:lnTo>
                    <a:pt x="709" y="102"/>
                  </a:lnTo>
                  <a:lnTo>
                    <a:pt x="725" y="105"/>
                  </a:lnTo>
                  <a:lnTo>
                    <a:pt x="725" y="86"/>
                  </a:lnTo>
                  <a:lnTo>
                    <a:pt x="69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393760" y="1337760"/>
              <a:ext cx="87840" cy="4719960"/>
            </a:xfrm>
            <a:custGeom>
              <a:avLst/>
              <a:gdLst/>
              <a:ahLst/>
              <a:rect l="l" t="t" r="r" b="b"/>
              <a:pathLst>
                <a:path w="51" h="2155">
                  <a:moveTo>
                    <a:pt x="8" y="26"/>
                  </a:moveTo>
                  <a:lnTo>
                    <a:pt x="0" y="13"/>
                  </a:lnTo>
                  <a:lnTo>
                    <a:pt x="19" y="2155"/>
                  </a:lnTo>
                  <a:lnTo>
                    <a:pt x="51" y="2155"/>
                  </a:lnTo>
                  <a:lnTo>
                    <a:pt x="32" y="13"/>
                  </a:lnTo>
                  <a:lnTo>
                    <a:pt x="24" y="0"/>
                  </a:lnTo>
                  <a:lnTo>
                    <a:pt x="32" y="13"/>
                  </a:lnTo>
                  <a:lnTo>
                    <a:pt x="32" y="5"/>
                  </a:lnTo>
                  <a:lnTo>
                    <a:pt x="24" y="0"/>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206040" y="483480"/>
              <a:ext cx="2229120" cy="911160"/>
            </a:xfrm>
            <a:custGeom>
              <a:avLst/>
              <a:gdLst/>
              <a:ahLst/>
              <a:rect l="l" t="t" r="r" b="b"/>
              <a:pathLst>
                <a:path w="1291" h="416">
                  <a:moveTo>
                    <a:pt x="0" y="35"/>
                  </a:moveTo>
                  <a:lnTo>
                    <a:pt x="0" y="35"/>
                  </a:lnTo>
                  <a:lnTo>
                    <a:pt x="99" y="32"/>
                  </a:lnTo>
                  <a:lnTo>
                    <a:pt x="204" y="40"/>
                  </a:lnTo>
                  <a:lnTo>
                    <a:pt x="308" y="56"/>
                  </a:lnTo>
                  <a:lnTo>
                    <a:pt x="419" y="80"/>
                  </a:lnTo>
                  <a:lnTo>
                    <a:pt x="526" y="107"/>
                  </a:lnTo>
                  <a:lnTo>
                    <a:pt x="628" y="142"/>
                  </a:lnTo>
                  <a:lnTo>
                    <a:pt x="733" y="177"/>
                  </a:lnTo>
                  <a:lnTo>
                    <a:pt x="832" y="215"/>
                  </a:lnTo>
                  <a:lnTo>
                    <a:pt x="923" y="250"/>
                  </a:lnTo>
                  <a:lnTo>
                    <a:pt x="1009" y="285"/>
                  </a:lnTo>
                  <a:lnTo>
                    <a:pt x="1085" y="320"/>
                  </a:lnTo>
                  <a:lnTo>
                    <a:pt x="1152" y="352"/>
                  </a:lnTo>
                  <a:lnTo>
                    <a:pt x="1205" y="379"/>
                  </a:lnTo>
                  <a:lnTo>
                    <a:pt x="1243" y="398"/>
                  </a:lnTo>
                  <a:lnTo>
                    <a:pt x="1267" y="411"/>
                  </a:lnTo>
                  <a:lnTo>
                    <a:pt x="1275" y="416"/>
                  </a:lnTo>
                  <a:lnTo>
                    <a:pt x="1291" y="390"/>
                  </a:lnTo>
                  <a:lnTo>
                    <a:pt x="1283" y="384"/>
                  </a:lnTo>
                  <a:lnTo>
                    <a:pt x="1254" y="371"/>
                  </a:lnTo>
                  <a:lnTo>
                    <a:pt x="1216" y="352"/>
                  </a:lnTo>
                  <a:lnTo>
                    <a:pt x="1162" y="325"/>
                  </a:lnTo>
                  <a:lnTo>
                    <a:pt x="1095" y="293"/>
                  </a:lnTo>
                  <a:lnTo>
                    <a:pt x="1020" y="258"/>
                  </a:lnTo>
                  <a:lnTo>
                    <a:pt x="934" y="223"/>
                  </a:lnTo>
                  <a:lnTo>
                    <a:pt x="843" y="183"/>
                  </a:lnTo>
                  <a:lnTo>
                    <a:pt x="743" y="145"/>
                  </a:lnTo>
                  <a:lnTo>
                    <a:pt x="639" y="110"/>
                  </a:lnTo>
                  <a:lnTo>
                    <a:pt x="531" y="75"/>
                  </a:lnTo>
                  <a:lnTo>
                    <a:pt x="424" y="48"/>
                  </a:lnTo>
                  <a:lnTo>
                    <a:pt x="314" y="24"/>
                  </a:lnTo>
                  <a:lnTo>
                    <a:pt x="204" y="8"/>
                  </a:lnTo>
                  <a:lnTo>
                    <a:pt x="99" y="0"/>
                  </a:lnTo>
                  <a:lnTo>
                    <a:pt x="0" y="3"/>
                  </a:lnTo>
                  <a:lnTo>
                    <a:pt x="0" y="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674240" y="490680"/>
              <a:ext cx="1531800" cy="687240"/>
            </a:xfrm>
            <a:custGeom>
              <a:avLst/>
              <a:gdLst/>
              <a:ahLst/>
              <a:rect l="l" t="t" r="r" b="b"/>
              <a:pathLst>
                <a:path w="887" h="314">
                  <a:moveTo>
                    <a:pt x="0" y="309"/>
                  </a:moveTo>
                  <a:lnTo>
                    <a:pt x="11" y="309"/>
                  </a:lnTo>
                  <a:lnTo>
                    <a:pt x="16" y="306"/>
                  </a:lnTo>
                  <a:lnTo>
                    <a:pt x="35" y="298"/>
                  </a:lnTo>
                  <a:lnTo>
                    <a:pt x="62" y="284"/>
                  </a:lnTo>
                  <a:lnTo>
                    <a:pt x="97" y="268"/>
                  </a:lnTo>
                  <a:lnTo>
                    <a:pt x="143" y="247"/>
                  </a:lnTo>
                  <a:lnTo>
                    <a:pt x="194" y="225"/>
                  </a:lnTo>
                  <a:lnTo>
                    <a:pt x="253" y="204"/>
                  </a:lnTo>
                  <a:lnTo>
                    <a:pt x="317" y="180"/>
                  </a:lnTo>
                  <a:lnTo>
                    <a:pt x="384" y="155"/>
                  </a:lnTo>
                  <a:lnTo>
                    <a:pt x="454" y="129"/>
                  </a:lnTo>
                  <a:lnTo>
                    <a:pt x="527" y="107"/>
                  </a:lnTo>
                  <a:lnTo>
                    <a:pt x="599" y="86"/>
                  </a:lnTo>
                  <a:lnTo>
                    <a:pt x="674" y="67"/>
                  </a:lnTo>
                  <a:lnTo>
                    <a:pt x="747" y="51"/>
                  </a:lnTo>
                  <a:lnTo>
                    <a:pt x="817" y="37"/>
                  </a:lnTo>
                  <a:lnTo>
                    <a:pt x="887" y="32"/>
                  </a:lnTo>
                  <a:lnTo>
                    <a:pt x="887" y="0"/>
                  </a:lnTo>
                  <a:lnTo>
                    <a:pt x="817" y="5"/>
                  </a:lnTo>
                  <a:lnTo>
                    <a:pt x="742" y="18"/>
                  </a:lnTo>
                  <a:lnTo>
                    <a:pt x="669" y="34"/>
                  </a:lnTo>
                  <a:lnTo>
                    <a:pt x="594" y="53"/>
                  </a:lnTo>
                  <a:lnTo>
                    <a:pt x="521" y="75"/>
                  </a:lnTo>
                  <a:lnTo>
                    <a:pt x="443" y="96"/>
                  </a:lnTo>
                  <a:lnTo>
                    <a:pt x="374" y="123"/>
                  </a:lnTo>
                  <a:lnTo>
                    <a:pt x="307" y="147"/>
                  </a:lnTo>
                  <a:lnTo>
                    <a:pt x="242" y="172"/>
                  </a:lnTo>
                  <a:lnTo>
                    <a:pt x="183" y="198"/>
                  </a:lnTo>
                  <a:lnTo>
                    <a:pt x="132" y="220"/>
                  </a:lnTo>
                  <a:lnTo>
                    <a:pt x="86" y="241"/>
                  </a:lnTo>
                  <a:lnTo>
                    <a:pt x="51" y="258"/>
                  </a:lnTo>
                  <a:lnTo>
                    <a:pt x="25" y="271"/>
                  </a:lnTo>
                  <a:lnTo>
                    <a:pt x="6" y="279"/>
                  </a:lnTo>
                  <a:lnTo>
                    <a:pt x="0" y="282"/>
                  </a:lnTo>
                  <a:lnTo>
                    <a:pt x="11" y="282"/>
                  </a:lnTo>
                  <a:lnTo>
                    <a:pt x="0" y="309"/>
                  </a:lnTo>
                  <a:lnTo>
                    <a:pt x="6" y="314"/>
                  </a:lnTo>
                  <a:lnTo>
                    <a:pt x="11" y="309"/>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22680" y="466200"/>
              <a:ext cx="1970280" cy="700560"/>
            </a:xfrm>
            <a:custGeom>
              <a:avLst/>
              <a:gdLst/>
              <a:ahLst/>
              <a:rect l="l" t="t" r="r" b="b"/>
              <a:pathLst>
                <a:path w="1141" h="320">
                  <a:moveTo>
                    <a:pt x="0" y="37"/>
                  </a:moveTo>
                  <a:lnTo>
                    <a:pt x="0" y="37"/>
                  </a:lnTo>
                  <a:lnTo>
                    <a:pt x="88" y="32"/>
                  </a:lnTo>
                  <a:lnTo>
                    <a:pt x="180" y="35"/>
                  </a:lnTo>
                  <a:lnTo>
                    <a:pt x="274" y="45"/>
                  </a:lnTo>
                  <a:lnTo>
                    <a:pt x="368" y="62"/>
                  </a:lnTo>
                  <a:lnTo>
                    <a:pt x="462" y="83"/>
                  </a:lnTo>
                  <a:lnTo>
                    <a:pt x="558" y="107"/>
                  </a:lnTo>
                  <a:lnTo>
                    <a:pt x="650" y="134"/>
                  </a:lnTo>
                  <a:lnTo>
                    <a:pt x="733" y="161"/>
                  </a:lnTo>
                  <a:lnTo>
                    <a:pt x="816" y="191"/>
                  </a:lnTo>
                  <a:lnTo>
                    <a:pt x="891" y="220"/>
                  </a:lnTo>
                  <a:lnTo>
                    <a:pt x="958" y="247"/>
                  </a:lnTo>
                  <a:lnTo>
                    <a:pt x="1018" y="269"/>
                  </a:lnTo>
                  <a:lnTo>
                    <a:pt x="1066" y="290"/>
                  </a:lnTo>
                  <a:lnTo>
                    <a:pt x="1101" y="306"/>
                  </a:lnTo>
                  <a:lnTo>
                    <a:pt x="1122" y="317"/>
                  </a:lnTo>
                  <a:lnTo>
                    <a:pt x="1130" y="320"/>
                  </a:lnTo>
                  <a:lnTo>
                    <a:pt x="1141" y="293"/>
                  </a:lnTo>
                  <a:lnTo>
                    <a:pt x="1133" y="290"/>
                  </a:lnTo>
                  <a:lnTo>
                    <a:pt x="1112" y="279"/>
                  </a:lnTo>
                  <a:lnTo>
                    <a:pt x="1077" y="263"/>
                  </a:lnTo>
                  <a:lnTo>
                    <a:pt x="1028" y="242"/>
                  </a:lnTo>
                  <a:lnTo>
                    <a:pt x="969" y="215"/>
                  </a:lnTo>
                  <a:lnTo>
                    <a:pt x="902" y="188"/>
                  </a:lnTo>
                  <a:lnTo>
                    <a:pt x="827" y="158"/>
                  </a:lnTo>
                  <a:lnTo>
                    <a:pt x="744" y="129"/>
                  </a:lnTo>
                  <a:lnTo>
                    <a:pt x="655" y="102"/>
                  </a:lnTo>
                  <a:lnTo>
                    <a:pt x="564" y="75"/>
                  </a:lnTo>
                  <a:lnTo>
                    <a:pt x="467" y="51"/>
                  </a:lnTo>
                  <a:lnTo>
                    <a:pt x="373" y="29"/>
                  </a:lnTo>
                  <a:lnTo>
                    <a:pt x="274" y="13"/>
                  </a:lnTo>
                  <a:lnTo>
                    <a:pt x="180" y="2"/>
                  </a:lnTo>
                  <a:lnTo>
                    <a:pt x="88" y="0"/>
                  </a:lnTo>
                  <a:lnTo>
                    <a:pt x="0" y="5"/>
                  </a:lnTo>
                  <a:lnTo>
                    <a:pt x="0" y="5"/>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92520" y="477000"/>
              <a:ext cx="1729800" cy="1029600"/>
            </a:xfrm>
            <a:custGeom>
              <a:avLst/>
              <a:gdLst/>
              <a:ahLst/>
              <a:rect l="l" t="t" r="r" b="b"/>
              <a:pathLst>
                <a:path w="1002" h="470">
                  <a:moveTo>
                    <a:pt x="27" y="465"/>
                  </a:moveTo>
                  <a:lnTo>
                    <a:pt x="22" y="470"/>
                  </a:lnTo>
                  <a:lnTo>
                    <a:pt x="27" y="465"/>
                  </a:lnTo>
                  <a:lnTo>
                    <a:pt x="46" y="454"/>
                  </a:lnTo>
                  <a:lnTo>
                    <a:pt x="78" y="433"/>
                  </a:lnTo>
                  <a:lnTo>
                    <a:pt x="118" y="409"/>
                  </a:lnTo>
                  <a:lnTo>
                    <a:pt x="167" y="376"/>
                  </a:lnTo>
                  <a:lnTo>
                    <a:pt x="223" y="341"/>
                  </a:lnTo>
                  <a:lnTo>
                    <a:pt x="287" y="304"/>
                  </a:lnTo>
                  <a:lnTo>
                    <a:pt x="360" y="266"/>
                  </a:lnTo>
                  <a:lnTo>
                    <a:pt x="432" y="226"/>
                  </a:lnTo>
                  <a:lnTo>
                    <a:pt x="510" y="188"/>
                  </a:lnTo>
                  <a:lnTo>
                    <a:pt x="594" y="151"/>
                  </a:lnTo>
                  <a:lnTo>
                    <a:pt x="677" y="118"/>
                  </a:lnTo>
                  <a:lnTo>
                    <a:pt x="757" y="89"/>
                  </a:lnTo>
                  <a:lnTo>
                    <a:pt x="841" y="65"/>
                  </a:lnTo>
                  <a:lnTo>
                    <a:pt x="924" y="43"/>
                  </a:lnTo>
                  <a:lnTo>
                    <a:pt x="1002" y="32"/>
                  </a:lnTo>
                  <a:lnTo>
                    <a:pt x="1002" y="0"/>
                  </a:lnTo>
                  <a:lnTo>
                    <a:pt x="919" y="11"/>
                  </a:lnTo>
                  <a:lnTo>
                    <a:pt x="835" y="32"/>
                  </a:lnTo>
                  <a:lnTo>
                    <a:pt x="752" y="57"/>
                  </a:lnTo>
                  <a:lnTo>
                    <a:pt x="666" y="86"/>
                  </a:lnTo>
                  <a:lnTo>
                    <a:pt x="583" y="124"/>
                  </a:lnTo>
                  <a:lnTo>
                    <a:pt x="500" y="161"/>
                  </a:lnTo>
                  <a:lnTo>
                    <a:pt x="422" y="199"/>
                  </a:lnTo>
                  <a:lnTo>
                    <a:pt x="344" y="239"/>
                  </a:lnTo>
                  <a:lnTo>
                    <a:pt x="271" y="277"/>
                  </a:lnTo>
                  <a:lnTo>
                    <a:pt x="207" y="315"/>
                  </a:lnTo>
                  <a:lnTo>
                    <a:pt x="150" y="350"/>
                  </a:lnTo>
                  <a:lnTo>
                    <a:pt x="102" y="382"/>
                  </a:lnTo>
                  <a:lnTo>
                    <a:pt x="62" y="406"/>
                  </a:lnTo>
                  <a:lnTo>
                    <a:pt x="30" y="427"/>
                  </a:lnTo>
                  <a:lnTo>
                    <a:pt x="11" y="438"/>
                  </a:lnTo>
                  <a:lnTo>
                    <a:pt x="5" y="444"/>
                  </a:lnTo>
                  <a:lnTo>
                    <a:pt x="0" y="449"/>
                  </a:lnTo>
                  <a:lnTo>
                    <a:pt x="5" y="444"/>
                  </a:lnTo>
                  <a:lnTo>
                    <a:pt x="3" y="446"/>
                  </a:lnTo>
                  <a:lnTo>
                    <a:pt x="0" y="449"/>
                  </a:lnTo>
                  <a:lnTo>
                    <a:pt x="2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9" y="2459"/>
                  </a:lnTo>
                  <a:lnTo>
                    <a:pt x="2484" y="2441"/>
                  </a:lnTo>
                  <a:lnTo>
                    <a:pt x="2522" y="2422"/>
                  </a:lnTo>
                  <a:lnTo>
                    <a:pt x="2562" y="2403"/>
                  </a:lnTo>
                  <a:lnTo>
                    <a:pt x="2605" y="2381"/>
                  </a:lnTo>
                  <a:lnTo>
                    <a:pt x="2650" y="2363"/>
                  </a:lnTo>
                  <a:lnTo>
                    <a:pt x="2696" y="2344"/>
                  </a:lnTo>
                  <a:lnTo>
                    <a:pt x="2742" y="2325"/>
                  </a:lnTo>
                  <a:lnTo>
                    <a:pt x="2790" y="2309"/>
                  </a:lnTo>
                  <a:lnTo>
                    <a:pt x="2833" y="2293"/>
                  </a:lnTo>
                  <a:lnTo>
                    <a:pt x="2879" y="2282"/>
                  </a:lnTo>
                  <a:lnTo>
                    <a:pt x="2919" y="2274"/>
                  </a:lnTo>
                  <a:lnTo>
                    <a:pt x="2978" y="2266"/>
                  </a:lnTo>
                  <a:lnTo>
                    <a:pt x="3032" y="2266"/>
                  </a:lnTo>
                  <a:lnTo>
                    <a:pt x="3083" y="2266"/>
                  </a:lnTo>
                  <a:lnTo>
                    <a:pt x="3129" y="2271"/>
                  </a:lnTo>
                  <a:lnTo>
                    <a:pt x="3174" y="2279"/>
                  </a:lnTo>
                  <a:lnTo>
                    <a:pt x="3220" y="2290"/>
                  </a:lnTo>
                  <a:lnTo>
                    <a:pt x="3263" y="2303"/>
                  </a:lnTo>
                  <a:lnTo>
                    <a:pt x="3306" y="2320"/>
                  </a:lnTo>
                  <a:lnTo>
                    <a:pt x="3346" y="2336"/>
                  </a:lnTo>
                  <a:lnTo>
                    <a:pt x="3389" y="2355"/>
                  </a:lnTo>
                  <a:lnTo>
                    <a:pt x="3432" y="2373"/>
                  </a:lnTo>
                  <a:lnTo>
                    <a:pt x="3478" y="2389"/>
                  </a:lnTo>
                  <a:lnTo>
                    <a:pt x="3526" y="2408"/>
                  </a:lnTo>
                  <a:lnTo>
                    <a:pt x="3574" y="2427"/>
                  </a:lnTo>
                  <a:lnTo>
                    <a:pt x="3628" y="2443"/>
                  </a:lnTo>
                  <a:lnTo>
                    <a:pt x="3684" y="2459"/>
                  </a:lnTo>
                  <a:lnTo>
                    <a:pt x="3722" y="2470"/>
                  </a:lnTo>
                  <a:lnTo>
                    <a:pt x="3760" y="2478"/>
                  </a:lnTo>
                  <a:lnTo>
                    <a:pt x="3792" y="2486"/>
                  </a:lnTo>
                  <a:lnTo>
                    <a:pt x="3824" y="2494"/>
                  </a:lnTo>
                  <a:lnTo>
                    <a:pt x="3854" y="2502"/>
                  </a:lnTo>
                  <a:lnTo>
                    <a:pt x="3883" y="2510"/>
                  </a:lnTo>
                  <a:lnTo>
                    <a:pt x="3910" y="2516"/>
                  </a:lnTo>
                  <a:lnTo>
                    <a:pt x="3937" y="2521"/>
                  </a:lnTo>
                  <a:lnTo>
                    <a:pt x="3964" y="2527"/>
                  </a:lnTo>
                  <a:lnTo>
                    <a:pt x="3988" y="2532"/>
                  </a:lnTo>
                  <a:lnTo>
                    <a:pt x="4015" y="2535"/>
                  </a:lnTo>
                  <a:lnTo>
                    <a:pt x="4044" y="2537"/>
                  </a:lnTo>
                  <a:lnTo>
                    <a:pt x="4071" y="2540"/>
                  </a:lnTo>
                  <a:lnTo>
                    <a:pt x="4101" y="2543"/>
                  </a:lnTo>
                  <a:lnTo>
                    <a:pt x="4133" y="2545"/>
                  </a:lnTo>
                  <a:lnTo>
                    <a:pt x="4168" y="2545"/>
                  </a:lnTo>
                  <a:lnTo>
                    <a:pt x="4213" y="2545"/>
                  </a:lnTo>
                  <a:lnTo>
                    <a:pt x="4264" y="2545"/>
                  </a:lnTo>
                  <a:lnTo>
                    <a:pt x="4316" y="2545"/>
                  </a:lnTo>
                  <a:lnTo>
                    <a:pt x="4367" y="2543"/>
                  </a:lnTo>
                  <a:lnTo>
                    <a:pt x="4412" y="2543"/>
                  </a:lnTo>
                  <a:lnTo>
                    <a:pt x="4450" y="2543"/>
                  </a:lnTo>
                  <a:lnTo>
                    <a:pt x="4477" y="2543"/>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6" y="2454"/>
                  </a:lnTo>
                  <a:lnTo>
                    <a:pt x="2481" y="2438"/>
                  </a:lnTo>
                  <a:lnTo>
                    <a:pt x="2519" y="2416"/>
                  </a:lnTo>
                  <a:lnTo>
                    <a:pt x="2559" y="2395"/>
                  </a:lnTo>
                  <a:lnTo>
                    <a:pt x="2599" y="2376"/>
                  </a:lnTo>
                  <a:lnTo>
                    <a:pt x="2645" y="2355"/>
                  </a:lnTo>
                  <a:lnTo>
                    <a:pt x="2691" y="2333"/>
                  </a:lnTo>
                  <a:lnTo>
                    <a:pt x="2736" y="2317"/>
                  </a:lnTo>
                  <a:lnTo>
                    <a:pt x="2782" y="2298"/>
                  </a:lnTo>
                  <a:lnTo>
                    <a:pt x="2828" y="2285"/>
                  </a:lnTo>
                  <a:lnTo>
                    <a:pt x="2873" y="2274"/>
                  </a:lnTo>
                  <a:lnTo>
                    <a:pt x="2914" y="2269"/>
                  </a:lnTo>
                  <a:lnTo>
                    <a:pt x="2970" y="2266"/>
                  </a:lnTo>
                  <a:lnTo>
                    <a:pt x="3021" y="2266"/>
                  </a:lnTo>
                  <a:lnTo>
                    <a:pt x="3069" y="2269"/>
                  </a:lnTo>
                  <a:lnTo>
                    <a:pt x="3118" y="2277"/>
                  </a:lnTo>
                  <a:lnTo>
                    <a:pt x="3163" y="2285"/>
                  </a:lnTo>
                  <a:lnTo>
                    <a:pt x="3206" y="2295"/>
                  </a:lnTo>
                  <a:lnTo>
                    <a:pt x="3249" y="2309"/>
                  </a:lnTo>
                  <a:lnTo>
                    <a:pt x="3292" y="2325"/>
                  </a:lnTo>
                  <a:lnTo>
                    <a:pt x="3335" y="2341"/>
                  </a:lnTo>
                  <a:lnTo>
                    <a:pt x="3378" y="2357"/>
                  </a:lnTo>
                  <a:lnTo>
                    <a:pt x="3424" y="2376"/>
                  </a:lnTo>
                  <a:lnTo>
                    <a:pt x="3470" y="2395"/>
                  </a:lnTo>
                  <a:lnTo>
                    <a:pt x="3518" y="2411"/>
                  </a:lnTo>
                  <a:lnTo>
                    <a:pt x="3569" y="2427"/>
                  </a:lnTo>
                  <a:lnTo>
                    <a:pt x="3623" y="2443"/>
                  </a:lnTo>
                  <a:lnTo>
                    <a:pt x="3679" y="2459"/>
                  </a:lnTo>
                  <a:lnTo>
                    <a:pt x="3719" y="2470"/>
                  </a:lnTo>
                  <a:lnTo>
                    <a:pt x="3760" y="2481"/>
                  </a:lnTo>
                  <a:lnTo>
                    <a:pt x="3800" y="2492"/>
                  </a:lnTo>
                  <a:lnTo>
                    <a:pt x="3840" y="2502"/>
                  </a:lnTo>
                  <a:lnTo>
                    <a:pt x="3880" y="2516"/>
                  </a:lnTo>
                  <a:lnTo>
                    <a:pt x="3921" y="2527"/>
                  </a:lnTo>
                  <a:lnTo>
                    <a:pt x="3961" y="2537"/>
                  </a:lnTo>
                  <a:lnTo>
                    <a:pt x="4001" y="2548"/>
                  </a:lnTo>
                  <a:lnTo>
                    <a:pt x="4044" y="2559"/>
                  </a:lnTo>
                  <a:lnTo>
                    <a:pt x="4085" y="2570"/>
                  </a:lnTo>
                  <a:lnTo>
                    <a:pt x="4125" y="2578"/>
                  </a:lnTo>
                  <a:lnTo>
                    <a:pt x="4165" y="2583"/>
                  </a:lnTo>
                  <a:lnTo>
                    <a:pt x="4208" y="2588"/>
                  </a:lnTo>
                  <a:lnTo>
                    <a:pt x="4248" y="2591"/>
                  </a:lnTo>
                  <a:lnTo>
                    <a:pt x="4289" y="2591"/>
                  </a:lnTo>
                  <a:lnTo>
                    <a:pt x="4332" y="2591"/>
                  </a:lnTo>
                  <a:lnTo>
                    <a:pt x="4369" y="2586"/>
                  </a:lnTo>
                  <a:lnTo>
                    <a:pt x="4401" y="2580"/>
                  </a:lnTo>
                  <a:lnTo>
                    <a:pt x="4428" y="2572"/>
                  </a:lnTo>
                  <a:lnTo>
                    <a:pt x="4450" y="2564"/>
                  </a:lnTo>
                  <a:lnTo>
                    <a:pt x="4466" y="2556"/>
                  </a:lnTo>
                  <a:lnTo>
                    <a:pt x="4477" y="2548"/>
                  </a:lnTo>
                  <a:lnTo>
                    <a:pt x="4482" y="2545"/>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70480" y="5192640"/>
              <a:ext cx="2778120" cy="711720"/>
            </a:xfrm>
            <a:custGeom>
              <a:avLst/>
              <a:gdLst/>
              <a:ahLst/>
              <a:rect l="l" t="t" r="r" b="b"/>
              <a:pathLst>
                <a:path w="1609" h="325">
                  <a:moveTo>
                    <a:pt x="0" y="118"/>
                  </a:moveTo>
                  <a:lnTo>
                    <a:pt x="27" y="110"/>
                  </a:lnTo>
                  <a:lnTo>
                    <a:pt x="54" y="102"/>
                  </a:lnTo>
                  <a:lnTo>
                    <a:pt x="81" y="94"/>
                  </a:lnTo>
                  <a:lnTo>
                    <a:pt x="108" y="86"/>
                  </a:lnTo>
                  <a:lnTo>
                    <a:pt x="134" y="75"/>
                  </a:lnTo>
                  <a:lnTo>
                    <a:pt x="159" y="67"/>
                  </a:lnTo>
                  <a:lnTo>
                    <a:pt x="185" y="56"/>
                  </a:lnTo>
                  <a:lnTo>
                    <a:pt x="212" y="48"/>
                  </a:lnTo>
                  <a:lnTo>
                    <a:pt x="239" y="40"/>
                  </a:lnTo>
                  <a:lnTo>
                    <a:pt x="266" y="32"/>
                  </a:lnTo>
                  <a:lnTo>
                    <a:pt x="293" y="24"/>
                  </a:lnTo>
                  <a:lnTo>
                    <a:pt x="322" y="16"/>
                  </a:lnTo>
                  <a:lnTo>
                    <a:pt x="349" y="11"/>
                  </a:lnTo>
                  <a:lnTo>
                    <a:pt x="382" y="5"/>
                  </a:lnTo>
                  <a:lnTo>
                    <a:pt x="411" y="3"/>
                  </a:lnTo>
                  <a:lnTo>
                    <a:pt x="443" y="0"/>
                  </a:lnTo>
                  <a:lnTo>
                    <a:pt x="478" y="0"/>
                  </a:lnTo>
                  <a:lnTo>
                    <a:pt x="516" y="3"/>
                  </a:lnTo>
                  <a:lnTo>
                    <a:pt x="551" y="5"/>
                  </a:lnTo>
                  <a:lnTo>
                    <a:pt x="588" y="13"/>
                  </a:lnTo>
                  <a:lnTo>
                    <a:pt x="623" y="21"/>
                  </a:lnTo>
                  <a:lnTo>
                    <a:pt x="661" y="29"/>
                  </a:lnTo>
                  <a:lnTo>
                    <a:pt x="696" y="40"/>
                  </a:lnTo>
                  <a:lnTo>
                    <a:pt x="733" y="54"/>
                  </a:lnTo>
                  <a:lnTo>
                    <a:pt x="768" y="64"/>
                  </a:lnTo>
                  <a:lnTo>
                    <a:pt x="803" y="78"/>
                  </a:lnTo>
                  <a:lnTo>
                    <a:pt x="838" y="91"/>
                  </a:lnTo>
                  <a:lnTo>
                    <a:pt x="870" y="105"/>
                  </a:lnTo>
                  <a:lnTo>
                    <a:pt x="903" y="115"/>
                  </a:lnTo>
                  <a:lnTo>
                    <a:pt x="935" y="129"/>
                  </a:lnTo>
                  <a:lnTo>
                    <a:pt x="964" y="140"/>
                  </a:lnTo>
                  <a:lnTo>
                    <a:pt x="994" y="148"/>
                  </a:lnTo>
                  <a:lnTo>
                    <a:pt x="1609" y="325"/>
                  </a:lnTo>
                  <a:lnTo>
                    <a:pt x="672" y="102"/>
                  </a:lnTo>
                  <a:lnTo>
                    <a:pt x="333" y="67"/>
                  </a:lnTo>
                  <a:lnTo>
                    <a:pt x="0" y="11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99640" y="1837440"/>
              <a:ext cx="588960" cy="4437360"/>
            </a:xfrm>
            <a:custGeom>
              <a:avLst/>
              <a:gdLst/>
              <a:ahLst/>
              <a:rect l="l" t="t" r="r" b="b"/>
              <a:pathLst>
                <a:path w="341" h="2026">
                  <a:moveTo>
                    <a:pt x="0" y="0"/>
                  </a:moveTo>
                  <a:lnTo>
                    <a:pt x="164" y="723"/>
                  </a:lnTo>
                  <a:lnTo>
                    <a:pt x="264" y="1239"/>
                  </a:lnTo>
                  <a:lnTo>
                    <a:pt x="341" y="2026"/>
                  </a:lnTo>
                  <a:lnTo>
                    <a:pt x="339" y="1537"/>
                  </a:lnTo>
                  <a:lnTo>
                    <a:pt x="250" y="946"/>
                  </a:lnTo>
                  <a:lnTo>
                    <a:pt x="143" y="4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660560" y="906120"/>
              <a:ext cx="445320" cy="2350080"/>
            </a:xfrm>
            <a:custGeom>
              <a:avLst/>
              <a:gdLst/>
              <a:ahLst/>
              <a:rect l="l" t="t" r="r" b="b"/>
              <a:pathLst>
                <a:path w="258" h="1073">
                  <a:moveTo>
                    <a:pt x="258" y="1073"/>
                  </a:moveTo>
                  <a:lnTo>
                    <a:pt x="258" y="1073"/>
                  </a:lnTo>
                  <a:lnTo>
                    <a:pt x="237" y="903"/>
                  </a:lnTo>
                  <a:lnTo>
                    <a:pt x="207" y="726"/>
                  </a:lnTo>
                  <a:lnTo>
                    <a:pt x="169" y="546"/>
                  </a:lnTo>
                  <a:lnTo>
                    <a:pt x="129" y="377"/>
                  </a:lnTo>
                  <a:lnTo>
                    <a:pt x="94" y="229"/>
                  </a:lnTo>
                  <a:lnTo>
                    <a:pt x="62" y="108"/>
                  </a:lnTo>
                  <a:lnTo>
                    <a:pt x="41" y="30"/>
                  </a:lnTo>
                  <a:lnTo>
                    <a:pt x="33" y="0"/>
                  </a:lnTo>
                  <a:lnTo>
                    <a:pt x="0" y="6"/>
                  </a:lnTo>
                  <a:lnTo>
                    <a:pt x="8" y="35"/>
                  </a:lnTo>
                  <a:lnTo>
                    <a:pt x="30" y="113"/>
                  </a:lnTo>
                  <a:lnTo>
                    <a:pt x="62" y="234"/>
                  </a:lnTo>
                  <a:lnTo>
                    <a:pt x="97" y="382"/>
                  </a:lnTo>
                  <a:lnTo>
                    <a:pt x="137" y="551"/>
                  </a:lnTo>
                  <a:lnTo>
                    <a:pt x="175" y="731"/>
                  </a:lnTo>
                  <a:lnTo>
                    <a:pt x="204" y="909"/>
                  </a:lnTo>
                  <a:lnTo>
                    <a:pt x="226" y="1073"/>
                  </a:lnTo>
                  <a:lnTo>
                    <a:pt x="226" y="1073"/>
                  </a:lnTo>
                  <a:lnTo>
                    <a:pt x="258" y="1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04360" y="3256560"/>
              <a:ext cx="126000" cy="2347560"/>
            </a:xfrm>
            <a:custGeom>
              <a:avLst/>
              <a:gdLst/>
              <a:ahLst/>
              <a:rect l="l" t="t" r="r" b="b"/>
              <a:pathLst>
                <a:path w="73" h="1072">
                  <a:moveTo>
                    <a:pt x="32" y="1072"/>
                  </a:moveTo>
                  <a:lnTo>
                    <a:pt x="40" y="962"/>
                  </a:lnTo>
                  <a:lnTo>
                    <a:pt x="59" y="693"/>
                  </a:lnTo>
                  <a:lnTo>
                    <a:pt x="73" y="344"/>
                  </a:lnTo>
                  <a:lnTo>
                    <a:pt x="59" y="0"/>
                  </a:lnTo>
                  <a:lnTo>
                    <a:pt x="27" y="0"/>
                  </a:lnTo>
                  <a:lnTo>
                    <a:pt x="35" y="344"/>
                  </a:lnTo>
                  <a:lnTo>
                    <a:pt x="27" y="693"/>
                  </a:lnTo>
                  <a:lnTo>
                    <a:pt x="8" y="962"/>
                  </a:lnTo>
                  <a:lnTo>
                    <a:pt x="0" y="1072"/>
                  </a:lnTo>
                  <a:lnTo>
                    <a:pt x="32" y="1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81640" y="118080"/>
              <a:ext cx="2377440" cy="5486400"/>
            </a:xfrm>
            <a:custGeom>
              <a:avLst/>
              <a:gdLst/>
              <a:ahLst/>
              <a:rect l="l" t="t" r="r" b="b"/>
              <a:pathLst>
                <a:path w="1377" h="2505">
                  <a:moveTo>
                    <a:pt x="1162" y="363"/>
                  </a:moveTo>
                  <a:lnTo>
                    <a:pt x="1160" y="358"/>
                  </a:lnTo>
                  <a:lnTo>
                    <a:pt x="1149" y="342"/>
                  </a:lnTo>
                  <a:lnTo>
                    <a:pt x="1133" y="315"/>
                  </a:lnTo>
                  <a:lnTo>
                    <a:pt x="1111" y="282"/>
                  </a:lnTo>
                  <a:lnTo>
                    <a:pt x="1079" y="247"/>
                  </a:lnTo>
                  <a:lnTo>
                    <a:pt x="1042" y="207"/>
                  </a:lnTo>
                  <a:lnTo>
                    <a:pt x="996" y="167"/>
                  </a:lnTo>
                  <a:lnTo>
                    <a:pt x="940" y="127"/>
                  </a:lnTo>
                  <a:lnTo>
                    <a:pt x="875" y="89"/>
                  </a:lnTo>
                  <a:lnTo>
                    <a:pt x="803" y="54"/>
                  </a:lnTo>
                  <a:lnTo>
                    <a:pt x="719" y="27"/>
                  </a:lnTo>
                  <a:lnTo>
                    <a:pt x="625" y="8"/>
                  </a:lnTo>
                  <a:lnTo>
                    <a:pt x="521" y="0"/>
                  </a:lnTo>
                  <a:lnTo>
                    <a:pt x="405" y="3"/>
                  </a:lnTo>
                  <a:lnTo>
                    <a:pt x="279" y="22"/>
                  </a:lnTo>
                  <a:lnTo>
                    <a:pt x="139" y="54"/>
                  </a:lnTo>
                  <a:lnTo>
                    <a:pt x="61" y="84"/>
                  </a:lnTo>
                  <a:lnTo>
                    <a:pt x="18" y="124"/>
                  </a:lnTo>
                  <a:lnTo>
                    <a:pt x="0" y="167"/>
                  </a:lnTo>
                  <a:lnTo>
                    <a:pt x="8" y="218"/>
                  </a:lnTo>
                  <a:lnTo>
                    <a:pt x="37" y="277"/>
                  </a:lnTo>
                  <a:lnTo>
                    <a:pt x="86" y="339"/>
                  </a:lnTo>
                  <a:lnTo>
                    <a:pt x="145" y="406"/>
                  </a:lnTo>
                  <a:lnTo>
                    <a:pt x="214" y="479"/>
                  </a:lnTo>
                  <a:lnTo>
                    <a:pt x="292" y="557"/>
                  </a:lnTo>
                  <a:lnTo>
                    <a:pt x="373" y="637"/>
                  </a:lnTo>
                  <a:lnTo>
                    <a:pt x="451" y="718"/>
                  </a:lnTo>
                  <a:lnTo>
                    <a:pt x="526" y="804"/>
                  </a:lnTo>
                  <a:lnTo>
                    <a:pt x="590" y="892"/>
                  </a:lnTo>
                  <a:lnTo>
                    <a:pt x="647" y="981"/>
                  </a:lnTo>
                  <a:lnTo>
                    <a:pt x="684" y="1070"/>
                  </a:lnTo>
                  <a:lnTo>
                    <a:pt x="706" y="1161"/>
                  </a:lnTo>
                  <a:lnTo>
                    <a:pt x="706" y="1250"/>
                  </a:lnTo>
                  <a:lnTo>
                    <a:pt x="690" y="1344"/>
                  </a:lnTo>
                  <a:lnTo>
                    <a:pt x="658" y="1441"/>
                  </a:lnTo>
                  <a:lnTo>
                    <a:pt x="617" y="1540"/>
                  </a:lnTo>
                  <a:lnTo>
                    <a:pt x="569" y="1640"/>
                  </a:lnTo>
                  <a:lnTo>
                    <a:pt x="518" y="1739"/>
                  </a:lnTo>
                  <a:lnTo>
                    <a:pt x="464" y="1833"/>
                  </a:lnTo>
                  <a:lnTo>
                    <a:pt x="410" y="1925"/>
                  </a:lnTo>
                  <a:lnTo>
                    <a:pt x="362" y="2011"/>
                  </a:lnTo>
                  <a:lnTo>
                    <a:pt x="325" y="2088"/>
                  </a:lnTo>
                  <a:lnTo>
                    <a:pt x="295" y="2156"/>
                  </a:lnTo>
                  <a:lnTo>
                    <a:pt x="279" y="2215"/>
                  </a:lnTo>
                  <a:lnTo>
                    <a:pt x="279" y="2260"/>
                  </a:lnTo>
                  <a:lnTo>
                    <a:pt x="300" y="2295"/>
                  </a:lnTo>
                  <a:lnTo>
                    <a:pt x="346" y="2312"/>
                  </a:lnTo>
                  <a:lnTo>
                    <a:pt x="416" y="2314"/>
                  </a:lnTo>
                  <a:lnTo>
                    <a:pt x="488" y="2312"/>
                  </a:lnTo>
                  <a:lnTo>
                    <a:pt x="566" y="2314"/>
                  </a:lnTo>
                  <a:lnTo>
                    <a:pt x="644" y="2320"/>
                  </a:lnTo>
                  <a:lnTo>
                    <a:pt x="722" y="2330"/>
                  </a:lnTo>
                  <a:lnTo>
                    <a:pt x="803" y="2346"/>
                  </a:lnTo>
                  <a:lnTo>
                    <a:pt x="880" y="2363"/>
                  </a:lnTo>
                  <a:lnTo>
                    <a:pt x="958" y="2379"/>
                  </a:lnTo>
                  <a:lnTo>
                    <a:pt x="1031" y="2398"/>
                  </a:lnTo>
                  <a:lnTo>
                    <a:pt x="1098" y="2419"/>
                  </a:lnTo>
                  <a:lnTo>
                    <a:pt x="1162" y="2438"/>
                  </a:lnTo>
                  <a:lnTo>
                    <a:pt x="1219" y="2454"/>
                  </a:lnTo>
                  <a:lnTo>
                    <a:pt x="1267" y="2470"/>
                  </a:lnTo>
                  <a:lnTo>
                    <a:pt x="1307" y="2486"/>
                  </a:lnTo>
                  <a:lnTo>
                    <a:pt x="1337" y="2494"/>
                  </a:lnTo>
                  <a:lnTo>
                    <a:pt x="1356" y="2502"/>
                  </a:lnTo>
                  <a:lnTo>
                    <a:pt x="1361" y="2505"/>
                  </a:lnTo>
                  <a:lnTo>
                    <a:pt x="1367" y="2363"/>
                  </a:lnTo>
                  <a:lnTo>
                    <a:pt x="1375" y="2029"/>
                  </a:lnTo>
                  <a:lnTo>
                    <a:pt x="1377" y="1642"/>
                  </a:lnTo>
                  <a:lnTo>
                    <a:pt x="1369" y="1344"/>
                  </a:lnTo>
                  <a:lnTo>
                    <a:pt x="1356" y="1231"/>
                  </a:lnTo>
                  <a:lnTo>
                    <a:pt x="1329" y="1089"/>
                  </a:lnTo>
                  <a:lnTo>
                    <a:pt x="1297" y="927"/>
                  </a:lnTo>
                  <a:lnTo>
                    <a:pt x="1259" y="763"/>
                  </a:lnTo>
                  <a:lnTo>
                    <a:pt x="1224" y="610"/>
                  </a:lnTo>
                  <a:lnTo>
                    <a:pt x="1192" y="481"/>
                  </a:lnTo>
                  <a:lnTo>
                    <a:pt x="1170" y="395"/>
                  </a:lnTo>
                  <a:lnTo>
                    <a:pt x="1162" y="36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rot="21168000">
            <a:off x="1449720" y="1036440"/>
            <a:ext cx="33717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000000"/>
                </a:solidFill>
                <a:latin typeface="Times New Roman"/>
              </a:rPr>
              <a:t>A finales del mes de marzo de 1545 el entonces gobernador general de la ínsula Don Juanes de Ávila funda, en una construcción de madera y cubierta de guano, lo que sería el primer hospital de la Villa de San Cristóbal de La Habana,</a:t>
            </a:r>
            <a:endParaRPr b="0" lang="en-US" sz="2400" spc="-1" strike="noStrike">
              <a:solidFill>
                <a:srgbClr val="000000"/>
              </a:solidFill>
              <a:latin typeface="Times New Roman"/>
            </a:endParaRPr>
          </a:p>
        </p:txBody>
      </p:sp>
      <p:sp>
        <p:nvSpPr>
          <p:cNvPr id="88" name=""/>
          <p:cNvSpPr/>
          <p:nvPr/>
        </p:nvSpPr>
        <p:spPr>
          <a:xfrm>
            <a:off x="5181480" y="914400"/>
            <a:ext cx="324036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gún consta en carta enviada por él a sus Majestades Católicas, en una de cuyas partes reza textualmente:</a:t>
            </a:r>
            <a:r>
              <a:rPr b="1" lang="es-ES_tradnl" sz="2400" spc="-1" strike="noStrike">
                <a:solidFill>
                  <a:srgbClr val="000000"/>
                </a:solidFill>
                <a:latin typeface="Times New Roman"/>
              </a:rPr>
              <a:t>  </a:t>
            </a:r>
            <a:r>
              <a:rPr b="1" lang="es-ES_tradnl" sz="2400" spc="-1" strike="noStrike">
                <a:solidFill>
                  <a:srgbClr val="008000"/>
                </a:solidFill>
                <a:latin typeface="Times New Roman"/>
              </a:rPr>
              <a:t>“...</a:t>
            </a:r>
            <a:r>
              <a:rPr b="1" i="1" lang="es-ES_tradnl" sz="2400" spc="-1" strike="noStrike">
                <a:solidFill>
                  <a:srgbClr val="008000"/>
                </a:solidFill>
                <a:latin typeface="Times New Roman"/>
              </a:rPr>
              <a:t>apostrero de marzo de 1545 anzimismo he hecho el hospital desta vil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1"/>
          <a:stretch/>
        </p:blipFill>
        <p:spPr>
          <a:xfrm>
            <a:off x="6227640" y="4005360"/>
            <a:ext cx="2665440" cy="165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par>
                          <p:cTn id="8" fill="hold">
                            <p:stCondLst>
                              <p:cond delay="500"/>
                            </p:stCondLst>
                            <p:childTnLst>
                              <p:par>
                                <p:cTn id="9" nodeType="afterEffect" fill="hold" presetClass="entr" presetID="22" presetSubtype="8">
                                  <p:stCondLst>
                                    <p:cond delay="0"/>
                                  </p:stCondLst>
                                  <p:iterate type="lt">
                                    <p:tmAbs val="75"/>
                                  </p:iterate>
                                  <p:childTnLst>
                                    <p:set>
                                      <p:cBhvr>
                                        <p:cTn id="10" dur="1" fill="hold">
                                          <p:stCondLst>
                                            <p:cond delay="0"/>
                                          </p:stCondLst>
                                        </p:cTn>
                                        <p:tgtEl>
                                          <p:spTgt spid="87"/>
                                        </p:tgtEl>
                                        <p:attrNameLst>
                                          <p:attrName>style.visibility</p:attrName>
                                        </p:attrNameLst>
                                      </p:cBhvr>
                                      <p:to>
                                        <p:strVal val="visible"/>
                                      </p:to>
                                    </p:set>
                                    <p:animEffect filter="wipe(left)" transition="in">
                                      <p:cBhvr additive="repl">
                                        <p:cTn id="11" dur="75"/>
                                        <p:tgtEl>
                                          <p:spTgt spid="87"/>
                                        </p:tgtEl>
                                      </p:cBhvr>
                                    </p:animEffect>
                                  </p:childTnLst>
                                </p:cTn>
                              </p:par>
                            </p:childTnLst>
                          </p:cTn>
                        </p:par>
                        <p:par>
                          <p:cTn id="12" fill="hold">
                            <p:stCondLst>
                              <p:cond delay="14600"/>
                            </p:stCondLst>
                            <p:childTnLst>
                              <p:par>
                                <p:cTn id="13" nodeType="afterEffect" fill="hold" presetClass="entr" presetID="21" presetSubtype="8">
                                  <p:stCondLst>
                                    <p:cond delay="0"/>
                                  </p:stCondLst>
                                  <p:iterate type="lt">
                                    <p:tmAbs val="75"/>
                                  </p:iterate>
                                  <p:childTnLst>
                                    <p:set>
                                      <p:cBhvr>
                                        <p:cTn id="14" dur="1" fill="hold">
                                          <p:stCondLst>
                                            <p:cond delay="0"/>
                                          </p:stCondLst>
                                        </p:cTn>
                                        <p:tgtEl>
                                          <p:spTgt spid="88"/>
                                        </p:tgtEl>
                                        <p:attrNameLst>
                                          <p:attrName>style.visibility</p:attrName>
                                        </p:attrNameLst>
                                      </p:cBhvr>
                                      <p:to>
                                        <p:strVal val="visible"/>
                                      </p:to>
                                    </p:set>
                                    <p:animEffect filter="wheel(8)" transition="in">
                                      <p:cBhvr additive="repl">
                                        <p:cTn id="15" dur="75"/>
                                        <p:tgtEl>
                                          <p:spTgt spid="88"/>
                                        </p:tgtEl>
                                      </p:cBhvr>
                                    </p:animEffect>
                                  </p:childTnLst>
                                </p:cTn>
                              </p:par>
                            </p:childTnLst>
                          </p:cTn>
                        </p:par>
                        <p:par>
                          <p:cTn id="16" fill="hold">
                            <p:stCondLst>
                              <p:cond delay="26075"/>
                            </p:stCondLst>
                            <p:childTnLst>
                              <p:par>
                                <p:cTn id="17" nodeType="afterEffect" fill="hold" presetClass="entr" presetID="4" presetSubtype="16">
                                  <p:stCondLst>
                                    <p:cond delay="0"/>
                                  </p:stCondLst>
                                  <p:childTnLst>
                                    <p:set>
                                      <p:cBhvr>
                                        <p:cTn id="18" dur="1" fill="hold">
                                          <p:stCondLst>
                                            <p:cond delay="0"/>
                                          </p:stCondLst>
                                        </p:cTn>
                                        <p:tgtEl>
                                          <p:spTgt spid="89"/>
                                        </p:tgtEl>
                                        <p:attrNameLst>
                                          <p:attrName>style.visibility</p:attrName>
                                        </p:attrNameLst>
                                      </p:cBhvr>
                                      <p:to>
                                        <p:strVal val="visible"/>
                                      </p:to>
                                    </p:set>
                                    <p:animEffect filter="box(in)" transition="in">
                                      <p:cBhvr additive="repl">
                                        <p:cTn id="1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6084720" y="4797360"/>
            <a:ext cx="2160720" cy="1513080"/>
          </a:xfrm>
          <a:prstGeom prst="rect">
            <a:avLst/>
          </a:prstGeom>
          <a:ln w="0">
            <a:noFill/>
          </a:ln>
        </p:spPr>
      </p:pic>
      <p:pic>
        <p:nvPicPr>
          <p:cNvPr id="92" name="" descr=""/>
          <p:cNvPicPr/>
          <p:nvPr/>
        </p:nvPicPr>
        <p:blipFill>
          <a:blip r:embed="rId2"/>
          <a:stretch/>
        </p:blipFill>
        <p:spPr>
          <a:xfrm>
            <a:off x="250920" y="260280"/>
            <a:ext cx="1873080" cy="2370240"/>
          </a:xfrm>
          <a:prstGeom prst="rect">
            <a:avLst/>
          </a:prstGeom>
          <a:ln w="0">
            <a:noFill/>
          </a:ln>
        </p:spPr>
      </p:pic>
      <p:sp>
        <p:nvSpPr>
          <p:cNvPr id="93" name=""/>
          <p:cNvSpPr/>
          <p:nvPr/>
        </p:nvSpPr>
        <p:spPr>
          <a:xfrm>
            <a:off x="0" y="3429000"/>
            <a:ext cx="4267080" cy="330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y se piensa que sucumbió, quedando destruido, durante la toma e  incendio de la Ciudad por el pirata francés Jaques de Sores el 10 de julio de 1555.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267080" y="186840"/>
            <a:ext cx="441972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Según relata el Historiador Emilio Roig </a:t>
            </a:r>
            <a:r>
              <a:rPr b="1" i="1" lang="es-ES" sz="2800" spc="-1" strike="noStrike">
                <a:solidFill>
                  <a:srgbClr val="ffffff"/>
                </a:solidFill>
                <a:latin typeface="Times New Roman"/>
              </a:rPr>
              <a:t>de Leuchsenring</a:t>
            </a:r>
            <a:r>
              <a:rPr b="1" i="1" lang="en-US" sz="2800" spc="-1" strike="noStrike">
                <a:solidFill>
                  <a:srgbClr val="ffffff"/>
                </a:solidFill>
                <a:latin typeface="Times New Roman"/>
              </a:rPr>
              <a:t>,</a:t>
            </a:r>
            <a:r>
              <a:rPr b="1" i="1" lang="es-ES" sz="2800" spc="-1" strike="noStrike">
                <a:solidFill>
                  <a:srgbClr val="006699"/>
                </a:solidFill>
                <a:latin typeface="Times New Roman"/>
              </a:rPr>
              <a:t> </a:t>
            </a:r>
            <a:r>
              <a:rPr b="1" i="1" lang="es-ES_tradnl" sz="2800" spc="-1" strike="noStrike">
                <a:solidFill>
                  <a:srgbClr val="ffffff"/>
                </a:solidFill>
                <a:latin typeface="Times New Roman"/>
              </a:rPr>
              <a:t>estaba situado cerca de la manzana que hoy ocupa el Palacio de los Capitanes Generales,</a:t>
            </a:r>
            <a:r>
              <a:rPr b="1"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95" name="" descr=""/>
          <p:cNvPicPr/>
          <p:nvPr/>
        </p:nvPicPr>
        <p:blipFill>
          <a:blip r:embed="rId3"/>
          <a:stretch/>
        </p:blipFill>
        <p:spPr>
          <a:xfrm>
            <a:off x="2050920" y="404640"/>
            <a:ext cx="1873440" cy="2232360"/>
          </a:xfrm>
          <a:prstGeom prst="rect">
            <a:avLst/>
          </a:prstGeom>
          <a:ln w="0">
            <a:noFill/>
          </a:ln>
        </p:spPr>
      </p:pic>
      <p:pic>
        <p:nvPicPr>
          <p:cNvPr id="96" name="" descr=""/>
          <p:cNvPicPr/>
          <p:nvPr/>
        </p:nvPicPr>
        <p:blipFill>
          <a:blip r:embed="rId4"/>
          <a:stretch/>
        </p:blipFill>
        <p:spPr>
          <a:xfrm>
            <a:off x="4427640" y="4149720"/>
            <a:ext cx="1800000" cy="2158920"/>
          </a:xfrm>
          <a:prstGeom prst="rect">
            <a:avLst/>
          </a:prstGeom>
          <a:ln w="0">
            <a:noFill/>
          </a:ln>
        </p:spPr>
      </p:pic>
      <p:pic>
        <p:nvPicPr>
          <p:cNvPr id="97" name="" descr=""/>
          <p:cNvPicPr/>
          <p:nvPr/>
        </p:nvPicPr>
        <p:blipFill>
          <a:blip r:embed="rId5"/>
          <a:stretch/>
        </p:blipFill>
        <p:spPr>
          <a:xfrm>
            <a:off x="5651640" y="2924280"/>
            <a:ext cx="3241440" cy="172872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 presetSubtype="16">
                                  <p:stCondLst>
                                    <p:cond delay="0"/>
                                  </p:stCondLst>
                                  <p:childTnLst>
                                    <p:set>
                                      <p:cBhvr>
                                        <p:cTn id="25" dur="1" fill="hold">
                                          <p:stCondLst>
                                            <p:cond delay="0"/>
                                          </p:stCondLst>
                                        </p:cTn>
                                        <p:tgtEl>
                                          <p:spTgt spid="94"/>
                                        </p:tgtEl>
                                        <p:attrNameLst>
                                          <p:attrName>style.visibility</p:attrName>
                                        </p:attrNameLst>
                                      </p:cBhvr>
                                      <p:to>
                                        <p:strVal val="visible"/>
                                      </p:to>
                                    </p:set>
                                    <p:animEffect filter="box(in)" transition="in">
                                      <p:cBhvr additive="repl">
                                        <p:cTn id="26" dur="500"/>
                                        <p:tgtEl>
                                          <p:spTgt spid="94"/>
                                        </p:tgtEl>
                                      </p:cBhvr>
                                    </p:animEffect>
                                  </p:childTnLst>
                                </p:cTn>
                              </p:par>
                            </p:childTnLst>
                          </p:cTn>
                        </p:par>
                        <p:par>
                          <p:cTn id="27" fill="hold">
                            <p:stCondLst>
                              <p:cond delay="500"/>
                            </p:stCondLst>
                            <p:childTnLst>
                              <p:par>
                                <p:cTn id="28" nodeType="afterEffect" fill="hold" presetClass="entr" presetID="2" presetSubtype="8">
                                  <p:stCondLst>
                                    <p:cond delay="0"/>
                                  </p:stCondLst>
                                  <p:childTnLst>
                                    <p:set>
                                      <p:cBhvr>
                                        <p:cTn id="29" dur="1" fill="hold">
                                          <p:stCondLst>
                                            <p:cond delay="0"/>
                                          </p:stCondLst>
                                        </p:cTn>
                                        <p:tgtEl>
                                          <p:spTgt spid="93"/>
                                        </p:tgtEl>
                                        <p:attrNameLst>
                                          <p:attrName>style.visibility</p:attrName>
                                        </p:attrNameLst>
                                      </p:cBhvr>
                                      <p:to>
                                        <p:strVal val="visible"/>
                                      </p:to>
                                    </p:set>
                                    <p:anim calcmode="lin" valueType="num">
                                      <p:cBhvr additive="base">
                                        <p:cTn id="30" dur="500" fill="hold"/>
                                        <p:tgtEl>
                                          <p:spTgt spid="93"/>
                                        </p:tgtEl>
                                        <p:attrNameLst>
                                          <p:attrName>ppt_x</p:attrName>
                                        </p:attrNameLst>
                                      </p:cBhvr>
                                      <p:tavLst>
                                        <p:tav tm="0">
                                          <p:val>
                                            <p:strVal val="0-#ppt_w/2"/>
                                          </p:val>
                                        </p:tav>
                                        <p:tav tm="100000">
                                          <p:val>
                                            <p:strVal val="#ppt_x"/>
                                          </p:val>
                                        </p:tav>
                                      </p:tavLst>
                                    </p:anim>
                                    <p:anim calcmode="lin" valueType="num">
                                      <p:cBhvr additive="base">
                                        <p:cTn id="31" dur="500" fill="hold"/>
                                        <p:tgtEl>
                                          <p:spTgt spid="93"/>
                                        </p:tgtEl>
                                        <p:attrNameLst>
                                          <p:attrName>ppt_y</p:attrName>
                                        </p:attrNameLst>
                                      </p:cBhvr>
                                      <p:tavLst>
                                        <p:tav tm="0">
                                          <p:val>
                                            <p:strVal val="#ppt_y"/>
                                          </p:val>
                                        </p:tav>
                                        <p:tav tm="100000">
                                          <p:val>
                                            <p:strVal val="#ppt_y"/>
                                          </p:val>
                                        </p:tav>
                                      </p:tavLst>
                                    </p:anim>
                                  </p:childTnLst>
                                </p:cTn>
                              </p:par>
                            </p:childTnLst>
                          </p:cTn>
                        </p:par>
                        <p:par>
                          <p:cTn id="32" fill="hold">
                            <p:stCondLst>
                              <p:cond delay="1000"/>
                            </p:stCondLst>
                            <p:childTnLst>
                              <p:par>
                                <p:cTn id="33" nodeType="afterEffect" fill="hold" presetClass="entr" presetID="4" presetSubtype="16">
                                  <p:stCondLst>
                                    <p:cond delay="0"/>
                                  </p:stCondLst>
                                  <p:childTnLst>
                                    <p:set>
                                      <p:cBhvr>
                                        <p:cTn id="34" dur="1" fill="hold">
                                          <p:stCondLst>
                                            <p:cond delay="0"/>
                                          </p:stCondLst>
                                        </p:cTn>
                                        <p:tgtEl>
                                          <p:spTgt spid="92"/>
                                        </p:tgtEl>
                                        <p:attrNameLst>
                                          <p:attrName>style.visibility</p:attrName>
                                        </p:attrNameLst>
                                      </p:cBhvr>
                                      <p:to>
                                        <p:strVal val="visible"/>
                                      </p:to>
                                    </p:set>
                                    <p:animEffect filter="box(in)" transition="in">
                                      <p:cBhvr additive="repl">
                                        <p:cTn id="35" dur="500"/>
                                        <p:tgtEl>
                                          <p:spTgt spid="92"/>
                                        </p:tgtEl>
                                      </p:cBhvr>
                                    </p:animEffect>
                                  </p:childTnLst>
                                </p:cTn>
                              </p:par>
                            </p:childTnLst>
                          </p:cTn>
                        </p:par>
                        <p:par>
                          <p:cTn id="36" fill="hold">
                            <p:stCondLst>
                              <p:cond delay="1500"/>
                            </p:stCondLst>
                            <p:childTnLst>
                              <p:par>
                                <p:cTn id="37" nodeType="afterEffect" fill="hold" presetClass="entr" presetID="4" presetSubtype="16">
                                  <p:stCondLst>
                                    <p:cond delay="0"/>
                                  </p:stCondLst>
                                  <p:childTnLst>
                                    <p:set>
                                      <p:cBhvr>
                                        <p:cTn id="38" dur="1" fill="hold">
                                          <p:stCondLst>
                                            <p:cond delay="0"/>
                                          </p:stCondLst>
                                        </p:cTn>
                                        <p:tgtEl>
                                          <p:spTgt spid="95"/>
                                        </p:tgtEl>
                                        <p:attrNameLst>
                                          <p:attrName>style.visibility</p:attrName>
                                        </p:attrNameLst>
                                      </p:cBhvr>
                                      <p:to>
                                        <p:strVal val="visible"/>
                                      </p:to>
                                    </p:set>
                                    <p:animEffect filter="box(in)" transition="in">
                                      <p:cBhvr additive="repl">
                                        <p:cTn id="39" dur="500"/>
                                        <p:tgtEl>
                                          <p:spTgt spid="95"/>
                                        </p:tgtEl>
                                      </p:cBhvr>
                                    </p:animEffect>
                                  </p:childTnLst>
                                </p:cTn>
                              </p:par>
                            </p:childTnLst>
                          </p:cTn>
                        </p:par>
                        <p:par>
                          <p:cTn id="40" fill="hold">
                            <p:stCondLst>
                              <p:cond delay="2000"/>
                            </p:stCondLst>
                            <p:childTnLst>
                              <p:par>
                                <p:cTn id="41" nodeType="afterEffect" fill="hold" presetClass="entr" presetID="4" presetSubtype="16">
                                  <p:stCondLst>
                                    <p:cond delay="0"/>
                                  </p:stCondLst>
                                  <p:childTnLst>
                                    <p:set>
                                      <p:cBhvr>
                                        <p:cTn id="42" dur="1" fill="hold">
                                          <p:stCondLst>
                                            <p:cond delay="0"/>
                                          </p:stCondLst>
                                        </p:cTn>
                                        <p:tgtEl>
                                          <p:spTgt spid="91"/>
                                        </p:tgtEl>
                                        <p:attrNameLst>
                                          <p:attrName>style.visibility</p:attrName>
                                        </p:attrNameLst>
                                      </p:cBhvr>
                                      <p:to>
                                        <p:strVal val="visible"/>
                                      </p:to>
                                    </p:set>
                                    <p:animEffect filter="box(in)" transition="in">
                                      <p:cBhvr additive="repl">
                                        <p:cTn id="43" dur="500"/>
                                        <p:tgtEl>
                                          <p:spTgt spid="91"/>
                                        </p:tgtEl>
                                      </p:cBhvr>
                                    </p:animEffect>
                                  </p:childTnLst>
                                </p:cTn>
                              </p:par>
                            </p:childTnLst>
                          </p:cTn>
                        </p:par>
                        <p:par>
                          <p:cTn id="44" fill="hold">
                            <p:stCondLst>
                              <p:cond delay="2500"/>
                            </p:stCondLst>
                            <p:childTnLst>
                              <p:par>
                                <p:cTn id="45" nodeType="afterEffect" fill="hold" presetClass="entr" presetID="4" presetSubtype="16">
                                  <p:stCondLst>
                                    <p:cond delay="0"/>
                                  </p:stCondLst>
                                  <p:childTnLst>
                                    <p:set>
                                      <p:cBhvr>
                                        <p:cTn id="46" dur="1" fill="hold">
                                          <p:stCondLst>
                                            <p:cond delay="0"/>
                                          </p:stCondLst>
                                        </p:cTn>
                                        <p:tgtEl>
                                          <p:spTgt spid="97"/>
                                        </p:tgtEl>
                                        <p:attrNameLst>
                                          <p:attrName>style.visibility</p:attrName>
                                        </p:attrNameLst>
                                      </p:cBhvr>
                                      <p:to>
                                        <p:strVal val="visible"/>
                                      </p:to>
                                    </p:set>
                                    <p:animEffect filter="box(in)" transition="in">
                                      <p:cBhvr additive="repl">
                                        <p:cTn id="47" dur="500"/>
                                        <p:tgtEl>
                                          <p:spTgt spid="97"/>
                                        </p:tgtEl>
                                      </p:cBhvr>
                                    </p:animEffect>
                                  </p:childTnLst>
                                </p:cTn>
                              </p:par>
                            </p:childTnLst>
                          </p:cTn>
                        </p:par>
                        <p:par>
                          <p:cTn id="48" fill="hold">
                            <p:stCondLst>
                              <p:cond delay="3000"/>
                            </p:stCondLst>
                            <p:childTnLst>
                              <p:par>
                                <p:cTn id="49" nodeType="afterEffect" fill="hold" presetClass="entr" presetID="4" presetSubtype="16">
                                  <p:stCondLst>
                                    <p:cond delay="0"/>
                                  </p:stCondLst>
                                  <p:childTnLst>
                                    <p:set>
                                      <p:cBhvr>
                                        <p:cTn id="50" dur="1" fill="hold">
                                          <p:stCondLst>
                                            <p:cond delay="0"/>
                                          </p:stCondLst>
                                        </p:cTn>
                                        <p:tgtEl>
                                          <p:spTgt spid="96"/>
                                        </p:tgtEl>
                                        <p:attrNameLst>
                                          <p:attrName>style.visibility</p:attrName>
                                        </p:attrNameLst>
                                      </p:cBhvr>
                                      <p:to>
                                        <p:strVal val="visible"/>
                                      </p:to>
                                    </p:set>
                                    <p:animEffect filter="box(in)" transition="in">
                                      <p:cBhvr additive="repl">
                                        <p:cTn id="5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3809880"/>
            <a:ext cx="74185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El Hospital no fue reedificado hasta el 23 de Diciembre de 1596, fecha en que el gobernador de la isla Juan Maldonado Barnuevo, compró con ese fin dos naves y una capilla situadas en el terreno  aledaño al colegio de San Felipe y Santiago, del cual tomaría su nombre.</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2411280" y="620640"/>
            <a:ext cx="4248360" cy="259236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4">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4" presetSubtype="16">
                                  <p:stCondLst>
                                    <p:cond delay="0"/>
                                  </p:stCondLst>
                                  <p:childTnLst>
                                    <p:set>
                                      <p:cBhvr>
                                        <p:cTn id="62" dur="1" fill="hold">
                                          <p:stCondLst>
                                            <p:cond delay="0"/>
                                          </p:stCondLst>
                                        </p:cTn>
                                        <p:tgtEl>
                                          <p:spTgt spid="100"/>
                                        </p:tgtEl>
                                        <p:attrNameLst>
                                          <p:attrName>style.visibility</p:attrName>
                                        </p:attrNameLst>
                                      </p:cBhvr>
                                      <p:to>
                                        <p:strVal val="visible"/>
                                      </p:to>
                                    </p:set>
                                    <p:animEffect filter="box(in)" transition="in">
                                      <p:cBhvr additive="repl">
                                        <p:cTn id="6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294"/>
        </a:solidFill>
      </p:bgPr>
    </p:bg>
    <p:spTree>
      <p:nvGrpSpPr>
        <p:cNvPr id="1" name=""/>
        <p:cNvGrpSpPr/>
        <p:nvPr/>
      </p:nvGrpSpPr>
      <p:grpSpPr>
        <a:xfrm>
          <a:off x="0" y="0"/>
          <a:ext cx="0" cy="0"/>
          <a:chOff x="0" y="0"/>
          <a:chExt cx="0" cy="0"/>
        </a:xfrm>
      </p:grpSpPr>
      <p:sp>
        <p:nvSpPr>
          <p:cNvPr id="101"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395280" y="0"/>
            <a:ext cx="8457840" cy="6857640"/>
            <a:chOff x="395280" y="0"/>
            <a:chExt cx="8457840" cy="6857640"/>
          </a:xfrm>
        </p:grpSpPr>
        <p:sp>
          <p:nvSpPr>
            <p:cNvPr id="103" name=""/>
            <p:cNvSpPr/>
            <p:nvPr/>
          </p:nvSpPr>
          <p:spPr>
            <a:xfrm>
              <a:off x="395280" y="0"/>
              <a:ext cx="8452800" cy="6857640"/>
            </a:xfrm>
            <a:custGeom>
              <a:avLst/>
              <a:gdLst/>
              <a:ahLst/>
              <a:rect l="l" t="t" r="r" b="b"/>
              <a:pathLst>
                <a:path w="4895" h="3131">
                  <a:moveTo>
                    <a:pt x="2478" y="339"/>
                  </a:moveTo>
                  <a:lnTo>
                    <a:pt x="2489" y="331"/>
                  </a:lnTo>
                  <a:lnTo>
                    <a:pt x="2519" y="312"/>
                  </a:lnTo>
                  <a:lnTo>
                    <a:pt x="2562" y="283"/>
                  </a:lnTo>
                  <a:lnTo>
                    <a:pt x="2615" y="248"/>
                  </a:lnTo>
                  <a:lnTo>
                    <a:pt x="2680" y="210"/>
                  </a:lnTo>
                  <a:lnTo>
                    <a:pt x="2747" y="172"/>
                  </a:lnTo>
                  <a:lnTo>
                    <a:pt x="2814" y="138"/>
                  </a:lnTo>
                  <a:lnTo>
                    <a:pt x="2881" y="111"/>
                  </a:lnTo>
                  <a:lnTo>
                    <a:pt x="2946" y="89"/>
                  </a:lnTo>
                  <a:lnTo>
                    <a:pt x="3010" y="68"/>
                  </a:lnTo>
                  <a:lnTo>
                    <a:pt x="3072" y="52"/>
                  </a:lnTo>
                  <a:lnTo>
                    <a:pt x="3134" y="35"/>
                  </a:lnTo>
                  <a:lnTo>
                    <a:pt x="3193" y="22"/>
                  </a:lnTo>
                  <a:lnTo>
                    <a:pt x="3252" y="11"/>
                  </a:lnTo>
                  <a:lnTo>
                    <a:pt x="3311" y="6"/>
                  </a:lnTo>
                  <a:lnTo>
                    <a:pt x="3370" y="0"/>
                  </a:lnTo>
                  <a:lnTo>
                    <a:pt x="3429" y="0"/>
                  </a:lnTo>
                  <a:lnTo>
                    <a:pt x="3485" y="6"/>
                  </a:lnTo>
                  <a:lnTo>
                    <a:pt x="3542" y="14"/>
                  </a:lnTo>
                  <a:lnTo>
                    <a:pt x="3601" y="27"/>
                  </a:lnTo>
                  <a:lnTo>
                    <a:pt x="3657" y="46"/>
                  </a:lnTo>
                  <a:lnTo>
                    <a:pt x="3714" y="70"/>
                  </a:lnTo>
                  <a:lnTo>
                    <a:pt x="3773" y="97"/>
                  </a:lnTo>
                  <a:lnTo>
                    <a:pt x="3829" y="132"/>
                  </a:lnTo>
                  <a:lnTo>
                    <a:pt x="3878" y="167"/>
                  </a:lnTo>
                  <a:lnTo>
                    <a:pt x="3926" y="207"/>
                  </a:lnTo>
                  <a:lnTo>
                    <a:pt x="3972" y="253"/>
                  </a:lnTo>
                  <a:lnTo>
                    <a:pt x="4012" y="299"/>
                  </a:lnTo>
                  <a:lnTo>
                    <a:pt x="4047" y="339"/>
                  </a:lnTo>
                  <a:lnTo>
                    <a:pt x="4076" y="371"/>
                  </a:lnTo>
                  <a:lnTo>
                    <a:pt x="4095" y="396"/>
                  </a:lnTo>
                  <a:lnTo>
                    <a:pt x="4100" y="404"/>
                  </a:lnTo>
                  <a:lnTo>
                    <a:pt x="4576" y="439"/>
                  </a:lnTo>
                  <a:lnTo>
                    <a:pt x="4584" y="436"/>
                  </a:lnTo>
                  <a:lnTo>
                    <a:pt x="4605" y="433"/>
                  </a:lnTo>
                  <a:lnTo>
                    <a:pt x="4638" y="430"/>
                  </a:lnTo>
                  <a:lnTo>
                    <a:pt x="4675" y="428"/>
                  </a:lnTo>
                  <a:lnTo>
                    <a:pt x="4718" y="428"/>
                  </a:lnTo>
                  <a:lnTo>
                    <a:pt x="4761" y="433"/>
                  </a:lnTo>
                  <a:lnTo>
                    <a:pt x="4804" y="444"/>
                  </a:lnTo>
                  <a:lnTo>
                    <a:pt x="4839" y="463"/>
                  </a:lnTo>
                  <a:lnTo>
                    <a:pt x="4855" y="522"/>
                  </a:lnTo>
                  <a:lnTo>
                    <a:pt x="4858" y="651"/>
                  </a:lnTo>
                  <a:lnTo>
                    <a:pt x="4855" y="826"/>
                  </a:lnTo>
                  <a:lnTo>
                    <a:pt x="4847" y="1024"/>
                  </a:lnTo>
                  <a:lnTo>
                    <a:pt x="4836" y="1223"/>
                  </a:lnTo>
                  <a:lnTo>
                    <a:pt x="4825" y="1393"/>
                  </a:lnTo>
                  <a:lnTo>
                    <a:pt x="4815" y="1514"/>
                  </a:lnTo>
                  <a:lnTo>
                    <a:pt x="4812" y="1559"/>
                  </a:lnTo>
                  <a:lnTo>
                    <a:pt x="4842" y="2328"/>
                  </a:lnTo>
                  <a:lnTo>
                    <a:pt x="4895" y="2581"/>
                  </a:lnTo>
                  <a:lnTo>
                    <a:pt x="4686" y="2688"/>
                  </a:lnTo>
                  <a:lnTo>
                    <a:pt x="4726" y="2919"/>
                  </a:lnTo>
                  <a:lnTo>
                    <a:pt x="4318" y="2884"/>
                  </a:lnTo>
                  <a:lnTo>
                    <a:pt x="3612" y="2804"/>
                  </a:lnTo>
                  <a:lnTo>
                    <a:pt x="3037" y="2691"/>
                  </a:lnTo>
                  <a:lnTo>
                    <a:pt x="3034" y="2693"/>
                  </a:lnTo>
                  <a:lnTo>
                    <a:pt x="3026" y="2699"/>
                  </a:lnTo>
                  <a:lnTo>
                    <a:pt x="3010" y="2707"/>
                  </a:lnTo>
                  <a:lnTo>
                    <a:pt x="2991" y="2718"/>
                  </a:lnTo>
                  <a:lnTo>
                    <a:pt x="2970" y="2731"/>
                  </a:lnTo>
                  <a:lnTo>
                    <a:pt x="2943" y="2744"/>
                  </a:lnTo>
                  <a:lnTo>
                    <a:pt x="2913" y="2758"/>
                  </a:lnTo>
                  <a:lnTo>
                    <a:pt x="2881" y="2771"/>
                  </a:lnTo>
                  <a:lnTo>
                    <a:pt x="2846" y="2785"/>
                  </a:lnTo>
                  <a:lnTo>
                    <a:pt x="2811" y="2798"/>
                  </a:lnTo>
                  <a:lnTo>
                    <a:pt x="2774" y="2809"/>
                  </a:lnTo>
                  <a:lnTo>
                    <a:pt x="2739" y="2817"/>
                  </a:lnTo>
                  <a:lnTo>
                    <a:pt x="2701" y="2822"/>
                  </a:lnTo>
                  <a:lnTo>
                    <a:pt x="2666" y="2822"/>
                  </a:lnTo>
                  <a:lnTo>
                    <a:pt x="2631" y="2820"/>
                  </a:lnTo>
                  <a:lnTo>
                    <a:pt x="2599" y="2812"/>
                  </a:lnTo>
                  <a:lnTo>
                    <a:pt x="2575" y="2801"/>
                  </a:lnTo>
                  <a:lnTo>
                    <a:pt x="2548" y="2785"/>
                  </a:lnTo>
                  <a:lnTo>
                    <a:pt x="2521" y="2769"/>
                  </a:lnTo>
                  <a:lnTo>
                    <a:pt x="2500" y="2753"/>
                  </a:lnTo>
                  <a:lnTo>
                    <a:pt x="2478" y="2736"/>
                  </a:lnTo>
                  <a:lnTo>
                    <a:pt x="2462" y="2726"/>
                  </a:lnTo>
                  <a:lnTo>
                    <a:pt x="2449" y="2715"/>
                  </a:lnTo>
                  <a:lnTo>
                    <a:pt x="2446" y="2712"/>
                  </a:lnTo>
                  <a:lnTo>
                    <a:pt x="2438" y="2715"/>
                  </a:lnTo>
                  <a:lnTo>
                    <a:pt x="2414" y="2720"/>
                  </a:lnTo>
                  <a:lnTo>
                    <a:pt x="2374" y="2728"/>
                  </a:lnTo>
                  <a:lnTo>
                    <a:pt x="2323" y="2742"/>
                  </a:lnTo>
                  <a:lnTo>
                    <a:pt x="2258" y="2755"/>
                  </a:lnTo>
                  <a:lnTo>
                    <a:pt x="2183" y="2771"/>
                  </a:lnTo>
                  <a:lnTo>
                    <a:pt x="2102" y="2790"/>
                  </a:lnTo>
                  <a:lnTo>
                    <a:pt x="2011" y="2812"/>
                  </a:lnTo>
                  <a:lnTo>
                    <a:pt x="1917" y="2833"/>
                  </a:lnTo>
                  <a:lnTo>
                    <a:pt x="1818" y="2855"/>
                  </a:lnTo>
                  <a:lnTo>
                    <a:pt x="1716" y="2879"/>
                  </a:lnTo>
                  <a:lnTo>
                    <a:pt x="1611" y="2900"/>
                  </a:lnTo>
                  <a:lnTo>
                    <a:pt x="1509" y="2922"/>
                  </a:lnTo>
                  <a:lnTo>
                    <a:pt x="1407" y="2946"/>
                  </a:lnTo>
                  <a:lnTo>
                    <a:pt x="1307" y="2968"/>
                  </a:lnTo>
                  <a:lnTo>
                    <a:pt x="1213" y="2986"/>
                  </a:lnTo>
                  <a:lnTo>
                    <a:pt x="1162" y="2997"/>
                  </a:lnTo>
                  <a:lnTo>
                    <a:pt x="1109" y="3011"/>
                  </a:lnTo>
                  <a:lnTo>
                    <a:pt x="1058" y="3021"/>
                  </a:lnTo>
                  <a:lnTo>
                    <a:pt x="1004" y="3035"/>
                  </a:lnTo>
                  <a:lnTo>
                    <a:pt x="950" y="3048"/>
                  </a:lnTo>
                  <a:lnTo>
                    <a:pt x="899" y="3062"/>
                  </a:lnTo>
                  <a:lnTo>
                    <a:pt x="848" y="3075"/>
                  </a:lnTo>
                  <a:lnTo>
                    <a:pt x="800" y="3088"/>
                  </a:lnTo>
                  <a:lnTo>
                    <a:pt x="752" y="3099"/>
                  </a:lnTo>
                  <a:lnTo>
                    <a:pt x="709" y="3110"/>
                  </a:lnTo>
                  <a:lnTo>
                    <a:pt x="666" y="3118"/>
                  </a:lnTo>
                  <a:lnTo>
                    <a:pt x="628" y="3123"/>
                  </a:lnTo>
                  <a:lnTo>
                    <a:pt x="593" y="3129"/>
                  </a:lnTo>
                  <a:lnTo>
                    <a:pt x="561" y="3131"/>
                  </a:lnTo>
                  <a:lnTo>
                    <a:pt x="534" y="3131"/>
                  </a:lnTo>
                  <a:lnTo>
                    <a:pt x="513" y="3129"/>
                  </a:lnTo>
                  <a:lnTo>
                    <a:pt x="462" y="3075"/>
                  </a:lnTo>
                  <a:lnTo>
                    <a:pt x="416" y="2951"/>
                  </a:lnTo>
                  <a:lnTo>
                    <a:pt x="370" y="2785"/>
                  </a:lnTo>
                  <a:lnTo>
                    <a:pt x="333" y="2591"/>
                  </a:lnTo>
                  <a:lnTo>
                    <a:pt x="300" y="2403"/>
                  </a:lnTo>
                  <a:lnTo>
                    <a:pt x="276" y="2237"/>
                  </a:lnTo>
                  <a:lnTo>
                    <a:pt x="260" y="2116"/>
                  </a:lnTo>
                  <a:lnTo>
                    <a:pt x="255" y="2065"/>
                  </a:lnTo>
                  <a:lnTo>
                    <a:pt x="247" y="2003"/>
                  </a:lnTo>
                  <a:lnTo>
                    <a:pt x="236" y="1914"/>
                  </a:lnTo>
                  <a:lnTo>
                    <a:pt x="220" y="1812"/>
                  </a:lnTo>
                  <a:lnTo>
                    <a:pt x="204" y="1702"/>
                  </a:lnTo>
                  <a:lnTo>
                    <a:pt x="188" y="1600"/>
                  </a:lnTo>
                  <a:lnTo>
                    <a:pt x="177" y="1514"/>
                  </a:lnTo>
                  <a:lnTo>
                    <a:pt x="166" y="1452"/>
                  </a:lnTo>
                  <a:lnTo>
                    <a:pt x="163" y="1430"/>
                  </a:lnTo>
                  <a:lnTo>
                    <a:pt x="155" y="1401"/>
                  </a:lnTo>
                  <a:lnTo>
                    <a:pt x="131" y="1320"/>
                  </a:lnTo>
                  <a:lnTo>
                    <a:pt x="99" y="1204"/>
                  </a:lnTo>
                  <a:lnTo>
                    <a:pt x="67" y="1070"/>
                  </a:lnTo>
                  <a:lnTo>
                    <a:pt x="35" y="938"/>
                  </a:lnTo>
                  <a:lnTo>
                    <a:pt x="10" y="817"/>
                  </a:lnTo>
                  <a:lnTo>
                    <a:pt x="0" y="729"/>
                  </a:lnTo>
                  <a:lnTo>
                    <a:pt x="8" y="688"/>
                  </a:lnTo>
                  <a:lnTo>
                    <a:pt x="48" y="678"/>
                  </a:lnTo>
                  <a:lnTo>
                    <a:pt x="91" y="672"/>
                  </a:lnTo>
                  <a:lnTo>
                    <a:pt x="137" y="670"/>
                  </a:lnTo>
                  <a:lnTo>
                    <a:pt x="180" y="670"/>
                  </a:lnTo>
                  <a:lnTo>
                    <a:pt x="217" y="672"/>
                  </a:lnTo>
                  <a:lnTo>
                    <a:pt x="249" y="675"/>
                  </a:lnTo>
                  <a:lnTo>
                    <a:pt x="268" y="678"/>
                  </a:lnTo>
                  <a:lnTo>
                    <a:pt x="276" y="678"/>
                  </a:lnTo>
                  <a:lnTo>
                    <a:pt x="231" y="522"/>
                  </a:lnTo>
                  <a:lnTo>
                    <a:pt x="693" y="366"/>
                  </a:lnTo>
                  <a:lnTo>
                    <a:pt x="701" y="363"/>
                  </a:lnTo>
                  <a:lnTo>
                    <a:pt x="719" y="350"/>
                  </a:lnTo>
                  <a:lnTo>
                    <a:pt x="752" y="334"/>
                  </a:lnTo>
                  <a:lnTo>
                    <a:pt x="795" y="312"/>
                  </a:lnTo>
                  <a:lnTo>
                    <a:pt x="846" y="285"/>
                  </a:lnTo>
                  <a:lnTo>
                    <a:pt x="907" y="256"/>
                  </a:lnTo>
                  <a:lnTo>
                    <a:pt x="974" y="224"/>
                  </a:lnTo>
                  <a:lnTo>
                    <a:pt x="1050" y="191"/>
                  </a:lnTo>
                  <a:lnTo>
                    <a:pt x="1128" y="159"/>
                  </a:lnTo>
                  <a:lnTo>
                    <a:pt x="1211" y="129"/>
                  </a:lnTo>
                  <a:lnTo>
                    <a:pt x="1297" y="100"/>
                  </a:lnTo>
                  <a:lnTo>
                    <a:pt x="1383" y="76"/>
                  </a:lnTo>
                  <a:lnTo>
                    <a:pt x="1471" y="54"/>
                  </a:lnTo>
                  <a:lnTo>
                    <a:pt x="1557" y="38"/>
                  </a:lnTo>
                  <a:lnTo>
                    <a:pt x="1643" y="27"/>
                  </a:lnTo>
                  <a:lnTo>
                    <a:pt x="1724" y="25"/>
                  </a:lnTo>
                  <a:lnTo>
                    <a:pt x="1850" y="30"/>
                  </a:lnTo>
                  <a:lnTo>
                    <a:pt x="1960" y="43"/>
                  </a:lnTo>
                  <a:lnTo>
                    <a:pt x="2057" y="60"/>
                  </a:lnTo>
                  <a:lnTo>
                    <a:pt x="2140" y="81"/>
                  </a:lnTo>
                  <a:lnTo>
                    <a:pt x="2213" y="105"/>
                  </a:lnTo>
                  <a:lnTo>
                    <a:pt x="2274" y="132"/>
                  </a:lnTo>
                  <a:lnTo>
                    <a:pt x="2325" y="159"/>
                  </a:lnTo>
                  <a:lnTo>
                    <a:pt x="2368" y="189"/>
                  </a:lnTo>
                  <a:lnTo>
                    <a:pt x="2400" y="218"/>
                  </a:lnTo>
                  <a:lnTo>
                    <a:pt x="2427" y="245"/>
                  </a:lnTo>
                  <a:lnTo>
                    <a:pt x="2446" y="269"/>
                  </a:lnTo>
                  <a:lnTo>
                    <a:pt x="2460" y="293"/>
                  </a:lnTo>
                  <a:lnTo>
                    <a:pt x="2470" y="312"/>
                  </a:lnTo>
                  <a:lnTo>
                    <a:pt x="2476" y="326"/>
                  </a:lnTo>
                  <a:lnTo>
                    <a:pt x="2478" y="336"/>
                  </a:lnTo>
                  <a:lnTo>
                    <a:pt x="2478"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92600" y="82800"/>
              <a:ext cx="2360520" cy="5940360"/>
            </a:xfrm>
            <a:custGeom>
              <a:avLst/>
              <a:gdLst/>
              <a:ahLst/>
              <a:rect l="l" t="t" r="r" b="b"/>
              <a:pathLst>
                <a:path w="1367" h="2712">
                  <a:moveTo>
                    <a:pt x="1141" y="2712"/>
                  </a:moveTo>
                  <a:lnTo>
                    <a:pt x="1354" y="2588"/>
                  </a:lnTo>
                  <a:lnTo>
                    <a:pt x="1332" y="1529"/>
                  </a:lnTo>
                  <a:lnTo>
                    <a:pt x="1367" y="390"/>
                  </a:lnTo>
                  <a:lnTo>
                    <a:pt x="859" y="374"/>
                  </a:lnTo>
                  <a:lnTo>
                    <a:pt x="0" y="0"/>
                  </a:lnTo>
                  <a:lnTo>
                    <a:pt x="1096" y="1607"/>
                  </a:lnTo>
                  <a:lnTo>
                    <a:pt x="1141" y="2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1760" y="1136160"/>
              <a:ext cx="8003880" cy="5622480"/>
            </a:xfrm>
            <a:custGeom>
              <a:avLst/>
              <a:gdLst/>
              <a:ahLst/>
              <a:rect l="l" t="t" r="r" b="b"/>
              <a:pathLst>
                <a:path w="4635" h="2567">
                  <a:moveTo>
                    <a:pt x="2428" y="0"/>
                  </a:moveTo>
                  <a:lnTo>
                    <a:pt x="0" y="245"/>
                  </a:lnTo>
                  <a:lnTo>
                    <a:pt x="443" y="2567"/>
                  </a:lnTo>
                  <a:lnTo>
                    <a:pt x="2433" y="2158"/>
                  </a:lnTo>
                  <a:lnTo>
                    <a:pt x="2514" y="2242"/>
                  </a:lnTo>
                  <a:lnTo>
                    <a:pt x="2763" y="2244"/>
                  </a:lnTo>
                  <a:lnTo>
                    <a:pt x="2919" y="2139"/>
                  </a:lnTo>
                  <a:lnTo>
                    <a:pt x="4635" y="2352"/>
                  </a:lnTo>
                  <a:lnTo>
                    <a:pt x="4501" y="43"/>
                  </a:lnTo>
                  <a:lnTo>
                    <a:pt x="242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5760" y="1101600"/>
              <a:ext cx="4228560" cy="606240"/>
            </a:xfrm>
            <a:custGeom>
              <a:avLst/>
              <a:gdLst/>
              <a:ahLst/>
              <a:rect l="l" t="t" r="r" b="b"/>
              <a:pathLst>
                <a:path w="2449" h="277">
                  <a:moveTo>
                    <a:pt x="37" y="258"/>
                  </a:moveTo>
                  <a:lnTo>
                    <a:pt x="21" y="277"/>
                  </a:lnTo>
                  <a:lnTo>
                    <a:pt x="2449" y="32"/>
                  </a:lnTo>
                  <a:lnTo>
                    <a:pt x="2449" y="0"/>
                  </a:lnTo>
                  <a:lnTo>
                    <a:pt x="21" y="245"/>
                  </a:lnTo>
                  <a:lnTo>
                    <a:pt x="5" y="263"/>
                  </a:lnTo>
                  <a:lnTo>
                    <a:pt x="21" y="245"/>
                  </a:lnTo>
                  <a:lnTo>
                    <a:pt x="0" y="245"/>
                  </a:lnTo>
                  <a:lnTo>
                    <a:pt x="5" y="263"/>
                  </a:lnTo>
                  <a:lnTo>
                    <a:pt x="3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64400" y="1666800"/>
              <a:ext cx="819720" cy="5138280"/>
            </a:xfrm>
            <a:custGeom>
              <a:avLst/>
              <a:gdLst/>
              <a:ahLst/>
              <a:rect l="l" t="t" r="r" b="b"/>
              <a:pathLst>
                <a:path w="475" h="2346">
                  <a:moveTo>
                    <a:pt x="456" y="2309"/>
                  </a:moveTo>
                  <a:lnTo>
                    <a:pt x="475" y="2322"/>
                  </a:lnTo>
                  <a:lnTo>
                    <a:pt x="32" y="0"/>
                  </a:lnTo>
                  <a:lnTo>
                    <a:pt x="0" y="5"/>
                  </a:lnTo>
                  <a:lnTo>
                    <a:pt x="443" y="2327"/>
                  </a:lnTo>
                  <a:lnTo>
                    <a:pt x="462" y="2341"/>
                  </a:lnTo>
                  <a:lnTo>
                    <a:pt x="443" y="2327"/>
                  </a:lnTo>
                  <a:lnTo>
                    <a:pt x="446" y="2346"/>
                  </a:lnTo>
                  <a:lnTo>
                    <a:pt x="462" y="2341"/>
                  </a:lnTo>
                  <a:lnTo>
                    <a:pt x="456" y="2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51360" y="5821560"/>
              <a:ext cx="3465720" cy="972360"/>
            </a:xfrm>
            <a:custGeom>
              <a:avLst/>
              <a:gdLst/>
              <a:ahLst/>
              <a:rect l="l" t="t" r="r" b="b"/>
              <a:pathLst>
                <a:path w="2007" h="444">
                  <a:moveTo>
                    <a:pt x="2007" y="9"/>
                  </a:moveTo>
                  <a:lnTo>
                    <a:pt x="1990" y="3"/>
                  </a:lnTo>
                  <a:lnTo>
                    <a:pt x="0" y="412"/>
                  </a:lnTo>
                  <a:lnTo>
                    <a:pt x="6" y="444"/>
                  </a:lnTo>
                  <a:lnTo>
                    <a:pt x="1996" y="35"/>
                  </a:lnTo>
                  <a:lnTo>
                    <a:pt x="1980" y="30"/>
                  </a:lnTo>
                  <a:lnTo>
                    <a:pt x="2007" y="9"/>
                  </a:lnTo>
                  <a:lnTo>
                    <a:pt x="1998" y="0"/>
                  </a:lnTo>
                  <a:lnTo>
                    <a:pt x="1990" y="3"/>
                  </a:lnTo>
                  <a:lnTo>
                    <a:pt x="20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671000" y="5841360"/>
              <a:ext cx="184320" cy="244800"/>
            </a:xfrm>
            <a:custGeom>
              <a:avLst/>
              <a:gdLst/>
              <a:ahLst/>
              <a:rect l="l" t="t" r="r" b="b"/>
              <a:pathLst>
                <a:path w="107" h="112">
                  <a:moveTo>
                    <a:pt x="94" y="75"/>
                  </a:moveTo>
                  <a:lnTo>
                    <a:pt x="107" y="83"/>
                  </a:lnTo>
                  <a:lnTo>
                    <a:pt x="27" y="0"/>
                  </a:lnTo>
                  <a:lnTo>
                    <a:pt x="0" y="21"/>
                  </a:lnTo>
                  <a:lnTo>
                    <a:pt x="80" y="104"/>
                  </a:lnTo>
                  <a:lnTo>
                    <a:pt x="94" y="112"/>
                  </a:lnTo>
                  <a:lnTo>
                    <a:pt x="80" y="104"/>
                  </a:lnTo>
                  <a:lnTo>
                    <a:pt x="88" y="110"/>
                  </a:lnTo>
                  <a:lnTo>
                    <a:pt x="94" y="112"/>
                  </a:lnTo>
                  <a:lnTo>
                    <a:pt x="9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833000" y="6005520"/>
              <a:ext cx="443520" cy="87840"/>
            </a:xfrm>
            <a:custGeom>
              <a:avLst/>
              <a:gdLst/>
              <a:ahLst/>
              <a:rect l="l" t="t" r="r" b="b"/>
              <a:pathLst>
                <a:path w="257" h="40">
                  <a:moveTo>
                    <a:pt x="241" y="8"/>
                  </a:moveTo>
                  <a:lnTo>
                    <a:pt x="249" y="2"/>
                  </a:lnTo>
                  <a:lnTo>
                    <a:pt x="0" y="0"/>
                  </a:lnTo>
                  <a:lnTo>
                    <a:pt x="0" y="37"/>
                  </a:lnTo>
                  <a:lnTo>
                    <a:pt x="249" y="40"/>
                  </a:lnTo>
                  <a:lnTo>
                    <a:pt x="257" y="35"/>
                  </a:lnTo>
                  <a:lnTo>
                    <a:pt x="249" y="40"/>
                  </a:lnTo>
                  <a:lnTo>
                    <a:pt x="255" y="40"/>
                  </a:lnTo>
                  <a:lnTo>
                    <a:pt x="257" y="35"/>
                  </a:lnTo>
                  <a:lnTo>
                    <a:pt x="241"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2" name=""/>
            <p:cNvSpPr/>
            <p:nvPr/>
          </p:nvSpPr>
          <p:spPr>
            <a:xfrm>
              <a:off x="5249520" y="5781960"/>
              <a:ext cx="296640" cy="300240"/>
            </a:xfrm>
            <a:custGeom>
              <a:avLst/>
              <a:gdLst/>
              <a:ahLst/>
              <a:rect l="l" t="t" r="r" b="b"/>
              <a:pathLst>
                <a:path w="172" h="137">
                  <a:moveTo>
                    <a:pt x="164" y="2"/>
                  </a:moveTo>
                  <a:lnTo>
                    <a:pt x="156" y="5"/>
                  </a:lnTo>
                  <a:lnTo>
                    <a:pt x="0" y="110"/>
                  </a:lnTo>
                  <a:lnTo>
                    <a:pt x="16" y="137"/>
                  </a:lnTo>
                  <a:lnTo>
                    <a:pt x="172" y="32"/>
                  </a:lnTo>
                  <a:lnTo>
                    <a:pt x="164" y="35"/>
                  </a:lnTo>
                  <a:lnTo>
                    <a:pt x="164" y="2"/>
                  </a:lnTo>
                  <a:lnTo>
                    <a:pt x="161" y="0"/>
                  </a:lnTo>
                  <a:lnTo>
                    <a:pt x="156" y="5"/>
                  </a:lnTo>
                  <a:lnTo>
                    <a:pt x="16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32480" y="5786280"/>
              <a:ext cx="2995920" cy="543240"/>
            </a:xfrm>
            <a:custGeom>
              <a:avLst/>
              <a:gdLst/>
              <a:ahLst/>
              <a:rect l="l" t="t" r="r" b="b"/>
              <a:pathLst>
                <a:path w="1735" h="248">
                  <a:moveTo>
                    <a:pt x="1700" y="229"/>
                  </a:moveTo>
                  <a:lnTo>
                    <a:pt x="1716" y="213"/>
                  </a:lnTo>
                  <a:lnTo>
                    <a:pt x="0" y="0"/>
                  </a:lnTo>
                  <a:lnTo>
                    <a:pt x="0" y="33"/>
                  </a:lnTo>
                  <a:lnTo>
                    <a:pt x="1716" y="245"/>
                  </a:lnTo>
                  <a:lnTo>
                    <a:pt x="1732" y="229"/>
                  </a:lnTo>
                  <a:lnTo>
                    <a:pt x="1716" y="245"/>
                  </a:lnTo>
                  <a:lnTo>
                    <a:pt x="1735" y="248"/>
                  </a:lnTo>
                  <a:lnTo>
                    <a:pt x="1732" y="229"/>
                  </a:lnTo>
                  <a:lnTo>
                    <a:pt x="170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236800" y="1195920"/>
              <a:ext cx="286560" cy="5091840"/>
            </a:xfrm>
            <a:custGeom>
              <a:avLst/>
              <a:gdLst/>
              <a:ahLst/>
              <a:rect l="l" t="t" r="r" b="b"/>
              <a:pathLst>
                <a:path w="166" h="2325">
                  <a:moveTo>
                    <a:pt x="16" y="32"/>
                  </a:moveTo>
                  <a:lnTo>
                    <a:pt x="0" y="16"/>
                  </a:lnTo>
                  <a:lnTo>
                    <a:pt x="134" y="2325"/>
                  </a:lnTo>
                  <a:lnTo>
                    <a:pt x="166" y="2325"/>
                  </a:lnTo>
                  <a:lnTo>
                    <a:pt x="32" y="16"/>
                  </a:lnTo>
                  <a:lnTo>
                    <a:pt x="16" y="0"/>
                  </a:lnTo>
                  <a:lnTo>
                    <a:pt x="32" y="16"/>
                  </a:lnTo>
                  <a:lnTo>
                    <a:pt x="32" y="0"/>
                  </a:lnTo>
                  <a:lnTo>
                    <a:pt x="16" y="0"/>
                  </a:lnTo>
                  <a:lnTo>
                    <a:pt x="1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684680" y="1101600"/>
              <a:ext cx="3579480" cy="164160"/>
            </a:xfrm>
            <a:custGeom>
              <a:avLst/>
              <a:gdLst/>
              <a:ahLst/>
              <a:rect l="l" t="t" r="r" b="b"/>
              <a:pathLst>
                <a:path w="2073" h="75">
                  <a:moveTo>
                    <a:pt x="0" y="32"/>
                  </a:moveTo>
                  <a:lnTo>
                    <a:pt x="0" y="32"/>
                  </a:lnTo>
                  <a:lnTo>
                    <a:pt x="2073" y="75"/>
                  </a:lnTo>
                  <a:lnTo>
                    <a:pt x="2073" y="43"/>
                  </a:lnTo>
                  <a:lnTo>
                    <a:pt x="0"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19640" y="501480"/>
              <a:ext cx="7734240" cy="6033600"/>
            </a:xfrm>
            <a:custGeom>
              <a:avLst/>
              <a:gdLst/>
              <a:ahLst/>
              <a:rect l="l" t="t" r="r" b="b"/>
              <a:pathLst>
                <a:path w="4479" h="2755">
                  <a:moveTo>
                    <a:pt x="172" y="446"/>
                  </a:moveTo>
                  <a:lnTo>
                    <a:pt x="0" y="680"/>
                  </a:lnTo>
                  <a:lnTo>
                    <a:pt x="397" y="2755"/>
                  </a:lnTo>
                  <a:lnTo>
                    <a:pt x="2204" y="2338"/>
                  </a:lnTo>
                  <a:lnTo>
                    <a:pt x="2776" y="2338"/>
                  </a:lnTo>
                  <a:lnTo>
                    <a:pt x="3770" y="2467"/>
                  </a:lnTo>
                  <a:lnTo>
                    <a:pt x="4479" y="2537"/>
                  </a:lnTo>
                  <a:lnTo>
                    <a:pt x="4460" y="395"/>
                  </a:lnTo>
                  <a:lnTo>
                    <a:pt x="4452" y="390"/>
                  </a:lnTo>
                  <a:lnTo>
                    <a:pt x="4425" y="376"/>
                  </a:lnTo>
                  <a:lnTo>
                    <a:pt x="4388" y="357"/>
                  </a:lnTo>
                  <a:lnTo>
                    <a:pt x="4334" y="330"/>
                  </a:lnTo>
                  <a:lnTo>
                    <a:pt x="4267" y="298"/>
                  </a:lnTo>
                  <a:lnTo>
                    <a:pt x="4192" y="263"/>
                  </a:lnTo>
                  <a:lnTo>
                    <a:pt x="4106" y="228"/>
                  </a:lnTo>
                  <a:lnTo>
                    <a:pt x="4014" y="191"/>
                  </a:lnTo>
                  <a:lnTo>
                    <a:pt x="3915" y="153"/>
                  </a:lnTo>
                  <a:lnTo>
                    <a:pt x="3810" y="118"/>
                  </a:lnTo>
                  <a:lnTo>
                    <a:pt x="3706" y="83"/>
                  </a:lnTo>
                  <a:lnTo>
                    <a:pt x="3598" y="56"/>
                  </a:lnTo>
                  <a:lnTo>
                    <a:pt x="3488" y="32"/>
                  </a:lnTo>
                  <a:lnTo>
                    <a:pt x="3381" y="16"/>
                  </a:lnTo>
                  <a:lnTo>
                    <a:pt x="3276" y="8"/>
                  </a:lnTo>
                  <a:lnTo>
                    <a:pt x="3177" y="11"/>
                  </a:lnTo>
                  <a:lnTo>
                    <a:pt x="3107" y="16"/>
                  </a:lnTo>
                  <a:lnTo>
                    <a:pt x="3034" y="29"/>
                  </a:lnTo>
                  <a:lnTo>
                    <a:pt x="2962" y="46"/>
                  </a:lnTo>
                  <a:lnTo>
                    <a:pt x="2887" y="64"/>
                  </a:lnTo>
                  <a:lnTo>
                    <a:pt x="2814" y="86"/>
                  </a:lnTo>
                  <a:lnTo>
                    <a:pt x="2739" y="107"/>
                  </a:lnTo>
                  <a:lnTo>
                    <a:pt x="2669" y="134"/>
                  </a:lnTo>
                  <a:lnTo>
                    <a:pt x="2602" y="158"/>
                  </a:lnTo>
                  <a:lnTo>
                    <a:pt x="2537" y="183"/>
                  </a:lnTo>
                  <a:lnTo>
                    <a:pt x="2478" y="207"/>
                  </a:lnTo>
                  <a:lnTo>
                    <a:pt x="2427" y="228"/>
                  </a:lnTo>
                  <a:lnTo>
                    <a:pt x="2382" y="250"/>
                  </a:lnTo>
                  <a:lnTo>
                    <a:pt x="2347" y="266"/>
                  </a:lnTo>
                  <a:lnTo>
                    <a:pt x="2320" y="279"/>
                  </a:lnTo>
                  <a:lnTo>
                    <a:pt x="2301" y="287"/>
                  </a:lnTo>
                  <a:lnTo>
                    <a:pt x="2296" y="290"/>
                  </a:lnTo>
                  <a:lnTo>
                    <a:pt x="2288" y="287"/>
                  </a:lnTo>
                  <a:lnTo>
                    <a:pt x="2266" y="277"/>
                  </a:lnTo>
                  <a:lnTo>
                    <a:pt x="2231" y="261"/>
                  </a:lnTo>
                  <a:lnTo>
                    <a:pt x="2183" y="239"/>
                  </a:lnTo>
                  <a:lnTo>
                    <a:pt x="2124" y="215"/>
                  </a:lnTo>
                  <a:lnTo>
                    <a:pt x="2057" y="188"/>
                  </a:lnTo>
                  <a:lnTo>
                    <a:pt x="1982" y="158"/>
                  </a:lnTo>
                  <a:lnTo>
                    <a:pt x="1898" y="129"/>
                  </a:lnTo>
                  <a:lnTo>
                    <a:pt x="1812" y="102"/>
                  </a:lnTo>
                  <a:lnTo>
                    <a:pt x="1721" y="75"/>
                  </a:lnTo>
                  <a:lnTo>
                    <a:pt x="1624" y="51"/>
                  </a:lnTo>
                  <a:lnTo>
                    <a:pt x="1530" y="29"/>
                  </a:lnTo>
                  <a:lnTo>
                    <a:pt x="1434" y="13"/>
                  </a:lnTo>
                  <a:lnTo>
                    <a:pt x="1340" y="3"/>
                  </a:lnTo>
                  <a:lnTo>
                    <a:pt x="1248" y="0"/>
                  </a:lnTo>
                  <a:lnTo>
                    <a:pt x="1160" y="5"/>
                  </a:lnTo>
                  <a:lnTo>
                    <a:pt x="1079" y="16"/>
                  </a:lnTo>
                  <a:lnTo>
                    <a:pt x="996" y="38"/>
                  </a:lnTo>
                  <a:lnTo>
                    <a:pt x="913" y="62"/>
                  </a:lnTo>
                  <a:lnTo>
                    <a:pt x="829" y="91"/>
                  </a:lnTo>
                  <a:lnTo>
                    <a:pt x="746" y="126"/>
                  </a:lnTo>
                  <a:lnTo>
                    <a:pt x="663" y="164"/>
                  </a:lnTo>
                  <a:lnTo>
                    <a:pt x="585" y="201"/>
                  </a:lnTo>
                  <a:lnTo>
                    <a:pt x="510" y="242"/>
                  </a:lnTo>
                  <a:lnTo>
                    <a:pt x="437" y="279"/>
                  </a:lnTo>
                  <a:lnTo>
                    <a:pt x="373" y="317"/>
                  </a:lnTo>
                  <a:lnTo>
                    <a:pt x="317" y="352"/>
                  </a:lnTo>
                  <a:lnTo>
                    <a:pt x="268" y="384"/>
                  </a:lnTo>
                  <a:lnTo>
                    <a:pt x="228" y="408"/>
                  </a:lnTo>
                  <a:lnTo>
                    <a:pt x="196" y="430"/>
                  </a:lnTo>
                  <a:lnTo>
                    <a:pt x="177" y="441"/>
                  </a:lnTo>
                  <a:lnTo>
                    <a:pt x="172"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2280" y="1460520"/>
              <a:ext cx="346680" cy="547560"/>
            </a:xfrm>
            <a:custGeom>
              <a:avLst/>
              <a:gdLst/>
              <a:ahLst/>
              <a:rect l="l" t="t" r="r" b="b"/>
              <a:pathLst>
                <a:path w="201" h="250">
                  <a:moveTo>
                    <a:pt x="32" y="239"/>
                  </a:moveTo>
                  <a:lnTo>
                    <a:pt x="29" y="250"/>
                  </a:lnTo>
                  <a:lnTo>
                    <a:pt x="201" y="16"/>
                  </a:lnTo>
                  <a:lnTo>
                    <a:pt x="174" y="0"/>
                  </a:lnTo>
                  <a:lnTo>
                    <a:pt x="2" y="234"/>
                  </a:lnTo>
                  <a:lnTo>
                    <a:pt x="0" y="245"/>
                  </a:lnTo>
                  <a:lnTo>
                    <a:pt x="2" y="234"/>
                  </a:lnTo>
                  <a:lnTo>
                    <a:pt x="0" y="239"/>
                  </a:lnTo>
                  <a:lnTo>
                    <a:pt x="0" y="245"/>
                  </a:lnTo>
                  <a:lnTo>
                    <a:pt x="32"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92280" y="1983960"/>
              <a:ext cx="740160" cy="4590720"/>
            </a:xfrm>
            <a:custGeom>
              <a:avLst/>
              <a:gdLst/>
              <a:ahLst/>
              <a:rect l="l" t="t" r="r" b="b"/>
              <a:pathLst>
                <a:path w="429" h="2096">
                  <a:moveTo>
                    <a:pt x="410" y="2062"/>
                  </a:moveTo>
                  <a:lnTo>
                    <a:pt x="429" y="2075"/>
                  </a:lnTo>
                  <a:lnTo>
                    <a:pt x="32" y="0"/>
                  </a:lnTo>
                  <a:lnTo>
                    <a:pt x="0" y="6"/>
                  </a:lnTo>
                  <a:lnTo>
                    <a:pt x="397" y="2080"/>
                  </a:lnTo>
                  <a:lnTo>
                    <a:pt x="416" y="2094"/>
                  </a:lnTo>
                  <a:lnTo>
                    <a:pt x="397" y="2080"/>
                  </a:lnTo>
                  <a:lnTo>
                    <a:pt x="400" y="2096"/>
                  </a:lnTo>
                  <a:lnTo>
                    <a:pt x="416" y="2094"/>
                  </a:lnTo>
                  <a:lnTo>
                    <a:pt x="41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00400" y="5587200"/>
              <a:ext cx="3130200" cy="983160"/>
            </a:xfrm>
            <a:custGeom>
              <a:avLst/>
              <a:gdLst/>
              <a:ahLst/>
              <a:rect l="l" t="t" r="r" b="b"/>
              <a:pathLst>
                <a:path w="1813" h="449">
                  <a:moveTo>
                    <a:pt x="1810" y="0"/>
                  </a:moveTo>
                  <a:lnTo>
                    <a:pt x="1808" y="0"/>
                  </a:lnTo>
                  <a:lnTo>
                    <a:pt x="0" y="417"/>
                  </a:lnTo>
                  <a:lnTo>
                    <a:pt x="6" y="449"/>
                  </a:lnTo>
                  <a:lnTo>
                    <a:pt x="1813" y="32"/>
                  </a:lnTo>
                  <a:lnTo>
                    <a:pt x="1810" y="32"/>
                  </a:lnTo>
                  <a:lnTo>
                    <a:pt x="1810" y="0"/>
                  </a:lnTo>
                  <a:lnTo>
                    <a:pt x="1810" y="0"/>
                  </a:lnTo>
                  <a:lnTo>
                    <a:pt x="1808" y="0"/>
                  </a:lnTo>
                  <a:lnTo>
                    <a:pt x="18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525560" y="5587200"/>
              <a:ext cx="987840" cy="69840"/>
            </a:xfrm>
            <a:custGeom>
              <a:avLst/>
              <a:gdLst/>
              <a:ahLst/>
              <a:rect l="l" t="t" r="r" b="b"/>
              <a:pathLst>
                <a:path w="572" h="32">
                  <a:moveTo>
                    <a:pt x="572" y="0"/>
                  </a:moveTo>
                  <a:lnTo>
                    <a:pt x="572" y="0"/>
                  </a:lnTo>
                  <a:lnTo>
                    <a:pt x="0" y="0"/>
                  </a:lnTo>
                  <a:lnTo>
                    <a:pt x="0" y="32"/>
                  </a:lnTo>
                  <a:lnTo>
                    <a:pt x="572" y="32"/>
                  </a:lnTo>
                  <a:lnTo>
                    <a:pt x="572" y="32"/>
                  </a:lnTo>
                  <a:lnTo>
                    <a:pt x="57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5513760" y="5587200"/>
              <a:ext cx="1716120" cy="352440"/>
            </a:xfrm>
            <a:custGeom>
              <a:avLst/>
              <a:gdLst/>
              <a:ahLst/>
              <a:rect l="l" t="t" r="r" b="b"/>
              <a:pathLst>
                <a:path w="994" h="161">
                  <a:moveTo>
                    <a:pt x="994" y="129"/>
                  </a:moveTo>
                  <a:lnTo>
                    <a:pt x="994" y="129"/>
                  </a:lnTo>
                  <a:lnTo>
                    <a:pt x="0" y="0"/>
                  </a:lnTo>
                  <a:lnTo>
                    <a:pt x="0" y="32"/>
                  </a:lnTo>
                  <a:lnTo>
                    <a:pt x="994" y="161"/>
                  </a:lnTo>
                  <a:lnTo>
                    <a:pt x="994" y="161"/>
                  </a:lnTo>
                  <a:lnTo>
                    <a:pt x="99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230240" y="5869800"/>
              <a:ext cx="1251720" cy="229680"/>
            </a:xfrm>
            <a:custGeom>
              <a:avLst/>
              <a:gdLst/>
              <a:ahLst/>
              <a:rect l="l" t="t" r="r" b="b"/>
              <a:pathLst>
                <a:path w="725" h="105">
                  <a:moveTo>
                    <a:pt x="693" y="86"/>
                  </a:moveTo>
                  <a:lnTo>
                    <a:pt x="709" y="70"/>
                  </a:lnTo>
                  <a:lnTo>
                    <a:pt x="0" y="0"/>
                  </a:lnTo>
                  <a:lnTo>
                    <a:pt x="0" y="32"/>
                  </a:lnTo>
                  <a:lnTo>
                    <a:pt x="709" y="102"/>
                  </a:lnTo>
                  <a:lnTo>
                    <a:pt x="725" y="86"/>
                  </a:lnTo>
                  <a:lnTo>
                    <a:pt x="709" y="102"/>
                  </a:lnTo>
                  <a:lnTo>
                    <a:pt x="725" y="105"/>
                  </a:lnTo>
                  <a:lnTo>
                    <a:pt x="725" y="86"/>
                  </a:lnTo>
                  <a:lnTo>
                    <a:pt x="693"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393760" y="1337760"/>
              <a:ext cx="87840" cy="4719960"/>
            </a:xfrm>
            <a:custGeom>
              <a:avLst/>
              <a:gdLst/>
              <a:ahLst/>
              <a:rect l="l" t="t" r="r" b="b"/>
              <a:pathLst>
                <a:path w="51" h="2155">
                  <a:moveTo>
                    <a:pt x="8" y="26"/>
                  </a:moveTo>
                  <a:lnTo>
                    <a:pt x="0" y="13"/>
                  </a:lnTo>
                  <a:lnTo>
                    <a:pt x="19" y="2155"/>
                  </a:lnTo>
                  <a:lnTo>
                    <a:pt x="51" y="2155"/>
                  </a:lnTo>
                  <a:lnTo>
                    <a:pt x="32" y="13"/>
                  </a:lnTo>
                  <a:lnTo>
                    <a:pt x="24" y="0"/>
                  </a:lnTo>
                  <a:lnTo>
                    <a:pt x="32" y="13"/>
                  </a:lnTo>
                  <a:lnTo>
                    <a:pt x="32" y="5"/>
                  </a:lnTo>
                  <a:lnTo>
                    <a:pt x="24" y="0"/>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206040" y="483480"/>
              <a:ext cx="2229120" cy="911160"/>
            </a:xfrm>
            <a:custGeom>
              <a:avLst/>
              <a:gdLst/>
              <a:ahLst/>
              <a:rect l="l" t="t" r="r" b="b"/>
              <a:pathLst>
                <a:path w="1291" h="416">
                  <a:moveTo>
                    <a:pt x="0" y="35"/>
                  </a:moveTo>
                  <a:lnTo>
                    <a:pt x="0" y="35"/>
                  </a:lnTo>
                  <a:lnTo>
                    <a:pt x="99" y="32"/>
                  </a:lnTo>
                  <a:lnTo>
                    <a:pt x="204" y="40"/>
                  </a:lnTo>
                  <a:lnTo>
                    <a:pt x="308" y="56"/>
                  </a:lnTo>
                  <a:lnTo>
                    <a:pt x="419" y="80"/>
                  </a:lnTo>
                  <a:lnTo>
                    <a:pt x="526" y="107"/>
                  </a:lnTo>
                  <a:lnTo>
                    <a:pt x="628" y="142"/>
                  </a:lnTo>
                  <a:lnTo>
                    <a:pt x="733" y="177"/>
                  </a:lnTo>
                  <a:lnTo>
                    <a:pt x="832" y="215"/>
                  </a:lnTo>
                  <a:lnTo>
                    <a:pt x="923" y="250"/>
                  </a:lnTo>
                  <a:lnTo>
                    <a:pt x="1009" y="285"/>
                  </a:lnTo>
                  <a:lnTo>
                    <a:pt x="1085" y="320"/>
                  </a:lnTo>
                  <a:lnTo>
                    <a:pt x="1152" y="352"/>
                  </a:lnTo>
                  <a:lnTo>
                    <a:pt x="1205" y="379"/>
                  </a:lnTo>
                  <a:lnTo>
                    <a:pt x="1243" y="398"/>
                  </a:lnTo>
                  <a:lnTo>
                    <a:pt x="1267" y="411"/>
                  </a:lnTo>
                  <a:lnTo>
                    <a:pt x="1275" y="416"/>
                  </a:lnTo>
                  <a:lnTo>
                    <a:pt x="1291" y="390"/>
                  </a:lnTo>
                  <a:lnTo>
                    <a:pt x="1283" y="384"/>
                  </a:lnTo>
                  <a:lnTo>
                    <a:pt x="1254" y="371"/>
                  </a:lnTo>
                  <a:lnTo>
                    <a:pt x="1216" y="352"/>
                  </a:lnTo>
                  <a:lnTo>
                    <a:pt x="1162" y="325"/>
                  </a:lnTo>
                  <a:lnTo>
                    <a:pt x="1095" y="293"/>
                  </a:lnTo>
                  <a:lnTo>
                    <a:pt x="1020" y="258"/>
                  </a:lnTo>
                  <a:lnTo>
                    <a:pt x="934" y="223"/>
                  </a:lnTo>
                  <a:lnTo>
                    <a:pt x="843" y="183"/>
                  </a:lnTo>
                  <a:lnTo>
                    <a:pt x="743" y="145"/>
                  </a:lnTo>
                  <a:lnTo>
                    <a:pt x="639" y="110"/>
                  </a:lnTo>
                  <a:lnTo>
                    <a:pt x="531" y="75"/>
                  </a:lnTo>
                  <a:lnTo>
                    <a:pt x="424" y="48"/>
                  </a:lnTo>
                  <a:lnTo>
                    <a:pt x="314" y="24"/>
                  </a:lnTo>
                  <a:lnTo>
                    <a:pt x="204" y="8"/>
                  </a:lnTo>
                  <a:lnTo>
                    <a:pt x="99" y="0"/>
                  </a:lnTo>
                  <a:lnTo>
                    <a:pt x="0" y="3"/>
                  </a:lnTo>
                  <a:lnTo>
                    <a:pt x="0" y="3"/>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674240" y="490680"/>
              <a:ext cx="1531800" cy="687240"/>
            </a:xfrm>
            <a:custGeom>
              <a:avLst/>
              <a:gdLst/>
              <a:ahLst/>
              <a:rect l="l" t="t" r="r" b="b"/>
              <a:pathLst>
                <a:path w="887" h="314">
                  <a:moveTo>
                    <a:pt x="0" y="309"/>
                  </a:moveTo>
                  <a:lnTo>
                    <a:pt x="11" y="309"/>
                  </a:lnTo>
                  <a:lnTo>
                    <a:pt x="16" y="306"/>
                  </a:lnTo>
                  <a:lnTo>
                    <a:pt x="35" y="298"/>
                  </a:lnTo>
                  <a:lnTo>
                    <a:pt x="62" y="284"/>
                  </a:lnTo>
                  <a:lnTo>
                    <a:pt x="97" y="268"/>
                  </a:lnTo>
                  <a:lnTo>
                    <a:pt x="143" y="247"/>
                  </a:lnTo>
                  <a:lnTo>
                    <a:pt x="194" y="225"/>
                  </a:lnTo>
                  <a:lnTo>
                    <a:pt x="253" y="204"/>
                  </a:lnTo>
                  <a:lnTo>
                    <a:pt x="317" y="180"/>
                  </a:lnTo>
                  <a:lnTo>
                    <a:pt x="384" y="155"/>
                  </a:lnTo>
                  <a:lnTo>
                    <a:pt x="454" y="129"/>
                  </a:lnTo>
                  <a:lnTo>
                    <a:pt x="527" y="107"/>
                  </a:lnTo>
                  <a:lnTo>
                    <a:pt x="599" y="86"/>
                  </a:lnTo>
                  <a:lnTo>
                    <a:pt x="674" y="67"/>
                  </a:lnTo>
                  <a:lnTo>
                    <a:pt x="747" y="51"/>
                  </a:lnTo>
                  <a:lnTo>
                    <a:pt x="817" y="37"/>
                  </a:lnTo>
                  <a:lnTo>
                    <a:pt x="887" y="32"/>
                  </a:lnTo>
                  <a:lnTo>
                    <a:pt x="887" y="0"/>
                  </a:lnTo>
                  <a:lnTo>
                    <a:pt x="817" y="5"/>
                  </a:lnTo>
                  <a:lnTo>
                    <a:pt x="742" y="18"/>
                  </a:lnTo>
                  <a:lnTo>
                    <a:pt x="669" y="34"/>
                  </a:lnTo>
                  <a:lnTo>
                    <a:pt x="594" y="53"/>
                  </a:lnTo>
                  <a:lnTo>
                    <a:pt x="521" y="75"/>
                  </a:lnTo>
                  <a:lnTo>
                    <a:pt x="443" y="96"/>
                  </a:lnTo>
                  <a:lnTo>
                    <a:pt x="374" y="123"/>
                  </a:lnTo>
                  <a:lnTo>
                    <a:pt x="307" y="147"/>
                  </a:lnTo>
                  <a:lnTo>
                    <a:pt x="242" y="172"/>
                  </a:lnTo>
                  <a:lnTo>
                    <a:pt x="183" y="198"/>
                  </a:lnTo>
                  <a:lnTo>
                    <a:pt x="132" y="220"/>
                  </a:lnTo>
                  <a:lnTo>
                    <a:pt x="86" y="241"/>
                  </a:lnTo>
                  <a:lnTo>
                    <a:pt x="51" y="258"/>
                  </a:lnTo>
                  <a:lnTo>
                    <a:pt x="25" y="271"/>
                  </a:lnTo>
                  <a:lnTo>
                    <a:pt x="6" y="279"/>
                  </a:lnTo>
                  <a:lnTo>
                    <a:pt x="0" y="282"/>
                  </a:lnTo>
                  <a:lnTo>
                    <a:pt x="11" y="282"/>
                  </a:lnTo>
                  <a:lnTo>
                    <a:pt x="0" y="309"/>
                  </a:lnTo>
                  <a:lnTo>
                    <a:pt x="6" y="314"/>
                  </a:lnTo>
                  <a:lnTo>
                    <a:pt x="11" y="309"/>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22680" y="466200"/>
              <a:ext cx="1970280" cy="700560"/>
            </a:xfrm>
            <a:custGeom>
              <a:avLst/>
              <a:gdLst/>
              <a:ahLst/>
              <a:rect l="l" t="t" r="r" b="b"/>
              <a:pathLst>
                <a:path w="1141" h="320">
                  <a:moveTo>
                    <a:pt x="0" y="37"/>
                  </a:moveTo>
                  <a:lnTo>
                    <a:pt x="0" y="37"/>
                  </a:lnTo>
                  <a:lnTo>
                    <a:pt x="88" y="32"/>
                  </a:lnTo>
                  <a:lnTo>
                    <a:pt x="180" y="35"/>
                  </a:lnTo>
                  <a:lnTo>
                    <a:pt x="274" y="45"/>
                  </a:lnTo>
                  <a:lnTo>
                    <a:pt x="368" y="62"/>
                  </a:lnTo>
                  <a:lnTo>
                    <a:pt x="462" y="83"/>
                  </a:lnTo>
                  <a:lnTo>
                    <a:pt x="558" y="107"/>
                  </a:lnTo>
                  <a:lnTo>
                    <a:pt x="650" y="134"/>
                  </a:lnTo>
                  <a:lnTo>
                    <a:pt x="733" y="161"/>
                  </a:lnTo>
                  <a:lnTo>
                    <a:pt x="816" y="191"/>
                  </a:lnTo>
                  <a:lnTo>
                    <a:pt x="891" y="220"/>
                  </a:lnTo>
                  <a:lnTo>
                    <a:pt x="958" y="247"/>
                  </a:lnTo>
                  <a:lnTo>
                    <a:pt x="1018" y="269"/>
                  </a:lnTo>
                  <a:lnTo>
                    <a:pt x="1066" y="290"/>
                  </a:lnTo>
                  <a:lnTo>
                    <a:pt x="1101" y="306"/>
                  </a:lnTo>
                  <a:lnTo>
                    <a:pt x="1122" y="317"/>
                  </a:lnTo>
                  <a:lnTo>
                    <a:pt x="1130" y="320"/>
                  </a:lnTo>
                  <a:lnTo>
                    <a:pt x="1141" y="293"/>
                  </a:lnTo>
                  <a:lnTo>
                    <a:pt x="1133" y="290"/>
                  </a:lnTo>
                  <a:lnTo>
                    <a:pt x="1112" y="279"/>
                  </a:lnTo>
                  <a:lnTo>
                    <a:pt x="1077" y="263"/>
                  </a:lnTo>
                  <a:lnTo>
                    <a:pt x="1028" y="242"/>
                  </a:lnTo>
                  <a:lnTo>
                    <a:pt x="969" y="215"/>
                  </a:lnTo>
                  <a:lnTo>
                    <a:pt x="902" y="188"/>
                  </a:lnTo>
                  <a:lnTo>
                    <a:pt x="827" y="158"/>
                  </a:lnTo>
                  <a:lnTo>
                    <a:pt x="744" y="129"/>
                  </a:lnTo>
                  <a:lnTo>
                    <a:pt x="655" y="102"/>
                  </a:lnTo>
                  <a:lnTo>
                    <a:pt x="564" y="75"/>
                  </a:lnTo>
                  <a:lnTo>
                    <a:pt x="467" y="51"/>
                  </a:lnTo>
                  <a:lnTo>
                    <a:pt x="373" y="29"/>
                  </a:lnTo>
                  <a:lnTo>
                    <a:pt x="274" y="13"/>
                  </a:lnTo>
                  <a:lnTo>
                    <a:pt x="180" y="2"/>
                  </a:lnTo>
                  <a:lnTo>
                    <a:pt x="88" y="0"/>
                  </a:lnTo>
                  <a:lnTo>
                    <a:pt x="0" y="5"/>
                  </a:lnTo>
                  <a:lnTo>
                    <a:pt x="0" y="5"/>
                  </a:lnTo>
                  <a:lnTo>
                    <a:pt x="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992520" y="477000"/>
              <a:ext cx="1729800" cy="1029600"/>
            </a:xfrm>
            <a:custGeom>
              <a:avLst/>
              <a:gdLst/>
              <a:ahLst/>
              <a:rect l="l" t="t" r="r" b="b"/>
              <a:pathLst>
                <a:path w="1002" h="470">
                  <a:moveTo>
                    <a:pt x="27" y="465"/>
                  </a:moveTo>
                  <a:lnTo>
                    <a:pt x="22" y="470"/>
                  </a:lnTo>
                  <a:lnTo>
                    <a:pt x="27" y="465"/>
                  </a:lnTo>
                  <a:lnTo>
                    <a:pt x="46" y="454"/>
                  </a:lnTo>
                  <a:lnTo>
                    <a:pt x="78" y="433"/>
                  </a:lnTo>
                  <a:lnTo>
                    <a:pt x="118" y="409"/>
                  </a:lnTo>
                  <a:lnTo>
                    <a:pt x="167" y="376"/>
                  </a:lnTo>
                  <a:lnTo>
                    <a:pt x="223" y="341"/>
                  </a:lnTo>
                  <a:lnTo>
                    <a:pt x="287" y="304"/>
                  </a:lnTo>
                  <a:lnTo>
                    <a:pt x="360" y="266"/>
                  </a:lnTo>
                  <a:lnTo>
                    <a:pt x="432" y="226"/>
                  </a:lnTo>
                  <a:lnTo>
                    <a:pt x="510" y="188"/>
                  </a:lnTo>
                  <a:lnTo>
                    <a:pt x="594" y="151"/>
                  </a:lnTo>
                  <a:lnTo>
                    <a:pt x="677" y="118"/>
                  </a:lnTo>
                  <a:lnTo>
                    <a:pt x="757" y="89"/>
                  </a:lnTo>
                  <a:lnTo>
                    <a:pt x="841" y="65"/>
                  </a:lnTo>
                  <a:lnTo>
                    <a:pt x="924" y="43"/>
                  </a:lnTo>
                  <a:lnTo>
                    <a:pt x="1002" y="32"/>
                  </a:lnTo>
                  <a:lnTo>
                    <a:pt x="1002" y="0"/>
                  </a:lnTo>
                  <a:lnTo>
                    <a:pt x="919" y="11"/>
                  </a:lnTo>
                  <a:lnTo>
                    <a:pt x="835" y="32"/>
                  </a:lnTo>
                  <a:lnTo>
                    <a:pt x="752" y="57"/>
                  </a:lnTo>
                  <a:lnTo>
                    <a:pt x="666" y="86"/>
                  </a:lnTo>
                  <a:lnTo>
                    <a:pt x="583" y="124"/>
                  </a:lnTo>
                  <a:lnTo>
                    <a:pt x="500" y="161"/>
                  </a:lnTo>
                  <a:lnTo>
                    <a:pt x="422" y="199"/>
                  </a:lnTo>
                  <a:lnTo>
                    <a:pt x="344" y="239"/>
                  </a:lnTo>
                  <a:lnTo>
                    <a:pt x="271" y="277"/>
                  </a:lnTo>
                  <a:lnTo>
                    <a:pt x="207" y="315"/>
                  </a:lnTo>
                  <a:lnTo>
                    <a:pt x="150" y="350"/>
                  </a:lnTo>
                  <a:lnTo>
                    <a:pt x="102" y="382"/>
                  </a:lnTo>
                  <a:lnTo>
                    <a:pt x="62" y="406"/>
                  </a:lnTo>
                  <a:lnTo>
                    <a:pt x="30" y="427"/>
                  </a:lnTo>
                  <a:lnTo>
                    <a:pt x="11" y="438"/>
                  </a:lnTo>
                  <a:lnTo>
                    <a:pt x="5" y="444"/>
                  </a:lnTo>
                  <a:lnTo>
                    <a:pt x="0" y="449"/>
                  </a:lnTo>
                  <a:lnTo>
                    <a:pt x="5" y="444"/>
                  </a:lnTo>
                  <a:lnTo>
                    <a:pt x="3" y="446"/>
                  </a:lnTo>
                  <a:lnTo>
                    <a:pt x="0" y="449"/>
                  </a:lnTo>
                  <a:lnTo>
                    <a:pt x="27"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9" y="2459"/>
                  </a:lnTo>
                  <a:lnTo>
                    <a:pt x="2484" y="2441"/>
                  </a:lnTo>
                  <a:lnTo>
                    <a:pt x="2522" y="2422"/>
                  </a:lnTo>
                  <a:lnTo>
                    <a:pt x="2562" y="2403"/>
                  </a:lnTo>
                  <a:lnTo>
                    <a:pt x="2605" y="2381"/>
                  </a:lnTo>
                  <a:lnTo>
                    <a:pt x="2650" y="2363"/>
                  </a:lnTo>
                  <a:lnTo>
                    <a:pt x="2696" y="2344"/>
                  </a:lnTo>
                  <a:lnTo>
                    <a:pt x="2742" y="2325"/>
                  </a:lnTo>
                  <a:lnTo>
                    <a:pt x="2790" y="2309"/>
                  </a:lnTo>
                  <a:lnTo>
                    <a:pt x="2833" y="2293"/>
                  </a:lnTo>
                  <a:lnTo>
                    <a:pt x="2879" y="2282"/>
                  </a:lnTo>
                  <a:lnTo>
                    <a:pt x="2919" y="2274"/>
                  </a:lnTo>
                  <a:lnTo>
                    <a:pt x="2978" y="2266"/>
                  </a:lnTo>
                  <a:lnTo>
                    <a:pt x="3032" y="2266"/>
                  </a:lnTo>
                  <a:lnTo>
                    <a:pt x="3083" y="2266"/>
                  </a:lnTo>
                  <a:lnTo>
                    <a:pt x="3129" y="2271"/>
                  </a:lnTo>
                  <a:lnTo>
                    <a:pt x="3174" y="2279"/>
                  </a:lnTo>
                  <a:lnTo>
                    <a:pt x="3220" y="2290"/>
                  </a:lnTo>
                  <a:lnTo>
                    <a:pt x="3263" y="2303"/>
                  </a:lnTo>
                  <a:lnTo>
                    <a:pt x="3306" y="2320"/>
                  </a:lnTo>
                  <a:lnTo>
                    <a:pt x="3346" y="2336"/>
                  </a:lnTo>
                  <a:lnTo>
                    <a:pt x="3389" y="2355"/>
                  </a:lnTo>
                  <a:lnTo>
                    <a:pt x="3432" y="2373"/>
                  </a:lnTo>
                  <a:lnTo>
                    <a:pt x="3478" y="2389"/>
                  </a:lnTo>
                  <a:lnTo>
                    <a:pt x="3526" y="2408"/>
                  </a:lnTo>
                  <a:lnTo>
                    <a:pt x="3574" y="2427"/>
                  </a:lnTo>
                  <a:lnTo>
                    <a:pt x="3628" y="2443"/>
                  </a:lnTo>
                  <a:lnTo>
                    <a:pt x="3684" y="2459"/>
                  </a:lnTo>
                  <a:lnTo>
                    <a:pt x="3722" y="2470"/>
                  </a:lnTo>
                  <a:lnTo>
                    <a:pt x="3760" y="2478"/>
                  </a:lnTo>
                  <a:lnTo>
                    <a:pt x="3792" y="2486"/>
                  </a:lnTo>
                  <a:lnTo>
                    <a:pt x="3824" y="2494"/>
                  </a:lnTo>
                  <a:lnTo>
                    <a:pt x="3854" y="2502"/>
                  </a:lnTo>
                  <a:lnTo>
                    <a:pt x="3883" y="2510"/>
                  </a:lnTo>
                  <a:lnTo>
                    <a:pt x="3910" y="2516"/>
                  </a:lnTo>
                  <a:lnTo>
                    <a:pt x="3937" y="2521"/>
                  </a:lnTo>
                  <a:lnTo>
                    <a:pt x="3964" y="2527"/>
                  </a:lnTo>
                  <a:lnTo>
                    <a:pt x="3988" y="2532"/>
                  </a:lnTo>
                  <a:lnTo>
                    <a:pt x="4015" y="2535"/>
                  </a:lnTo>
                  <a:lnTo>
                    <a:pt x="4044" y="2537"/>
                  </a:lnTo>
                  <a:lnTo>
                    <a:pt x="4071" y="2540"/>
                  </a:lnTo>
                  <a:lnTo>
                    <a:pt x="4101" y="2543"/>
                  </a:lnTo>
                  <a:lnTo>
                    <a:pt x="4133" y="2545"/>
                  </a:lnTo>
                  <a:lnTo>
                    <a:pt x="4168" y="2545"/>
                  </a:lnTo>
                  <a:lnTo>
                    <a:pt x="4213" y="2545"/>
                  </a:lnTo>
                  <a:lnTo>
                    <a:pt x="4264" y="2545"/>
                  </a:lnTo>
                  <a:lnTo>
                    <a:pt x="4316" y="2545"/>
                  </a:lnTo>
                  <a:lnTo>
                    <a:pt x="4367" y="2543"/>
                  </a:lnTo>
                  <a:lnTo>
                    <a:pt x="4412" y="2543"/>
                  </a:lnTo>
                  <a:lnTo>
                    <a:pt x="4450" y="2543"/>
                  </a:lnTo>
                  <a:lnTo>
                    <a:pt x="4477" y="2543"/>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51120" y="118080"/>
              <a:ext cx="7745040" cy="6099840"/>
            </a:xfrm>
            <a:custGeom>
              <a:avLst/>
              <a:gdLst/>
              <a:ahLst/>
              <a:rect l="l" t="t" r="r" b="b"/>
              <a:pathLst>
                <a:path w="4485" h="2785">
                  <a:moveTo>
                    <a:pt x="2164" y="363"/>
                  </a:moveTo>
                  <a:lnTo>
                    <a:pt x="2162" y="358"/>
                  </a:lnTo>
                  <a:lnTo>
                    <a:pt x="2151" y="342"/>
                  </a:lnTo>
                  <a:lnTo>
                    <a:pt x="2135" y="315"/>
                  </a:lnTo>
                  <a:lnTo>
                    <a:pt x="2113" y="282"/>
                  </a:lnTo>
                  <a:lnTo>
                    <a:pt x="2081" y="247"/>
                  </a:lnTo>
                  <a:lnTo>
                    <a:pt x="2044" y="207"/>
                  </a:lnTo>
                  <a:lnTo>
                    <a:pt x="1998" y="167"/>
                  </a:lnTo>
                  <a:lnTo>
                    <a:pt x="1942" y="127"/>
                  </a:lnTo>
                  <a:lnTo>
                    <a:pt x="1877" y="89"/>
                  </a:lnTo>
                  <a:lnTo>
                    <a:pt x="1805" y="54"/>
                  </a:lnTo>
                  <a:lnTo>
                    <a:pt x="1721" y="27"/>
                  </a:lnTo>
                  <a:lnTo>
                    <a:pt x="1627" y="8"/>
                  </a:lnTo>
                  <a:lnTo>
                    <a:pt x="1523" y="0"/>
                  </a:lnTo>
                  <a:lnTo>
                    <a:pt x="1407" y="3"/>
                  </a:lnTo>
                  <a:lnTo>
                    <a:pt x="1281" y="22"/>
                  </a:lnTo>
                  <a:lnTo>
                    <a:pt x="1141" y="54"/>
                  </a:lnTo>
                  <a:lnTo>
                    <a:pt x="1045" y="84"/>
                  </a:lnTo>
                  <a:lnTo>
                    <a:pt x="948" y="116"/>
                  </a:lnTo>
                  <a:lnTo>
                    <a:pt x="849" y="148"/>
                  </a:lnTo>
                  <a:lnTo>
                    <a:pt x="752" y="186"/>
                  </a:lnTo>
                  <a:lnTo>
                    <a:pt x="655" y="223"/>
                  </a:lnTo>
                  <a:lnTo>
                    <a:pt x="558" y="261"/>
                  </a:lnTo>
                  <a:lnTo>
                    <a:pt x="467" y="299"/>
                  </a:lnTo>
                  <a:lnTo>
                    <a:pt x="381" y="336"/>
                  </a:lnTo>
                  <a:lnTo>
                    <a:pt x="301" y="371"/>
                  </a:lnTo>
                  <a:lnTo>
                    <a:pt x="228" y="403"/>
                  </a:lnTo>
                  <a:lnTo>
                    <a:pt x="164" y="433"/>
                  </a:lnTo>
                  <a:lnTo>
                    <a:pt x="107" y="460"/>
                  </a:lnTo>
                  <a:lnTo>
                    <a:pt x="62" y="481"/>
                  </a:lnTo>
                  <a:lnTo>
                    <a:pt x="29" y="497"/>
                  </a:lnTo>
                  <a:lnTo>
                    <a:pt x="8" y="508"/>
                  </a:lnTo>
                  <a:lnTo>
                    <a:pt x="0" y="511"/>
                  </a:lnTo>
                  <a:lnTo>
                    <a:pt x="8" y="543"/>
                  </a:lnTo>
                  <a:lnTo>
                    <a:pt x="32" y="634"/>
                  </a:lnTo>
                  <a:lnTo>
                    <a:pt x="64" y="774"/>
                  </a:lnTo>
                  <a:lnTo>
                    <a:pt x="105" y="946"/>
                  </a:lnTo>
                  <a:lnTo>
                    <a:pt x="148" y="1140"/>
                  </a:lnTo>
                  <a:lnTo>
                    <a:pt x="191" y="1347"/>
                  </a:lnTo>
                  <a:lnTo>
                    <a:pt x="231" y="1554"/>
                  </a:lnTo>
                  <a:lnTo>
                    <a:pt x="263" y="1747"/>
                  </a:lnTo>
                  <a:lnTo>
                    <a:pt x="285" y="1908"/>
                  </a:lnTo>
                  <a:lnTo>
                    <a:pt x="303" y="2080"/>
                  </a:lnTo>
                  <a:lnTo>
                    <a:pt x="319" y="2252"/>
                  </a:lnTo>
                  <a:lnTo>
                    <a:pt x="336" y="2416"/>
                  </a:lnTo>
                  <a:lnTo>
                    <a:pt x="346" y="2561"/>
                  </a:lnTo>
                  <a:lnTo>
                    <a:pt x="354" y="2680"/>
                  </a:lnTo>
                  <a:lnTo>
                    <a:pt x="360" y="2758"/>
                  </a:lnTo>
                  <a:lnTo>
                    <a:pt x="362" y="2785"/>
                  </a:lnTo>
                  <a:lnTo>
                    <a:pt x="371" y="2779"/>
                  </a:lnTo>
                  <a:lnTo>
                    <a:pt x="389" y="2766"/>
                  </a:lnTo>
                  <a:lnTo>
                    <a:pt x="422" y="2744"/>
                  </a:lnTo>
                  <a:lnTo>
                    <a:pt x="465" y="2717"/>
                  </a:lnTo>
                  <a:lnTo>
                    <a:pt x="518" y="2682"/>
                  </a:lnTo>
                  <a:lnTo>
                    <a:pt x="577" y="2645"/>
                  </a:lnTo>
                  <a:lnTo>
                    <a:pt x="647" y="2604"/>
                  </a:lnTo>
                  <a:lnTo>
                    <a:pt x="722" y="2564"/>
                  </a:lnTo>
                  <a:lnTo>
                    <a:pt x="803" y="2521"/>
                  </a:lnTo>
                  <a:lnTo>
                    <a:pt x="886" y="2481"/>
                  </a:lnTo>
                  <a:lnTo>
                    <a:pt x="975" y="2441"/>
                  </a:lnTo>
                  <a:lnTo>
                    <a:pt x="1063" y="2403"/>
                  </a:lnTo>
                  <a:lnTo>
                    <a:pt x="1155" y="2371"/>
                  </a:lnTo>
                  <a:lnTo>
                    <a:pt x="1243" y="2346"/>
                  </a:lnTo>
                  <a:lnTo>
                    <a:pt x="1332" y="2325"/>
                  </a:lnTo>
                  <a:lnTo>
                    <a:pt x="1418" y="2314"/>
                  </a:lnTo>
                  <a:lnTo>
                    <a:pt x="1490" y="2312"/>
                  </a:lnTo>
                  <a:lnTo>
                    <a:pt x="1568" y="2314"/>
                  </a:lnTo>
                  <a:lnTo>
                    <a:pt x="1646" y="2320"/>
                  </a:lnTo>
                  <a:lnTo>
                    <a:pt x="1724" y="2330"/>
                  </a:lnTo>
                  <a:lnTo>
                    <a:pt x="1805" y="2346"/>
                  </a:lnTo>
                  <a:lnTo>
                    <a:pt x="1882" y="2363"/>
                  </a:lnTo>
                  <a:lnTo>
                    <a:pt x="1960" y="2379"/>
                  </a:lnTo>
                  <a:lnTo>
                    <a:pt x="2033" y="2398"/>
                  </a:lnTo>
                  <a:lnTo>
                    <a:pt x="2100" y="2419"/>
                  </a:lnTo>
                  <a:lnTo>
                    <a:pt x="2164" y="2438"/>
                  </a:lnTo>
                  <a:lnTo>
                    <a:pt x="2221" y="2454"/>
                  </a:lnTo>
                  <a:lnTo>
                    <a:pt x="2269" y="2470"/>
                  </a:lnTo>
                  <a:lnTo>
                    <a:pt x="2309" y="2486"/>
                  </a:lnTo>
                  <a:lnTo>
                    <a:pt x="2339" y="2494"/>
                  </a:lnTo>
                  <a:lnTo>
                    <a:pt x="2358" y="2502"/>
                  </a:lnTo>
                  <a:lnTo>
                    <a:pt x="2363" y="2505"/>
                  </a:lnTo>
                  <a:lnTo>
                    <a:pt x="2366" y="2502"/>
                  </a:lnTo>
                  <a:lnTo>
                    <a:pt x="2379" y="2497"/>
                  </a:lnTo>
                  <a:lnTo>
                    <a:pt x="2395" y="2486"/>
                  </a:lnTo>
                  <a:lnTo>
                    <a:pt x="2420" y="2473"/>
                  </a:lnTo>
                  <a:lnTo>
                    <a:pt x="2446" y="2454"/>
                  </a:lnTo>
                  <a:lnTo>
                    <a:pt x="2481" y="2438"/>
                  </a:lnTo>
                  <a:lnTo>
                    <a:pt x="2519" y="2416"/>
                  </a:lnTo>
                  <a:lnTo>
                    <a:pt x="2559" y="2395"/>
                  </a:lnTo>
                  <a:lnTo>
                    <a:pt x="2599" y="2376"/>
                  </a:lnTo>
                  <a:lnTo>
                    <a:pt x="2645" y="2355"/>
                  </a:lnTo>
                  <a:lnTo>
                    <a:pt x="2691" y="2333"/>
                  </a:lnTo>
                  <a:lnTo>
                    <a:pt x="2736" y="2317"/>
                  </a:lnTo>
                  <a:lnTo>
                    <a:pt x="2782" y="2298"/>
                  </a:lnTo>
                  <a:lnTo>
                    <a:pt x="2828" y="2285"/>
                  </a:lnTo>
                  <a:lnTo>
                    <a:pt x="2873" y="2274"/>
                  </a:lnTo>
                  <a:lnTo>
                    <a:pt x="2914" y="2269"/>
                  </a:lnTo>
                  <a:lnTo>
                    <a:pt x="2970" y="2266"/>
                  </a:lnTo>
                  <a:lnTo>
                    <a:pt x="3021" y="2266"/>
                  </a:lnTo>
                  <a:lnTo>
                    <a:pt x="3069" y="2269"/>
                  </a:lnTo>
                  <a:lnTo>
                    <a:pt x="3118" y="2277"/>
                  </a:lnTo>
                  <a:lnTo>
                    <a:pt x="3163" y="2285"/>
                  </a:lnTo>
                  <a:lnTo>
                    <a:pt x="3206" y="2295"/>
                  </a:lnTo>
                  <a:lnTo>
                    <a:pt x="3249" y="2309"/>
                  </a:lnTo>
                  <a:lnTo>
                    <a:pt x="3292" y="2325"/>
                  </a:lnTo>
                  <a:lnTo>
                    <a:pt x="3335" y="2341"/>
                  </a:lnTo>
                  <a:lnTo>
                    <a:pt x="3378" y="2357"/>
                  </a:lnTo>
                  <a:lnTo>
                    <a:pt x="3424" y="2376"/>
                  </a:lnTo>
                  <a:lnTo>
                    <a:pt x="3470" y="2395"/>
                  </a:lnTo>
                  <a:lnTo>
                    <a:pt x="3518" y="2411"/>
                  </a:lnTo>
                  <a:lnTo>
                    <a:pt x="3569" y="2427"/>
                  </a:lnTo>
                  <a:lnTo>
                    <a:pt x="3623" y="2443"/>
                  </a:lnTo>
                  <a:lnTo>
                    <a:pt x="3679" y="2459"/>
                  </a:lnTo>
                  <a:lnTo>
                    <a:pt x="3719" y="2470"/>
                  </a:lnTo>
                  <a:lnTo>
                    <a:pt x="3760" y="2481"/>
                  </a:lnTo>
                  <a:lnTo>
                    <a:pt x="3800" y="2492"/>
                  </a:lnTo>
                  <a:lnTo>
                    <a:pt x="3840" y="2502"/>
                  </a:lnTo>
                  <a:lnTo>
                    <a:pt x="3880" y="2516"/>
                  </a:lnTo>
                  <a:lnTo>
                    <a:pt x="3921" y="2527"/>
                  </a:lnTo>
                  <a:lnTo>
                    <a:pt x="3961" y="2537"/>
                  </a:lnTo>
                  <a:lnTo>
                    <a:pt x="4001" y="2548"/>
                  </a:lnTo>
                  <a:lnTo>
                    <a:pt x="4044" y="2559"/>
                  </a:lnTo>
                  <a:lnTo>
                    <a:pt x="4085" y="2570"/>
                  </a:lnTo>
                  <a:lnTo>
                    <a:pt x="4125" y="2578"/>
                  </a:lnTo>
                  <a:lnTo>
                    <a:pt x="4165" y="2583"/>
                  </a:lnTo>
                  <a:lnTo>
                    <a:pt x="4208" y="2588"/>
                  </a:lnTo>
                  <a:lnTo>
                    <a:pt x="4248" y="2591"/>
                  </a:lnTo>
                  <a:lnTo>
                    <a:pt x="4289" y="2591"/>
                  </a:lnTo>
                  <a:lnTo>
                    <a:pt x="4332" y="2591"/>
                  </a:lnTo>
                  <a:lnTo>
                    <a:pt x="4369" y="2586"/>
                  </a:lnTo>
                  <a:lnTo>
                    <a:pt x="4401" y="2580"/>
                  </a:lnTo>
                  <a:lnTo>
                    <a:pt x="4428" y="2572"/>
                  </a:lnTo>
                  <a:lnTo>
                    <a:pt x="4450" y="2564"/>
                  </a:lnTo>
                  <a:lnTo>
                    <a:pt x="4466" y="2556"/>
                  </a:lnTo>
                  <a:lnTo>
                    <a:pt x="4477" y="2548"/>
                  </a:lnTo>
                  <a:lnTo>
                    <a:pt x="4482" y="2545"/>
                  </a:lnTo>
                  <a:lnTo>
                    <a:pt x="4485" y="2543"/>
                  </a:lnTo>
                  <a:lnTo>
                    <a:pt x="4485" y="2449"/>
                  </a:lnTo>
                  <a:lnTo>
                    <a:pt x="4485" y="2215"/>
                  </a:lnTo>
                  <a:lnTo>
                    <a:pt x="4482" y="1911"/>
                  </a:lnTo>
                  <a:lnTo>
                    <a:pt x="4482" y="1613"/>
                  </a:lnTo>
                  <a:lnTo>
                    <a:pt x="4482" y="1234"/>
                  </a:lnTo>
                  <a:lnTo>
                    <a:pt x="4485" y="852"/>
                  </a:lnTo>
                  <a:lnTo>
                    <a:pt x="4485" y="554"/>
                  </a:lnTo>
                  <a:lnTo>
                    <a:pt x="4485" y="436"/>
                  </a:lnTo>
                  <a:lnTo>
                    <a:pt x="4477" y="436"/>
                  </a:lnTo>
                  <a:lnTo>
                    <a:pt x="4452" y="438"/>
                  </a:lnTo>
                  <a:lnTo>
                    <a:pt x="4418" y="441"/>
                  </a:lnTo>
                  <a:lnTo>
                    <a:pt x="4375" y="446"/>
                  </a:lnTo>
                  <a:lnTo>
                    <a:pt x="4324" y="449"/>
                  </a:lnTo>
                  <a:lnTo>
                    <a:pt x="4273" y="452"/>
                  </a:lnTo>
                  <a:lnTo>
                    <a:pt x="4222" y="452"/>
                  </a:lnTo>
                  <a:lnTo>
                    <a:pt x="4173" y="452"/>
                  </a:lnTo>
                  <a:lnTo>
                    <a:pt x="4095" y="444"/>
                  </a:lnTo>
                  <a:lnTo>
                    <a:pt x="4023" y="430"/>
                  </a:lnTo>
                  <a:lnTo>
                    <a:pt x="3956" y="409"/>
                  </a:lnTo>
                  <a:lnTo>
                    <a:pt x="3891" y="382"/>
                  </a:lnTo>
                  <a:lnTo>
                    <a:pt x="3829" y="352"/>
                  </a:lnTo>
                  <a:lnTo>
                    <a:pt x="3773" y="320"/>
                  </a:lnTo>
                  <a:lnTo>
                    <a:pt x="3714" y="285"/>
                  </a:lnTo>
                  <a:lnTo>
                    <a:pt x="3660" y="247"/>
                  </a:lnTo>
                  <a:lnTo>
                    <a:pt x="3604" y="213"/>
                  </a:lnTo>
                  <a:lnTo>
                    <a:pt x="3547" y="175"/>
                  </a:lnTo>
                  <a:lnTo>
                    <a:pt x="3488" y="143"/>
                  </a:lnTo>
                  <a:lnTo>
                    <a:pt x="3429" y="110"/>
                  </a:lnTo>
                  <a:lnTo>
                    <a:pt x="3365" y="84"/>
                  </a:lnTo>
                  <a:lnTo>
                    <a:pt x="3298" y="62"/>
                  </a:lnTo>
                  <a:lnTo>
                    <a:pt x="3225" y="46"/>
                  </a:lnTo>
                  <a:lnTo>
                    <a:pt x="3147" y="38"/>
                  </a:lnTo>
                  <a:lnTo>
                    <a:pt x="3107" y="35"/>
                  </a:lnTo>
                  <a:lnTo>
                    <a:pt x="3069" y="35"/>
                  </a:lnTo>
                  <a:lnTo>
                    <a:pt x="3032" y="35"/>
                  </a:lnTo>
                  <a:lnTo>
                    <a:pt x="2997" y="35"/>
                  </a:lnTo>
                  <a:lnTo>
                    <a:pt x="2962" y="35"/>
                  </a:lnTo>
                  <a:lnTo>
                    <a:pt x="2927" y="35"/>
                  </a:lnTo>
                  <a:lnTo>
                    <a:pt x="2895" y="35"/>
                  </a:lnTo>
                  <a:lnTo>
                    <a:pt x="2863" y="38"/>
                  </a:lnTo>
                  <a:lnTo>
                    <a:pt x="2828" y="41"/>
                  </a:lnTo>
                  <a:lnTo>
                    <a:pt x="2796" y="46"/>
                  </a:lnTo>
                  <a:lnTo>
                    <a:pt x="2763" y="51"/>
                  </a:lnTo>
                  <a:lnTo>
                    <a:pt x="2731" y="59"/>
                  </a:lnTo>
                  <a:lnTo>
                    <a:pt x="2696" y="67"/>
                  </a:lnTo>
                  <a:lnTo>
                    <a:pt x="2661" y="75"/>
                  </a:lnTo>
                  <a:lnTo>
                    <a:pt x="2624" y="86"/>
                  </a:lnTo>
                  <a:lnTo>
                    <a:pt x="2586" y="100"/>
                  </a:lnTo>
                  <a:lnTo>
                    <a:pt x="2516" y="129"/>
                  </a:lnTo>
                  <a:lnTo>
                    <a:pt x="2444" y="170"/>
                  </a:lnTo>
                  <a:lnTo>
                    <a:pt x="2371" y="213"/>
                  </a:lnTo>
                  <a:lnTo>
                    <a:pt x="2307" y="256"/>
                  </a:lnTo>
                  <a:lnTo>
                    <a:pt x="2250" y="299"/>
                  </a:lnTo>
                  <a:lnTo>
                    <a:pt x="2205" y="331"/>
                  </a:lnTo>
                  <a:lnTo>
                    <a:pt x="2175" y="355"/>
                  </a:lnTo>
                  <a:lnTo>
                    <a:pt x="2164" y="36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35200" y="5339880"/>
              <a:ext cx="2894040" cy="812520"/>
            </a:xfrm>
            <a:custGeom>
              <a:avLst/>
              <a:gdLst/>
              <a:ahLst/>
              <a:rect l="l" t="t" r="r" b="b"/>
              <a:pathLst>
                <a:path w="1676" h="371">
                  <a:moveTo>
                    <a:pt x="1676" y="108"/>
                  </a:moveTo>
                  <a:lnTo>
                    <a:pt x="1369" y="8"/>
                  </a:lnTo>
                  <a:lnTo>
                    <a:pt x="1125" y="0"/>
                  </a:lnTo>
                  <a:lnTo>
                    <a:pt x="913" y="30"/>
                  </a:lnTo>
                  <a:lnTo>
                    <a:pt x="0" y="371"/>
                  </a:lnTo>
                  <a:lnTo>
                    <a:pt x="1036" y="118"/>
                  </a:lnTo>
                  <a:lnTo>
                    <a:pt x="1270" y="78"/>
                  </a:lnTo>
                  <a:lnTo>
                    <a:pt x="1676" y="10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70480" y="5192640"/>
              <a:ext cx="2778120" cy="711720"/>
            </a:xfrm>
            <a:custGeom>
              <a:avLst/>
              <a:gdLst/>
              <a:ahLst/>
              <a:rect l="l" t="t" r="r" b="b"/>
              <a:pathLst>
                <a:path w="1609" h="325">
                  <a:moveTo>
                    <a:pt x="0" y="118"/>
                  </a:moveTo>
                  <a:lnTo>
                    <a:pt x="27" y="110"/>
                  </a:lnTo>
                  <a:lnTo>
                    <a:pt x="54" y="102"/>
                  </a:lnTo>
                  <a:lnTo>
                    <a:pt x="81" y="94"/>
                  </a:lnTo>
                  <a:lnTo>
                    <a:pt x="108" y="86"/>
                  </a:lnTo>
                  <a:lnTo>
                    <a:pt x="134" y="75"/>
                  </a:lnTo>
                  <a:lnTo>
                    <a:pt x="159" y="67"/>
                  </a:lnTo>
                  <a:lnTo>
                    <a:pt x="185" y="56"/>
                  </a:lnTo>
                  <a:lnTo>
                    <a:pt x="212" y="48"/>
                  </a:lnTo>
                  <a:lnTo>
                    <a:pt x="239" y="40"/>
                  </a:lnTo>
                  <a:lnTo>
                    <a:pt x="266" y="32"/>
                  </a:lnTo>
                  <a:lnTo>
                    <a:pt x="293" y="24"/>
                  </a:lnTo>
                  <a:lnTo>
                    <a:pt x="322" y="16"/>
                  </a:lnTo>
                  <a:lnTo>
                    <a:pt x="349" y="11"/>
                  </a:lnTo>
                  <a:lnTo>
                    <a:pt x="382" y="5"/>
                  </a:lnTo>
                  <a:lnTo>
                    <a:pt x="411" y="3"/>
                  </a:lnTo>
                  <a:lnTo>
                    <a:pt x="443" y="0"/>
                  </a:lnTo>
                  <a:lnTo>
                    <a:pt x="478" y="0"/>
                  </a:lnTo>
                  <a:lnTo>
                    <a:pt x="516" y="3"/>
                  </a:lnTo>
                  <a:lnTo>
                    <a:pt x="551" y="5"/>
                  </a:lnTo>
                  <a:lnTo>
                    <a:pt x="588" y="13"/>
                  </a:lnTo>
                  <a:lnTo>
                    <a:pt x="623" y="21"/>
                  </a:lnTo>
                  <a:lnTo>
                    <a:pt x="661" y="29"/>
                  </a:lnTo>
                  <a:lnTo>
                    <a:pt x="696" y="40"/>
                  </a:lnTo>
                  <a:lnTo>
                    <a:pt x="733" y="54"/>
                  </a:lnTo>
                  <a:lnTo>
                    <a:pt x="768" y="64"/>
                  </a:lnTo>
                  <a:lnTo>
                    <a:pt x="803" y="78"/>
                  </a:lnTo>
                  <a:lnTo>
                    <a:pt x="838" y="91"/>
                  </a:lnTo>
                  <a:lnTo>
                    <a:pt x="870" y="105"/>
                  </a:lnTo>
                  <a:lnTo>
                    <a:pt x="903" y="115"/>
                  </a:lnTo>
                  <a:lnTo>
                    <a:pt x="935" y="129"/>
                  </a:lnTo>
                  <a:lnTo>
                    <a:pt x="964" y="140"/>
                  </a:lnTo>
                  <a:lnTo>
                    <a:pt x="994" y="148"/>
                  </a:lnTo>
                  <a:lnTo>
                    <a:pt x="1609" y="325"/>
                  </a:lnTo>
                  <a:lnTo>
                    <a:pt x="672" y="102"/>
                  </a:lnTo>
                  <a:lnTo>
                    <a:pt x="333" y="67"/>
                  </a:lnTo>
                  <a:lnTo>
                    <a:pt x="0" y="11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16480" y="1920600"/>
              <a:ext cx="649080" cy="4466160"/>
            </a:xfrm>
            <a:custGeom>
              <a:avLst/>
              <a:gdLst/>
              <a:ahLst/>
              <a:rect l="l" t="t" r="r" b="b"/>
              <a:pathLst>
                <a:path w="376" h="2039">
                  <a:moveTo>
                    <a:pt x="0" y="0"/>
                  </a:moveTo>
                  <a:lnTo>
                    <a:pt x="164" y="905"/>
                  </a:lnTo>
                  <a:lnTo>
                    <a:pt x="295" y="1712"/>
                  </a:lnTo>
                  <a:lnTo>
                    <a:pt x="376" y="2039"/>
                  </a:lnTo>
                  <a:lnTo>
                    <a:pt x="279" y="1233"/>
                  </a:lnTo>
                  <a:lnTo>
                    <a:pt x="150" y="607"/>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41960" y="5598000"/>
              <a:ext cx="2954520" cy="759600"/>
            </a:xfrm>
            <a:custGeom>
              <a:avLst/>
              <a:gdLst/>
              <a:ahLst/>
              <a:rect l="l" t="t" r="r" b="b"/>
              <a:pathLst>
                <a:path w="1711" h="347">
                  <a:moveTo>
                    <a:pt x="1711" y="6"/>
                  </a:moveTo>
                  <a:lnTo>
                    <a:pt x="1708" y="3"/>
                  </a:lnTo>
                  <a:lnTo>
                    <a:pt x="1697" y="3"/>
                  </a:lnTo>
                  <a:lnTo>
                    <a:pt x="1684" y="0"/>
                  </a:lnTo>
                  <a:lnTo>
                    <a:pt x="1662" y="0"/>
                  </a:lnTo>
                  <a:lnTo>
                    <a:pt x="1636" y="0"/>
                  </a:lnTo>
                  <a:lnTo>
                    <a:pt x="1606" y="0"/>
                  </a:lnTo>
                  <a:lnTo>
                    <a:pt x="1574" y="0"/>
                  </a:lnTo>
                  <a:lnTo>
                    <a:pt x="1536" y="0"/>
                  </a:lnTo>
                  <a:lnTo>
                    <a:pt x="1499" y="0"/>
                  </a:lnTo>
                  <a:lnTo>
                    <a:pt x="1458" y="3"/>
                  </a:lnTo>
                  <a:lnTo>
                    <a:pt x="1415" y="6"/>
                  </a:lnTo>
                  <a:lnTo>
                    <a:pt x="1372" y="8"/>
                  </a:lnTo>
                  <a:lnTo>
                    <a:pt x="1327" y="11"/>
                  </a:lnTo>
                  <a:lnTo>
                    <a:pt x="1284" y="16"/>
                  </a:lnTo>
                  <a:lnTo>
                    <a:pt x="1241" y="22"/>
                  </a:lnTo>
                  <a:lnTo>
                    <a:pt x="1200" y="27"/>
                  </a:lnTo>
                  <a:lnTo>
                    <a:pt x="1158" y="35"/>
                  </a:lnTo>
                  <a:lnTo>
                    <a:pt x="1112" y="41"/>
                  </a:lnTo>
                  <a:lnTo>
                    <a:pt x="1069" y="51"/>
                  </a:lnTo>
                  <a:lnTo>
                    <a:pt x="1029" y="59"/>
                  </a:lnTo>
                  <a:lnTo>
                    <a:pt x="988" y="68"/>
                  </a:lnTo>
                  <a:lnTo>
                    <a:pt x="948" y="78"/>
                  </a:lnTo>
                  <a:lnTo>
                    <a:pt x="910" y="86"/>
                  </a:lnTo>
                  <a:lnTo>
                    <a:pt x="876" y="94"/>
                  </a:lnTo>
                  <a:lnTo>
                    <a:pt x="843" y="105"/>
                  </a:lnTo>
                  <a:lnTo>
                    <a:pt x="816" y="111"/>
                  </a:lnTo>
                  <a:lnTo>
                    <a:pt x="790" y="119"/>
                  </a:lnTo>
                  <a:lnTo>
                    <a:pt x="768" y="124"/>
                  </a:lnTo>
                  <a:lnTo>
                    <a:pt x="752" y="129"/>
                  </a:lnTo>
                  <a:lnTo>
                    <a:pt x="739" y="135"/>
                  </a:lnTo>
                  <a:lnTo>
                    <a:pt x="731" y="137"/>
                  </a:lnTo>
                  <a:lnTo>
                    <a:pt x="728" y="137"/>
                  </a:lnTo>
                  <a:lnTo>
                    <a:pt x="0" y="347"/>
                  </a:lnTo>
                  <a:lnTo>
                    <a:pt x="873" y="148"/>
                  </a:lnTo>
                  <a:lnTo>
                    <a:pt x="884" y="145"/>
                  </a:lnTo>
                  <a:lnTo>
                    <a:pt x="910" y="137"/>
                  </a:lnTo>
                  <a:lnTo>
                    <a:pt x="951" y="127"/>
                  </a:lnTo>
                  <a:lnTo>
                    <a:pt x="1004" y="113"/>
                  </a:lnTo>
                  <a:lnTo>
                    <a:pt x="1066" y="100"/>
                  </a:lnTo>
                  <a:lnTo>
                    <a:pt x="1133" y="84"/>
                  </a:lnTo>
                  <a:lnTo>
                    <a:pt x="1200" y="70"/>
                  </a:lnTo>
                  <a:lnTo>
                    <a:pt x="1268" y="57"/>
                  </a:lnTo>
                  <a:lnTo>
                    <a:pt x="1300" y="51"/>
                  </a:lnTo>
                  <a:lnTo>
                    <a:pt x="1335" y="46"/>
                  </a:lnTo>
                  <a:lnTo>
                    <a:pt x="1370" y="43"/>
                  </a:lnTo>
                  <a:lnTo>
                    <a:pt x="1407" y="38"/>
                  </a:lnTo>
                  <a:lnTo>
                    <a:pt x="1445" y="33"/>
                  </a:lnTo>
                  <a:lnTo>
                    <a:pt x="1480" y="30"/>
                  </a:lnTo>
                  <a:lnTo>
                    <a:pt x="1517" y="25"/>
                  </a:lnTo>
                  <a:lnTo>
                    <a:pt x="1552" y="22"/>
                  </a:lnTo>
                  <a:lnTo>
                    <a:pt x="1584" y="19"/>
                  </a:lnTo>
                  <a:lnTo>
                    <a:pt x="1614" y="16"/>
                  </a:lnTo>
                  <a:lnTo>
                    <a:pt x="1641" y="14"/>
                  </a:lnTo>
                  <a:lnTo>
                    <a:pt x="1665" y="11"/>
                  </a:lnTo>
                  <a:lnTo>
                    <a:pt x="1684" y="8"/>
                  </a:lnTo>
                  <a:lnTo>
                    <a:pt x="1700" y="8"/>
                  </a:lnTo>
                  <a:lnTo>
                    <a:pt x="1708" y="6"/>
                  </a:lnTo>
                  <a:lnTo>
                    <a:pt x="1711"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380560" y="5440680"/>
              <a:ext cx="2804040" cy="547200"/>
            </a:xfrm>
            <a:custGeom>
              <a:avLst/>
              <a:gdLst/>
              <a:ahLst/>
              <a:rect l="l" t="t" r="r" b="b"/>
              <a:pathLst>
                <a:path w="1624" h="250">
                  <a:moveTo>
                    <a:pt x="0" y="54"/>
                  </a:moveTo>
                  <a:lnTo>
                    <a:pt x="94" y="43"/>
                  </a:lnTo>
                  <a:lnTo>
                    <a:pt x="824" y="153"/>
                  </a:lnTo>
                  <a:lnTo>
                    <a:pt x="1624" y="250"/>
                  </a:lnTo>
                  <a:lnTo>
                    <a:pt x="1616" y="247"/>
                  </a:lnTo>
                  <a:lnTo>
                    <a:pt x="1589" y="242"/>
                  </a:lnTo>
                  <a:lnTo>
                    <a:pt x="1549" y="231"/>
                  </a:lnTo>
                  <a:lnTo>
                    <a:pt x="1493" y="217"/>
                  </a:lnTo>
                  <a:lnTo>
                    <a:pt x="1426" y="201"/>
                  </a:lnTo>
                  <a:lnTo>
                    <a:pt x="1348" y="183"/>
                  </a:lnTo>
                  <a:lnTo>
                    <a:pt x="1259" y="161"/>
                  </a:lnTo>
                  <a:lnTo>
                    <a:pt x="1162" y="140"/>
                  </a:lnTo>
                  <a:lnTo>
                    <a:pt x="1060" y="118"/>
                  </a:lnTo>
                  <a:lnTo>
                    <a:pt x="953" y="97"/>
                  </a:lnTo>
                  <a:lnTo>
                    <a:pt x="843" y="78"/>
                  </a:lnTo>
                  <a:lnTo>
                    <a:pt x="733" y="56"/>
                  </a:lnTo>
                  <a:lnTo>
                    <a:pt x="620" y="40"/>
                  </a:lnTo>
                  <a:lnTo>
                    <a:pt x="507" y="24"/>
                  </a:lnTo>
                  <a:lnTo>
                    <a:pt x="400" y="11"/>
                  </a:lnTo>
                  <a:lnTo>
                    <a:pt x="295" y="0"/>
                  </a:lnTo>
                  <a:lnTo>
                    <a:pt x="249" y="0"/>
                  </a:lnTo>
                  <a:lnTo>
                    <a:pt x="201" y="2"/>
                  </a:lnTo>
                  <a:lnTo>
                    <a:pt x="150" y="13"/>
                  </a:lnTo>
                  <a:lnTo>
                    <a:pt x="104" y="21"/>
                  </a:lnTo>
                  <a:lnTo>
                    <a:pt x="61" y="35"/>
                  </a:lnTo>
                  <a:lnTo>
                    <a:pt x="29" y="43"/>
                  </a:lnTo>
                  <a:lnTo>
                    <a:pt x="8" y="51"/>
                  </a:lnTo>
                  <a:lnTo>
                    <a:pt x="0" y="5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99640" y="1837440"/>
              <a:ext cx="588960" cy="4437360"/>
            </a:xfrm>
            <a:custGeom>
              <a:avLst/>
              <a:gdLst/>
              <a:ahLst/>
              <a:rect l="l" t="t" r="r" b="b"/>
              <a:pathLst>
                <a:path w="341" h="2026">
                  <a:moveTo>
                    <a:pt x="0" y="0"/>
                  </a:moveTo>
                  <a:lnTo>
                    <a:pt x="164" y="723"/>
                  </a:lnTo>
                  <a:lnTo>
                    <a:pt x="264" y="1239"/>
                  </a:lnTo>
                  <a:lnTo>
                    <a:pt x="341" y="2026"/>
                  </a:lnTo>
                  <a:lnTo>
                    <a:pt x="339" y="1537"/>
                  </a:lnTo>
                  <a:lnTo>
                    <a:pt x="250" y="946"/>
                  </a:lnTo>
                  <a:lnTo>
                    <a:pt x="143" y="4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60560" y="906120"/>
              <a:ext cx="445320" cy="2350080"/>
            </a:xfrm>
            <a:custGeom>
              <a:avLst/>
              <a:gdLst/>
              <a:ahLst/>
              <a:rect l="l" t="t" r="r" b="b"/>
              <a:pathLst>
                <a:path w="258" h="1073">
                  <a:moveTo>
                    <a:pt x="258" y="1073"/>
                  </a:moveTo>
                  <a:lnTo>
                    <a:pt x="258" y="1073"/>
                  </a:lnTo>
                  <a:lnTo>
                    <a:pt x="237" y="903"/>
                  </a:lnTo>
                  <a:lnTo>
                    <a:pt x="207" y="726"/>
                  </a:lnTo>
                  <a:lnTo>
                    <a:pt x="169" y="546"/>
                  </a:lnTo>
                  <a:lnTo>
                    <a:pt x="129" y="377"/>
                  </a:lnTo>
                  <a:lnTo>
                    <a:pt x="94" y="229"/>
                  </a:lnTo>
                  <a:lnTo>
                    <a:pt x="62" y="108"/>
                  </a:lnTo>
                  <a:lnTo>
                    <a:pt x="41" y="30"/>
                  </a:lnTo>
                  <a:lnTo>
                    <a:pt x="33" y="0"/>
                  </a:lnTo>
                  <a:lnTo>
                    <a:pt x="0" y="6"/>
                  </a:lnTo>
                  <a:lnTo>
                    <a:pt x="8" y="35"/>
                  </a:lnTo>
                  <a:lnTo>
                    <a:pt x="30" y="113"/>
                  </a:lnTo>
                  <a:lnTo>
                    <a:pt x="62" y="234"/>
                  </a:lnTo>
                  <a:lnTo>
                    <a:pt x="97" y="382"/>
                  </a:lnTo>
                  <a:lnTo>
                    <a:pt x="137" y="551"/>
                  </a:lnTo>
                  <a:lnTo>
                    <a:pt x="175" y="731"/>
                  </a:lnTo>
                  <a:lnTo>
                    <a:pt x="204" y="909"/>
                  </a:lnTo>
                  <a:lnTo>
                    <a:pt x="226" y="1073"/>
                  </a:lnTo>
                  <a:lnTo>
                    <a:pt x="226" y="1073"/>
                  </a:lnTo>
                  <a:lnTo>
                    <a:pt x="258" y="1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04360" y="3256560"/>
              <a:ext cx="126000" cy="2347560"/>
            </a:xfrm>
            <a:custGeom>
              <a:avLst/>
              <a:gdLst/>
              <a:ahLst/>
              <a:rect l="l" t="t" r="r" b="b"/>
              <a:pathLst>
                <a:path w="73" h="1072">
                  <a:moveTo>
                    <a:pt x="32" y="1072"/>
                  </a:moveTo>
                  <a:lnTo>
                    <a:pt x="40" y="962"/>
                  </a:lnTo>
                  <a:lnTo>
                    <a:pt x="59" y="693"/>
                  </a:lnTo>
                  <a:lnTo>
                    <a:pt x="73" y="344"/>
                  </a:lnTo>
                  <a:lnTo>
                    <a:pt x="59" y="0"/>
                  </a:lnTo>
                  <a:lnTo>
                    <a:pt x="27" y="0"/>
                  </a:lnTo>
                  <a:lnTo>
                    <a:pt x="35" y="344"/>
                  </a:lnTo>
                  <a:lnTo>
                    <a:pt x="27" y="693"/>
                  </a:lnTo>
                  <a:lnTo>
                    <a:pt x="8" y="962"/>
                  </a:lnTo>
                  <a:lnTo>
                    <a:pt x="0" y="1072"/>
                  </a:lnTo>
                  <a:lnTo>
                    <a:pt x="32" y="1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81640" y="118080"/>
              <a:ext cx="2377440" cy="5486400"/>
            </a:xfrm>
            <a:custGeom>
              <a:avLst/>
              <a:gdLst/>
              <a:ahLst/>
              <a:rect l="l" t="t" r="r" b="b"/>
              <a:pathLst>
                <a:path w="1377" h="2505">
                  <a:moveTo>
                    <a:pt x="1162" y="363"/>
                  </a:moveTo>
                  <a:lnTo>
                    <a:pt x="1160" y="358"/>
                  </a:lnTo>
                  <a:lnTo>
                    <a:pt x="1149" y="342"/>
                  </a:lnTo>
                  <a:lnTo>
                    <a:pt x="1133" y="315"/>
                  </a:lnTo>
                  <a:lnTo>
                    <a:pt x="1111" y="282"/>
                  </a:lnTo>
                  <a:lnTo>
                    <a:pt x="1079" y="247"/>
                  </a:lnTo>
                  <a:lnTo>
                    <a:pt x="1042" y="207"/>
                  </a:lnTo>
                  <a:lnTo>
                    <a:pt x="996" y="167"/>
                  </a:lnTo>
                  <a:lnTo>
                    <a:pt x="940" y="127"/>
                  </a:lnTo>
                  <a:lnTo>
                    <a:pt x="875" y="89"/>
                  </a:lnTo>
                  <a:lnTo>
                    <a:pt x="803" y="54"/>
                  </a:lnTo>
                  <a:lnTo>
                    <a:pt x="719" y="27"/>
                  </a:lnTo>
                  <a:lnTo>
                    <a:pt x="625" y="8"/>
                  </a:lnTo>
                  <a:lnTo>
                    <a:pt x="521" y="0"/>
                  </a:lnTo>
                  <a:lnTo>
                    <a:pt x="405" y="3"/>
                  </a:lnTo>
                  <a:lnTo>
                    <a:pt x="279" y="22"/>
                  </a:lnTo>
                  <a:lnTo>
                    <a:pt x="139" y="54"/>
                  </a:lnTo>
                  <a:lnTo>
                    <a:pt x="61" y="84"/>
                  </a:lnTo>
                  <a:lnTo>
                    <a:pt x="18" y="124"/>
                  </a:lnTo>
                  <a:lnTo>
                    <a:pt x="0" y="167"/>
                  </a:lnTo>
                  <a:lnTo>
                    <a:pt x="8" y="218"/>
                  </a:lnTo>
                  <a:lnTo>
                    <a:pt x="37" y="277"/>
                  </a:lnTo>
                  <a:lnTo>
                    <a:pt x="86" y="339"/>
                  </a:lnTo>
                  <a:lnTo>
                    <a:pt x="145" y="406"/>
                  </a:lnTo>
                  <a:lnTo>
                    <a:pt x="214" y="479"/>
                  </a:lnTo>
                  <a:lnTo>
                    <a:pt x="292" y="557"/>
                  </a:lnTo>
                  <a:lnTo>
                    <a:pt x="373" y="637"/>
                  </a:lnTo>
                  <a:lnTo>
                    <a:pt x="451" y="718"/>
                  </a:lnTo>
                  <a:lnTo>
                    <a:pt x="526" y="804"/>
                  </a:lnTo>
                  <a:lnTo>
                    <a:pt x="590" y="892"/>
                  </a:lnTo>
                  <a:lnTo>
                    <a:pt x="647" y="981"/>
                  </a:lnTo>
                  <a:lnTo>
                    <a:pt x="684" y="1070"/>
                  </a:lnTo>
                  <a:lnTo>
                    <a:pt x="706" y="1161"/>
                  </a:lnTo>
                  <a:lnTo>
                    <a:pt x="706" y="1250"/>
                  </a:lnTo>
                  <a:lnTo>
                    <a:pt x="690" y="1344"/>
                  </a:lnTo>
                  <a:lnTo>
                    <a:pt x="658" y="1441"/>
                  </a:lnTo>
                  <a:lnTo>
                    <a:pt x="617" y="1540"/>
                  </a:lnTo>
                  <a:lnTo>
                    <a:pt x="569" y="1640"/>
                  </a:lnTo>
                  <a:lnTo>
                    <a:pt x="518" y="1739"/>
                  </a:lnTo>
                  <a:lnTo>
                    <a:pt x="464" y="1833"/>
                  </a:lnTo>
                  <a:lnTo>
                    <a:pt x="410" y="1925"/>
                  </a:lnTo>
                  <a:lnTo>
                    <a:pt x="362" y="2011"/>
                  </a:lnTo>
                  <a:lnTo>
                    <a:pt x="325" y="2088"/>
                  </a:lnTo>
                  <a:lnTo>
                    <a:pt x="295" y="2156"/>
                  </a:lnTo>
                  <a:lnTo>
                    <a:pt x="279" y="2215"/>
                  </a:lnTo>
                  <a:lnTo>
                    <a:pt x="279" y="2260"/>
                  </a:lnTo>
                  <a:lnTo>
                    <a:pt x="300" y="2295"/>
                  </a:lnTo>
                  <a:lnTo>
                    <a:pt x="346" y="2312"/>
                  </a:lnTo>
                  <a:lnTo>
                    <a:pt x="416" y="2314"/>
                  </a:lnTo>
                  <a:lnTo>
                    <a:pt x="488" y="2312"/>
                  </a:lnTo>
                  <a:lnTo>
                    <a:pt x="566" y="2314"/>
                  </a:lnTo>
                  <a:lnTo>
                    <a:pt x="644" y="2320"/>
                  </a:lnTo>
                  <a:lnTo>
                    <a:pt x="722" y="2330"/>
                  </a:lnTo>
                  <a:lnTo>
                    <a:pt x="803" y="2346"/>
                  </a:lnTo>
                  <a:lnTo>
                    <a:pt x="880" y="2363"/>
                  </a:lnTo>
                  <a:lnTo>
                    <a:pt x="958" y="2379"/>
                  </a:lnTo>
                  <a:lnTo>
                    <a:pt x="1031" y="2398"/>
                  </a:lnTo>
                  <a:lnTo>
                    <a:pt x="1098" y="2419"/>
                  </a:lnTo>
                  <a:lnTo>
                    <a:pt x="1162" y="2438"/>
                  </a:lnTo>
                  <a:lnTo>
                    <a:pt x="1219" y="2454"/>
                  </a:lnTo>
                  <a:lnTo>
                    <a:pt x="1267" y="2470"/>
                  </a:lnTo>
                  <a:lnTo>
                    <a:pt x="1307" y="2486"/>
                  </a:lnTo>
                  <a:lnTo>
                    <a:pt x="1337" y="2494"/>
                  </a:lnTo>
                  <a:lnTo>
                    <a:pt x="1356" y="2502"/>
                  </a:lnTo>
                  <a:lnTo>
                    <a:pt x="1361" y="2505"/>
                  </a:lnTo>
                  <a:lnTo>
                    <a:pt x="1367" y="2363"/>
                  </a:lnTo>
                  <a:lnTo>
                    <a:pt x="1375" y="2029"/>
                  </a:lnTo>
                  <a:lnTo>
                    <a:pt x="1377" y="1642"/>
                  </a:lnTo>
                  <a:lnTo>
                    <a:pt x="1369" y="1344"/>
                  </a:lnTo>
                  <a:lnTo>
                    <a:pt x="1356" y="1231"/>
                  </a:lnTo>
                  <a:lnTo>
                    <a:pt x="1329" y="1089"/>
                  </a:lnTo>
                  <a:lnTo>
                    <a:pt x="1297" y="927"/>
                  </a:lnTo>
                  <a:lnTo>
                    <a:pt x="1259" y="763"/>
                  </a:lnTo>
                  <a:lnTo>
                    <a:pt x="1224" y="610"/>
                  </a:lnTo>
                  <a:lnTo>
                    <a:pt x="1192" y="481"/>
                  </a:lnTo>
                  <a:lnTo>
                    <a:pt x="1170" y="395"/>
                  </a:lnTo>
                  <a:lnTo>
                    <a:pt x="1162" y="36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47920" y="914400"/>
            <a:ext cx="32763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A  primeros días del mes de agosto de 1602 por Cédula Real se concedió permiso a religiosos de la orden de San Juan de Dios para radicarse en  Las Indias y a cuatro de ellos en particular en La Habana, con el fin  de hacerse cargo del Hospital . Ellos,</a:t>
            </a:r>
            <a:endParaRPr b="0" lang="en-US" sz="2400" spc="-1" strike="noStrike">
              <a:solidFill>
                <a:srgbClr val="000000"/>
              </a:solidFill>
              <a:latin typeface="Times New Roman"/>
            </a:endParaRPr>
          </a:p>
        </p:txBody>
      </p:sp>
      <p:sp>
        <p:nvSpPr>
          <p:cNvPr id="144" name=""/>
          <p:cNvSpPr/>
          <p:nvPr/>
        </p:nvSpPr>
        <p:spPr>
          <a:xfrm>
            <a:off x="5667480" y="1114560"/>
            <a:ext cx="243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257800" y="0"/>
            <a:ext cx="32400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en honor a su Patrono,le  cambiaron el nombre por el de  “San Juan de Dios”. Es en esa época cuando comienza a prestar  asistencia el primer médico de la villa, de quien sólo se conoce su nombre: Julio César.</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6948360" y="4437000"/>
            <a:ext cx="1190880" cy="8636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par>
                          <p:cTn id="71" fill="hold">
                            <p:stCondLst>
                              <p:cond delay="500"/>
                            </p:stCondLst>
                            <p:childTnLst>
                              <p:par>
                                <p:cTn id="72" nodeType="afterEffect" fill="hold" presetClass="entr" presetID="2" presetSubtype="2">
                                  <p:stCondLst>
                                    <p:cond delay="0"/>
                                  </p:stCondLst>
                                  <p:childTnLst>
                                    <p:set>
                                      <p:cBhvr>
                                        <p:cTn id="73" dur="1" fill="hold">
                                          <p:stCondLst>
                                            <p:cond delay="0"/>
                                          </p:stCondLst>
                                        </p:cTn>
                                        <p:tgtEl>
                                          <p:spTgt spid="143"/>
                                        </p:tgtEl>
                                        <p:attrNameLst>
                                          <p:attrName>style.visibility</p:attrName>
                                        </p:attrNameLst>
                                      </p:cBhvr>
                                      <p:to>
                                        <p:strVal val="visible"/>
                                      </p:to>
                                    </p:set>
                                    <p:anim calcmode="lin" valueType="num">
                                      <p:cBhvr additive="base">
                                        <p:cTn id="74" dur="500" fill="hold"/>
                                        <p:tgtEl>
                                          <p:spTgt spid="143"/>
                                        </p:tgtEl>
                                        <p:attrNameLst>
                                          <p:attrName>ppt_x</p:attrName>
                                        </p:attrNameLst>
                                      </p:cBhvr>
                                      <p:tavLst>
                                        <p:tav tm="0">
                                          <p:val>
                                            <p:strVal val="1+#ppt_w/2"/>
                                          </p:val>
                                        </p:tav>
                                        <p:tav tm="100000">
                                          <p:val>
                                            <p:strVal val="#ppt_x"/>
                                          </p:val>
                                        </p:tav>
                                      </p:tavLst>
                                    </p:anim>
                                    <p:anim calcmode="lin" valueType="num">
                                      <p:cBhvr additive="base">
                                        <p:cTn id="75" dur="500" fill="hold"/>
                                        <p:tgtEl>
                                          <p:spTgt spid="143"/>
                                        </p:tgtEl>
                                        <p:attrNameLst>
                                          <p:attrName>ppt_y</p:attrName>
                                        </p:attrNameLst>
                                      </p:cBhvr>
                                      <p:tavLst>
                                        <p:tav tm="0">
                                          <p:val>
                                            <p:strVal val="#ppt_y"/>
                                          </p:val>
                                        </p:tav>
                                        <p:tav tm="100000">
                                          <p:val>
                                            <p:strVal val="#ppt_y"/>
                                          </p:val>
                                        </p:tav>
                                      </p:tavLst>
                                    </p:anim>
                                  </p:childTnLst>
                                </p:cTn>
                              </p:par>
                            </p:childTnLst>
                          </p:cTn>
                        </p:par>
                        <p:par>
                          <p:cTn id="76" fill="hold">
                            <p:stCondLst>
                              <p:cond delay="1000"/>
                            </p:stCondLst>
                            <p:childTnLst>
                              <p:par>
                                <p:cTn id="77" nodeType="afterEffect" fill="hold" presetClass="entr" presetID="2" presetSubtype="2">
                                  <p:stCondLst>
                                    <p:cond delay="0"/>
                                  </p:stCondLst>
                                  <p:childTnLst>
                                    <p:set>
                                      <p:cBhvr>
                                        <p:cTn id="78" dur="1" fill="hold">
                                          <p:stCondLst>
                                            <p:cond delay="0"/>
                                          </p:stCondLst>
                                        </p:cTn>
                                        <p:tgtEl>
                                          <p:spTgt spid="145"/>
                                        </p:tgtEl>
                                        <p:attrNameLst>
                                          <p:attrName>style.visibility</p:attrName>
                                        </p:attrNameLst>
                                      </p:cBhvr>
                                      <p:to>
                                        <p:strVal val="visible"/>
                                      </p:to>
                                    </p:set>
                                    <p:anim calcmode="lin" valueType="num">
                                      <p:cBhvr additive="base">
                                        <p:cTn id="79" dur="500" fill="hold"/>
                                        <p:tgtEl>
                                          <p:spTgt spid="145"/>
                                        </p:tgtEl>
                                        <p:attrNameLst>
                                          <p:attrName>ppt_x</p:attrName>
                                        </p:attrNameLst>
                                      </p:cBhvr>
                                      <p:tavLst>
                                        <p:tav tm="0">
                                          <p:val>
                                            <p:strVal val="1+#ppt_w/2"/>
                                          </p:val>
                                        </p:tav>
                                        <p:tav tm="100000">
                                          <p:val>
                                            <p:strVal val="#ppt_x"/>
                                          </p:val>
                                        </p:tav>
                                      </p:tavLst>
                                    </p:anim>
                                    <p:anim calcmode="lin" valueType="num">
                                      <p:cBhvr additive="base">
                                        <p:cTn id="80" dur="500" fill="hold"/>
                                        <p:tgtEl>
                                          <p:spTgt spid="145"/>
                                        </p:tgtEl>
                                        <p:attrNameLst>
                                          <p:attrName>ppt_y</p:attrName>
                                        </p:attrNameLst>
                                      </p:cBhvr>
                                      <p:tavLst>
                                        <p:tav tm="0">
                                          <p:val>
                                            <p:strVal val="#ppt_y"/>
                                          </p:val>
                                        </p:tav>
                                        <p:tav tm="100000">
                                          <p:val>
                                            <p:strVal val="#ppt_y"/>
                                          </p:val>
                                        </p:tav>
                                      </p:tavLst>
                                    </p:anim>
                                  </p:childTnLst>
                                </p:cTn>
                              </p:par>
                            </p:childTnLst>
                          </p:cTn>
                        </p:par>
                        <p:par>
                          <p:cTn id="81" fill="hold">
                            <p:stCondLst>
                              <p:cond delay="1500"/>
                            </p:stCondLst>
                            <p:childTnLst>
                              <p:par>
                                <p:cTn id="82" nodeType="afterEffect" fill="hold" presetClass="entr" presetID="3" presetSubtype="10">
                                  <p:stCondLst>
                                    <p:cond delay="0"/>
                                  </p:stCondLst>
                                  <p:childTnLst>
                                    <p:set>
                                      <p:cBhvr>
                                        <p:cTn id="83" dur="1" fill="hold">
                                          <p:stCondLst>
                                            <p:cond delay="0"/>
                                          </p:stCondLst>
                                        </p:cTn>
                                        <p:tgtEl>
                                          <p:spTgt spid="146"/>
                                        </p:tgtEl>
                                        <p:attrNameLst>
                                          <p:attrName>style.visibility</p:attrName>
                                        </p:attrNameLst>
                                      </p:cBhvr>
                                      <p:to>
                                        <p:strVal val="visible"/>
                                      </p:to>
                                    </p:set>
                                    <p:animEffect filter="blinds(horizontal)" transition="in">
                                      <p:cBhvr additive="repl">
                                        <p:cTn id="8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21168000">
            <a:off x="1220760" y="1050840"/>
            <a:ext cx="337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533520" y="0"/>
            <a:ext cx="83739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Posteriormente, por Real Cédula del 24 de febrero de 1769, se hizo entrega del Hospital a una administración civil en la persona de Don Tomás  Mateo Cervales,  retomando de nuevo el nombre de  San Felipe y Santiago.</a:t>
            </a:r>
            <a:endParaRPr b="0" lang="en-US" sz="2400" spc="-1" strike="noStrike">
              <a:solidFill>
                <a:srgbClr val="000000"/>
              </a:solidFill>
              <a:latin typeface="Times New Roman"/>
            </a:endParaRPr>
          </a:p>
        </p:txBody>
      </p:sp>
      <p:sp>
        <p:nvSpPr>
          <p:cNvPr id="150" name=""/>
          <p:cNvSpPr/>
          <p:nvPr/>
        </p:nvSpPr>
        <p:spPr>
          <a:xfrm>
            <a:off x="457200" y="3886200"/>
            <a:ext cx="6480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En 1859 se produce un derrumbe parcial de su estructura,  por lo que en julio del año 1861 se ordena su traslado hacia los altos de la antigua cárcel de la Habana,</a:t>
            </a:r>
            <a:r>
              <a:rPr b="1" i="1" lang="es-MX" sz="2400" spc="-1" strike="noStrike">
                <a:solidFill>
                  <a:srgbClr val="ffffff"/>
                </a:solidFill>
                <a:latin typeface="Times New Roman"/>
              </a:rPr>
              <a:t> en tanto se compraba </a:t>
            </a:r>
            <a:r>
              <a:rPr b="1" i="1" lang="es-ES_tradnl" sz="2400" spc="-1" strike="noStrike">
                <a:solidFill>
                  <a:srgbClr val="ffffff"/>
                </a:solidFill>
                <a:latin typeface="Times New Roman"/>
              </a:rPr>
              <a:t>una parcela  del entonces Reparto Medina, donde se encuentra hoy  la Heladería ”Coppelia”, con vistas a la construcción de un nuevo local.</a:t>
            </a:r>
            <a:r>
              <a:rPr b="0" i="1" lang="es-MX"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539640" y="1773360"/>
            <a:ext cx="2160720" cy="1942920"/>
          </a:xfrm>
          <a:prstGeom prst="rect">
            <a:avLst/>
          </a:prstGeom>
          <a:ln w="0">
            <a:noFill/>
          </a:ln>
        </p:spPr>
      </p:pic>
      <p:pic>
        <p:nvPicPr>
          <p:cNvPr id="152" name="" descr=""/>
          <p:cNvPicPr/>
          <p:nvPr/>
        </p:nvPicPr>
        <p:blipFill>
          <a:blip r:embed="rId2"/>
          <a:stretch/>
        </p:blipFill>
        <p:spPr>
          <a:xfrm>
            <a:off x="3059280" y="1844640"/>
            <a:ext cx="3384360" cy="1800360"/>
          </a:xfrm>
          <a:prstGeom prst="rect">
            <a:avLst/>
          </a:prstGeom>
          <a:ln w="0">
            <a:noFill/>
          </a:ln>
        </p:spPr>
      </p:pic>
      <p:pic>
        <p:nvPicPr>
          <p:cNvPr id="153" name="" descr=""/>
          <p:cNvPicPr/>
          <p:nvPr/>
        </p:nvPicPr>
        <p:blipFill>
          <a:blip r:embed="rId3"/>
          <a:stretch/>
        </p:blipFill>
        <p:spPr>
          <a:xfrm>
            <a:off x="6877080" y="2781360"/>
            <a:ext cx="1549440" cy="1439640"/>
          </a:xfrm>
          <a:prstGeom prst="rect">
            <a:avLst/>
          </a:prstGeom>
          <a:ln w="0">
            <a:noFill/>
          </a:ln>
        </p:spPr>
      </p:pic>
      <p:pic>
        <p:nvPicPr>
          <p:cNvPr id="154" name="" descr=""/>
          <p:cNvPicPr/>
          <p:nvPr/>
        </p:nvPicPr>
        <p:blipFill>
          <a:blip r:embed="rId4"/>
          <a:stretch/>
        </p:blipFill>
        <p:spPr>
          <a:xfrm>
            <a:off x="7308720" y="4724280"/>
            <a:ext cx="1278000" cy="172908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149"/>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50"/>
                                        </p:tgtEl>
                                        <p:attrNameLst>
                                          <p:attrName>style.visibility</p:attrName>
                                        </p:attrNameLst>
                                      </p:cBhvr>
                                      <p:to>
                                        <p:strVal val="visible"/>
                                      </p:to>
                                    </p:set>
                                    <p:animEffect filter="box(in)" transition="in">
                                      <p:cBhvr additive="repl">
                                        <p:cTn id="94" dur="500"/>
                                        <p:tgtEl>
                                          <p:spTgt spid="150"/>
                                        </p:tgtEl>
                                      </p:cBhvr>
                                    </p:animEffect>
                                  </p:childTnLst>
                                </p:cTn>
                              </p:par>
                            </p:childTnLst>
                          </p:cTn>
                        </p:par>
                        <p:par>
                          <p:cTn id="95" fill="hold">
                            <p:stCondLst>
                              <p:cond delay="1000"/>
                            </p:stCondLst>
                            <p:childTnLst>
                              <p:par>
                                <p:cTn id="96" nodeType="afterEffect" fill="hold" presetClass="entr" presetID="8" presetSubtype="16">
                                  <p:stCondLst>
                                    <p:cond delay="0"/>
                                  </p:stCondLst>
                                  <p:childTnLst>
                                    <p:set>
                                      <p:cBhvr>
                                        <p:cTn id="97" dur="1" fill="hold">
                                          <p:stCondLst>
                                            <p:cond delay="0"/>
                                          </p:stCondLst>
                                        </p:cTn>
                                        <p:tgtEl>
                                          <p:spTgt spid="151"/>
                                        </p:tgtEl>
                                        <p:attrNameLst>
                                          <p:attrName>style.visibility</p:attrName>
                                        </p:attrNameLst>
                                      </p:cBhvr>
                                      <p:to>
                                        <p:strVal val="visible"/>
                                      </p:to>
                                    </p:set>
                                    <p:animEffect filter="diamond(in)" transition="in">
                                      <p:cBhvr additive="repl">
                                        <p:cTn id="98" dur="500"/>
                                        <p:tgtEl>
                                          <p:spTgt spid="151"/>
                                        </p:tgtEl>
                                      </p:cBhvr>
                                    </p:animEffect>
                                  </p:childTnLst>
                                </p:cTn>
                              </p:par>
                            </p:childTnLst>
                          </p:cTn>
                        </p:par>
                        <p:par>
                          <p:cTn id="99" fill="hold">
                            <p:stCondLst>
                              <p:cond delay="1500"/>
                            </p:stCondLst>
                            <p:childTnLst>
                              <p:par>
                                <p:cTn id="100" nodeType="afterEffect" fill="hold" presetClass="entr" presetID="8" presetSubtype="16">
                                  <p:stCondLst>
                                    <p:cond delay="0"/>
                                  </p:stCondLst>
                                  <p:childTnLst>
                                    <p:set>
                                      <p:cBhvr>
                                        <p:cTn id="101" dur="1" fill="hold">
                                          <p:stCondLst>
                                            <p:cond delay="0"/>
                                          </p:stCondLst>
                                        </p:cTn>
                                        <p:tgtEl>
                                          <p:spTgt spid="152"/>
                                        </p:tgtEl>
                                        <p:attrNameLst>
                                          <p:attrName>style.visibility</p:attrName>
                                        </p:attrNameLst>
                                      </p:cBhvr>
                                      <p:to>
                                        <p:strVal val="visible"/>
                                      </p:to>
                                    </p:set>
                                    <p:animEffect filter="diamond(in)" transition="in">
                                      <p:cBhvr additive="repl">
                                        <p:cTn id="102" dur="500"/>
                                        <p:tgtEl>
                                          <p:spTgt spid="152"/>
                                        </p:tgtEl>
                                      </p:cBhvr>
                                    </p:animEffect>
                                  </p:childTnLst>
                                </p:cTn>
                              </p:par>
                            </p:childTnLst>
                          </p:cTn>
                        </p:par>
                        <p:par>
                          <p:cTn id="103" fill="hold">
                            <p:stCondLst>
                              <p:cond delay="2000"/>
                            </p:stCondLst>
                            <p:childTnLst>
                              <p:par>
                                <p:cTn id="104" nodeType="afterEffect" fill="hold" presetClass="entr" presetID="8" presetSubtype="16">
                                  <p:stCondLst>
                                    <p:cond delay="0"/>
                                  </p:stCondLst>
                                  <p:childTnLst>
                                    <p:set>
                                      <p:cBhvr>
                                        <p:cTn id="105" dur="1" fill="hold">
                                          <p:stCondLst>
                                            <p:cond delay="0"/>
                                          </p:stCondLst>
                                        </p:cTn>
                                        <p:tgtEl>
                                          <p:spTgt spid="153"/>
                                        </p:tgtEl>
                                        <p:attrNameLst>
                                          <p:attrName>style.visibility</p:attrName>
                                        </p:attrNameLst>
                                      </p:cBhvr>
                                      <p:to>
                                        <p:strVal val="visible"/>
                                      </p:to>
                                    </p:set>
                                    <p:animEffect filter="diamond(in)" transition="in">
                                      <p:cBhvr additive="repl">
                                        <p:cTn id="106" dur="500"/>
                                        <p:tgtEl>
                                          <p:spTgt spid="153"/>
                                        </p:tgtEl>
                                      </p:cBhvr>
                                    </p:animEffect>
                                  </p:childTnLst>
                                </p:cTn>
                              </p:par>
                            </p:childTnLst>
                          </p:cTn>
                        </p:par>
                        <p:par>
                          <p:cTn id="107" fill="hold">
                            <p:stCondLst>
                              <p:cond delay="2500"/>
                            </p:stCondLst>
                            <p:childTnLst>
                              <p:par>
                                <p:cTn id="108" nodeType="afterEffect" fill="hold" presetClass="entr" presetID="8" presetSubtype="16">
                                  <p:stCondLst>
                                    <p:cond delay="0"/>
                                  </p:stCondLst>
                                  <p:childTnLst>
                                    <p:set>
                                      <p:cBhvr>
                                        <p:cTn id="109" dur="1" fill="hold">
                                          <p:stCondLst>
                                            <p:cond delay="0"/>
                                          </p:stCondLst>
                                        </p:cTn>
                                        <p:tgtEl>
                                          <p:spTgt spid="154"/>
                                        </p:tgtEl>
                                        <p:attrNameLst>
                                          <p:attrName>style.visibility</p:attrName>
                                        </p:attrNameLst>
                                      </p:cBhvr>
                                      <p:to>
                                        <p:strVal val="visible"/>
                                      </p:to>
                                    </p:set>
                                    <p:animEffect filter="diamond(in)" transition="in">
                                      <p:cBhvr additive="repl">
                                        <p:cTn id="11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2590920" y="304920"/>
            <a:ext cx="65530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Fue e</a:t>
            </a:r>
            <a:r>
              <a:rPr b="1" i="1" lang="es-ES" sz="2800" spc="-1" strike="noStrike">
                <a:solidFill>
                  <a:srgbClr val="ffffff"/>
                </a:solidFill>
                <a:latin typeface="Times New Roman"/>
              </a:rPr>
              <a:t>n estas paredes </a:t>
            </a:r>
            <a:r>
              <a:rPr b="1" i="1" lang="en-US" sz="2800" spc="-1" strike="noStrike">
                <a:solidFill>
                  <a:srgbClr val="ffffff"/>
                </a:solidFill>
                <a:latin typeface="Times New Roman"/>
              </a:rPr>
              <a:t>que </a:t>
            </a:r>
            <a:r>
              <a:rPr b="1" i="1" lang="es-ES" sz="2800" spc="-1" strike="noStrike">
                <a:solidFill>
                  <a:srgbClr val="ffffff"/>
                </a:solidFill>
                <a:latin typeface="Times New Roman"/>
              </a:rPr>
              <a:t>adquirió su condición de Centro de Enseñanza Universitaria, y en él prestaron servicios médicos ilustres como los Dres. Díaz Albertini, Raimundo Menocal y Don Tomás Romay. </a:t>
            </a:r>
            <a:endParaRPr b="0" lang="en-US" sz="2800" spc="-1" strike="noStrike">
              <a:solidFill>
                <a:srgbClr val="000000"/>
              </a:solidFill>
              <a:latin typeface="Times New Roman"/>
            </a:endParaRPr>
          </a:p>
        </p:txBody>
      </p:sp>
      <p:pic>
        <p:nvPicPr>
          <p:cNvPr id="156" name="" descr=""/>
          <p:cNvPicPr/>
          <p:nvPr/>
        </p:nvPicPr>
        <p:blipFill>
          <a:blip r:embed="rId1"/>
          <a:stretch/>
        </p:blipFill>
        <p:spPr>
          <a:xfrm>
            <a:off x="6400800" y="3809880"/>
            <a:ext cx="2362320" cy="2514600"/>
          </a:xfrm>
          <a:prstGeom prst="rect">
            <a:avLst/>
          </a:prstGeom>
          <a:ln w="0">
            <a:noFill/>
          </a:ln>
        </p:spPr>
      </p:pic>
      <p:sp>
        <p:nvSpPr>
          <p:cNvPr id="157" name=""/>
          <p:cNvSpPr/>
          <p:nvPr/>
        </p:nvSpPr>
        <p:spPr>
          <a:xfrm>
            <a:off x="304920" y="3429000"/>
            <a:ext cx="60195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rPr>
              <a:t>Por sus aulas pasaron </a:t>
            </a:r>
            <a:r>
              <a:rPr b="1" i="1" lang="en-US" sz="2800" spc="-1" strike="noStrike">
                <a:solidFill>
                  <a:srgbClr val="ffffff"/>
                </a:solidFill>
                <a:latin typeface="Times New Roman"/>
              </a:rPr>
              <a:t>también </a:t>
            </a:r>
            <a:r>
              <a:rPr b="1" i="1" lang="es-ES" sz="2800" spc="-1" strike="noStrike">
                <a:solidFill>
                  <a:srgbClr val="ffffff"/>
                </a:solidFill>
                <a:latin typeface="Times New Roman"/>
              </a:rPr>
              <a:t>hombres ilustres que dejaron escritas bellas </a:t>
            </a:r>
            <a:r>
              <a:rPr b="1" i="1" lang="en-US" sz="2800" spc="-1" strike="noStrike">
                <a:solidFill>
                  <a:srgbClr val="ffffff"/>
                </a:solidFill>
                <a:latin typeface="Times New Roman"/>
              </a:rPr>
              <a:t>y heroicas </a:t>
            </a:r>
            <a:r>
              <a:rPr b="1" i="1" lang="es-ES" sz="2800" spc="-1" strike="noStrike">
                <a:solidFill>
                  <a:srgbClr val="ffffff"/>
                </a:solidFill>
                <a:latin typeface="Times New Roman"/>
              </a:rPr>
              <a:t>páginas de nuestra Historia como Fermín Valdés Domínguez y  fueron sus alumnos los </a:t>
            </a:r>
            <a:r>
              <a:rPr b="1" i="1" lang="en-US" sz="2800" spc="-1" strike="noStrike">
                <a:solidFill>
                  <a:srgbClr val="ffffff"/>
                </a:solidFill>
                <a:latin typeface="Times New Roman"/>
              </a:rPr>
              <a:t>8 </a:t>
            </a:r>
            <a:r>
              <a:rPr b="1" i="1" lang="es-ES" sz="2800" spc="-1" strike="noStrike">
                <a:solidFill>
                  <a:srgbClr val="ffffff"/>
                </a:solidFill>
                <a:latin typeface="Times New Roman"/>
              </a:rPr>
              <a:t>Estudiantes de Medicina que serían fusilados el 27 de noviembre de 1871.</a:t>
            </a:r>
            <a:endParaRPr b="0" lang="en-US" sz="2800" spc="-1" strike="noStrike">
              <a:solidFill>
                <a:srgbClr val="000000"/>
              </a:solidFill>
              <a:latin typeface="Times New Roman"/>
            </a:endParaRPr>
          </a:p>
        </p:txBody>
      </p:sp>
      <p:pic>
        <p:nvPicPr>
          <p:cNvPr id="158" name="" descr=""/>
          <p:cNvPicPr/>
          <p:nvPr/>
        </p:nvPicPr>
        <p:blipFill>
          <a:blip r:embed="rId2"/>
          <a:stretch/>
        </p:blipFill>
        <p:spPr>
          <a:xfrm>
            <a:off x="826920" y="692280"/>
            <a:ext cx="1800360" cy="180792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528">
                                  <p:stCondLst>
                                    <p:cond delay="0"/>
                                  </p:stCondLst>
                                  <p:childTnLst>
                                    <p:set>
                                      <p:cBhvr>
                                        <p:cTn id="116" dur="1" fill="hold">
                                          <p:stCondLst>
                                            <p:cond delay="0"/>
                                          </p:stCondLst>
                                        </p:cTn>
                                        <p:tgtEl>
                                          <p:spTgt spid="155"/>
                                        </p:tgtEl>
                                        <p:attrNameLst>
                                          <p:attrName>style.visibility</p:attrName>
                                        </p:attrNameLst>
                                      </p:cBhvr>
                                      <p:to>
                                        <p:strVal val="visible"/>
                                      </p:to>
                                    </p:set>
                                    <p:anim calcmode="lin" valueType="num">
                                      <p:cBhvr additive="repl">
                                        <p:cTn id="117" dur="500" fill="hold"/>
                                        <p:tgtEl>
                                          <p:spTgt spid="155"/>
                                        </p:tgtEl>
                                        <p:attrNameLst>
                                          <p:attrName>ppt_w</p:attrName>
                                        </p:attrNameLst>
                                      </p:cBhvr>
                                      <p:tavLst>
                                        <p:tav tm="0">
                                          <p:val>
                                            <p:fltVal val="0"/>
                                          </p:val>
                                        </p:tav>
                                        <p:tav tm="100000">
                                          <p:val>
                                            <p:strVal val="#ppt_w"/>
                                          </p:val>
                                        </p:tav>
                                      </p:tavLst>
                                    </p:anim>
                                    <p:anim calcmode="lin" valueType="num">
                                      <p:cBhvr additive="repl">
                                        <p:cTn id="118" dur="500" fill="hold"/>
                                        <p:tgtEl>
                                          <p:spTgt spid="155"/>
                                        </p:tgtEl>
                                        <p:attrNameLst>
                                          <p:attrName>ppt_h</p:attrName>
                                        </p:attrNameLst>
                                      </p:cBhvr>
                                      <p:tavLst>
                                        <p:tav tm="0">
                                          <p:val>
                                            <p:fltVal val="0"/>
                                          </p:val>
                                        </p:tav>
                                        <p:tav tm="100000">
                                          <p:val>
                                            <p:strVal val="#ppt_h"/>
                                          </p:val>
                                        </p:tav>
                                      </p:tavLst>
                                    </p:anim>
                                    <p:anim calcmode="lin" valueType="num">
                                      <p:cBhvr additive="repl">
                                        <p:cTn id="119" dur="500" fill="hold"/>
                                        <p:tgtEl>
                                          <p:spTgt spid="155"/>
                                        </p:tgtEl>
                                        <p:attrNameLst>
                                          <p:attrName>ppt_x</p:attrName>
                                        </p:attrNameLst>
                                      </p:cBhvr>
                                      <p:tavLst>
                                        <p:tav tm="0">
                                          <p:val>
                                            <p:fltVal val="0.5"/>
                                          </p:val>
                                        </p:tav>
                                        <p:tav tm="100000">
                                          <p:val>
                                            <p:strVal val="#ppt_x"/>
                                          </p:val>
                                        </p:tav>
                                      </p:tavLst>
                                    </p:anim>
                                    <p:anim calcmode="lin" valueType="num">
                                      <p:cBhvr additive="repl">
                                        <p:cTn id="120" dur="500" fill="hold"/>
                                        <p:tgtEl>
                                          <p:spTgt spid="155"/>
                                        </p:tgtEl>
                                        <p:attrNameLst>
                                          <p:attrName>ppt_y</p:attrName>
                                        </p:attrNameLst>
                                      </p:cBhvr>
                                      <p:tavLst>
                                        <p:tav tm="0">
                                          <p:val>
                                            <p:fltVal val="0.5"/>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157"/>
                                        </p:tgtEl>
                                        <p:attrNameLst>
                                          <p:attrName>style.visibility</p:attrName>
                                        </p:attrNameLst>
                                      </p:cBhvr>
                                      <p:to>
                                        <p:strVal val="visible"/>
                                      </p:to>
                                    </p:set>
                                    <p:anim calcmode="lin" valueType="num">
                                      <p:cBhvr additive="base">
                                        <p:cTn id="124" dur="500" fill="hold"/>
                                        <p:tgtEl>
                                          <p:spTgt spid="157"/>
                                        </p:tgtEl>
                                        <p:attrNameLst>
                                          <p:attrName>ppt_x</p:attrName>
                                        </p:attrNameLst>
                                      </p:cBhvr>
                                      <p:tavLst>
                                        <p:tav tm="0">
                                          <p:val>
                                            <p:strVal val="0-#ppt_w/2"/>
                                          </p:val>
                                        </p:tav>
                                        <p:tav tm="100000">
                                          <p:val>
                                            <p:strVal val="#ppt_x"/>
                                          </p:val>
                                        </p:tav>
                                      </p:tavLst>
                                    </p:anim>
                                    <p:anim calcmode="lin" valueType="num">
                                      <p:cBhvr additive="base">
                                        <p:cTn id="125" dur="500" fill="hold"/>
                                        <p:tgtEl>
                                          <p:spTgt spid="157"/>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15">
                                  <p:stCondLst>
                                    <p:cond delay="0"/>
                                  </p:stCondLst>
                                  <p:childTnLst>
                                    <p:set>
                                      <p:cBhvr>
                                        <p:cTn id="128" dur="1" fill="hold">
                                          <p:stCondLst>
                                            <p:cond delay="0"/>
                                          </p:stCondLst>
                                        </p:cTn>
                                        <p:tgtEl>
                                          <p:spTgt spid="156"/>
                                        </p:tgtEl>
                                        <p:attrNameLst>
                                          <p:attrName>style.visibility</p:attrName>
                                        </p:attrNameLst>
                                      </p:cBhvr>
                                      <p:to>
                                        <p:strVal val="visible"/>
                                      </p:to>
                                    </p:set>
                                    <p:anim calcmode="lin" valueType="num">
                                      <p:cBhvr additive="repl">
                                        <p:cTn id="129" dur="1000" fill="hold"/>
                                        <p:tgtEl>
                                          <p:spTgt spid="156"/>
                                        </p:tgtEl>
                                        <p:attrNameLst>
                                          <p:attrName>ppt_w</p:attrName>
                                        </p:attrNameLst>
                                      </p:cBhvr>
                                      <p:tavLst>
                                        <p:tav tm="0">
                                          <p:val>
                                            <p:fltVal val="0"/>
                                          </p:val>
                                        </p:tav>
                                        <p:tav tm="100000">
                                          <p:val>
                                            <p:strVal val="#ppt_w"/>
                                          </p:val>
                                        </p:tav>
                                      </p:tavLst>
                                    </p:anim>
                                    <p:anim calcmode="lin" valueType="num">
                                      <p:cBhvr additive="repl">
                                        <p:cTn id="130" dur="1000" fill="hold"/>
                                        <p:tgtEl>
                                          <p:spTgt spid="156"/>
                                        </p:tgtEl>
                                        <p:attrNameLst>
                                          <p:attrName>ppt_h</p:attrName>
                                        </p:attrNameLst>
                                      </p:cBhvr>
                                      <p:tavLst>
                                        <p:tav tm="0">
                                          <p:val>
                                            <p:fltVal val="0"/>
                                          </p:val>
                                        </p:tav>
                                        <p:tav tm="100000">
                                          <p:val>
                                            <p:strVal val="#ppt_h"/>
                                          </p:val>
                                        </p:tav>
                                      </p:tavLst>
                                    </p:anim>
                                    <p:anim calcmode="lin" valueType="num">
                                      <p:cBhvr additive="repl">
                                        <p:cTn id="131"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133" fill="hold">
                            <p:stCondLst>
                              <p:cond delay="2000"/>
                            </p:stCondLst>
                            <p:childTnLst>
                              <p:par>
                                <p:cTn id="134" nodeType="afterEffect" fill="hold" presetClass="entr" presetID="49">
                                  <p:stCondLst>
                                    <p:cond delay="0"/>
                                  </p:stCondLst>
                                  <p:childTnLst>
                                    <p:set>
                                      <p:cBhvr>
                                        <p:cTn id="135" dur="1" fill="hold">
                                          <p:stCondLst>
                                            <p:cond delay="0"/>
                                          </p:stCondLst>
                                        </p:cTn>
                                        <p:tgtEl>
                                          <p:spTgt spid="158"/>
                                        </p:tgtEl>
                                        <p:attrNameLst>
                                          <p:attrName>style.visibility</p:attrName>
                                        </p:attrNameLst>
                                      </p:cBhvr>
                                      <p:to>
                                        <p:strVal val="visible"/>
                                      </p:to>
                                    </p:set>
                                    <p:anim calcmode="lin" valueType="num">
                                      <p:cBhvr additive="repl">
                                        <p:cTn id="136" dur="500" fill="hold"/>
                                        <p:tgtEl>
                                          <p:spTgt spid="158"/>
                                        </p:tgtEl>
                                        <p:attrNameLst>
                                          <p:attrName>ppt_w</p:attrName>
                                        </p:attrNameLst>
                                      </p:cBhvr>
                                      <p:tavLst>
                                        <p:tav tm="0">
                                          <p:val>
                                            <p:fltVal val="0"/>
                                          </p:val>
                                        </p:tav>
                                        <p:tav tm="100000">
                                          <p:val>
                                            <p:strVal val="#ppt_w"/>
                                          </p:val>
                                        </p:tav>
                                      </p:tavLst>
                                    </p:anim>
                                    <p:anim calcmode="lin" valueType="num">
                                      <p:cBhvr additive="repl">
                                        <p:cTn id="137" dur="500" fill="hold"/>
                                        <p:tgtEl>
                                          <p:spTgt spid="158"/>
                                        </p:tgtEl>
                                        <p:attrNameLst>
                                          <p:attrName>ppt_h</p:attrName>
                                        </p:attrNameLst>
                                      </p:cBhvr>
                                      <p:tavLst>
                                        <p:tav tm="0">
                                          <p:val>
                                            <p:fltVal val="0"/>
                                          </p:val>
                                        </p:tav>
                                        <p:tav tm="100000">
                                          <p:val>
                                            <p:strVal val="#ppt_h"/>
                                          </p:val>
                                        </p:tav>
                                      </p:tavLst>
                                    </p:anim>
                                    <p:anim calcmode="lin" valueType="num">
                                      <p:cBhvr additive="repl">
                                        <p:cTn id="138" dur="500" fill="hold"/>
                                        <p:tgtEl>
                                          <p:spTgt spid="158"/>
                                        </p:tgtEl>
                                        <p:attrNameLst>
                                          <p:attrName>r</p:attrName>
                                        </p:attrNameLst>
                                      </p:cBhvr>
                                      <p:tavLst>
                                        <p:tav tm="0">
                                          <p:val>
                                            <p:strVal val="360"/>
                                          </p:val>
                                        </p:tav>
                                        <p:tav tm="100000">
                                          <p:val>
                                            <p:strVal val="0"/>
                                          </p:val>
                                        </p:tav>
                                      </p:tavLst>
                                    </p:anim>
                                    <p:animEffect filter="fade" transition="in">
                                      <p:cBhvr additive="repl">
                                        <p:cTn id="13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0"/>
            <a:ext cx="8001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La primera piedra del nuevo Hospital  se colocó el viernes 19 de Noviembre de 1880  y se  concluyó  su construcción, inaugurándose,  el  8  de  Febrero  de  1886  con  el  nombre de “Reina Mercedes” en honor a la esposa del rey español Alfonso XII.</a:t>
            </a:r>
            <a:r>
              <a:rPr b="1" lang="es-MX"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61" name=""/>
          <p:cNvSpPr/>
          <p:nvPr/>
        </p:nvSpPr>
        <p:spPr>
          <a:xfrm>
            <a:off x="4114800" y="4038480"/>
            <a:ext cx="5029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F</a:t>
            </a:r>
            <a:r>
              <a:rPr b="1" i="1" lang="en-US" sz="2400" spc="-1" strike="noStrike">
                <a:solidFill>
                  <a:srgbClr val="ffffff"/>
                </a:solidFill>
                <a:latin typeface="Times New Roman"/>
              </a:rPr>
              <a:t>iguras insignes dejaron en él sus huellas y fue</a:t>
            </a:r>
            <a:r>
              <a:rPr b="1" i="1" lang="es-ES" sz="2400" spc="-1" strike="noStrike">
                <a:solidFill>
                  <a:srgbClr val="ffffff"/>
                </a:solidFill>
                <a:latin typeface="Times New Roman"/>
              </a:rPr>
              <a:t> su Director un grande de la Medicina Cubana, el Dr. Emiliano Núñez, quién en 1895, guardó prisión por tres años en la Isla de Fernando Poo a causa de sus ideales separatistas.</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826920" y="2133720"/>
            <a:ext cx="2592720" cy="3887640"/>
          </a:xfrm>
          <a:prstGeom prst="rect">
            <a:avLst/>
          </a:prstGeom>
          <a:ln w="0">
            <a:noFill/>
          </a:ln>
        </p:spPr>
      </p:pic>
      <p:pic>
        <p:nvPicPr>
          <p:cNvPr id="163" name="" descr=""/>
          <p:cNvPicPr/>
          <p:nvPr/>
        </p:nvPicPr>
        <p:blipFill>
          <a:blip r:embed="rId2"/>
          <a:stretch/>
        </p:blipFill>
        <p:spPr>
          <a:xfrm>
            <a:off x="4427640" y="1989000"/>
            <a:ext cx="4176720" cy="187164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4" presetSubtype="16">
                                  <p:stCondLst>
                                    <p:cond delay="0"/>
                                  </p:stCondLst>
                                  <p:childTnLst>
                                    <p:set>
                                      <p:cBhvr>
                                        <p:cTn id="145" dur="1" fill="hold">
                                          <p:stCondLst>
                                            <p:cond delay="0"/>
                                          </p:stCondLst>
                                        </p:cTn>
                                        <p:tgtEl>
                                          <p:spTgt spid="160"/>
                                        </p:tgtEl>
                                        <p:attrNameLst>
                                          <p:attrName>style.visibility</p:attrName>
                                        </p:attrNameLst>
                                      </p:cBhvr>
                                      <p:to>
                                        <p:strVal val="visible"/>
                                      </p:to>
                                    </p:set>
                                    <p:animEffect filter="box(in)" transition="in">
                                      <p:cBhvr additive="repl">
                                        <p:cTn id="146" dur="500"/>
                                        <p:tgtEl>
                                          <p:spTgt spid="160"/>
                                        </p:tgtEl>
                                      </p:cBhvr>
                                    </p:animEffect>
                                  </p:childTnLst>
                                </p:cTn>
                              </p:par>
                            </p:childTnLst>
                          </p:cTn>
                        </p:par>
                        <p:par>
                          <p:cTn id="147" fill="hold">
                            <p:stCondLst>
                              <p:cond delay="500"/>
                            </p:stCondLst>
                            <p:childTnLst>
                              <p:par>
                                <p:cTn id="148" nodeType="afterEffect" fill="hold" presetClass="entr" presetID="2" presetSubtype="12">
                                  <p:stCondLst>
                                    <p:cond delay="0"/>
                                  </p:stCondLst>
                                  <p:childTnLst>
                                    <p:set>
                                      <p:cBhvr>
                                        <p:cTn id="149" dur="1" fill="hold">
                                          <p:stCondLst>
                                            <p:cond delay="0"/>
                                          </p:stCondLst>
                                        </p:cTn>
                                        <p:tgtEl>
                                          <p:spTgt spid="161"/>
                                        </p:tgtEl>
                                        <p:attrNameLst>
                                          <p:attrName>style.visibility</p:attrName>
                                        </p:attrNameLst>
                                      </p:cBhvr>
                                      <p:to>
                                        <p:strVal val="visible"/>
                                      </p:to>
                                    </p:set>
                                    <p:anim calcmode="lin" valueType="num">
                                      <p:cBhvr additive="base">
                                        <p:cTn id="150" dur="500" fill="hold"/>
                                        <p:tgtEl>
                                          <p:spTgt spid="161"/>
                                        </p:tgtEl>
                                        <p:attrNameLst>
                                          <p:attrName>ppt_x</p:attrName>
                                        </p:attrNameLst>
                                      </p:cBhvr>
                                      <p:tavLst>
                                        <p:tav tm="0">
                                          <p:val>
                                            <p:strVal val="0-#ppt_w/2"/>
                                          </p:val>
                                        </p:tav>
                                        <p:tav tm="100000">
                                          <p:val>
                                            <p:strVal val="#ppt_x"/>
                                          </p:val>
                                        </p:tav>
                                      </p:tavLst>
                                    </p:anim>
                                    <p:anim calcmode="lin" valueType="num">
                                      <p:cBhvr additive="base">
                                        <p:cTn id="151" dur="500" fill="hold"/>
                                        <p:tgtEl>
                                          <p:spTgt spid="161"/>
                                        </p:tgtEl>
                                        <p:attrNameLst>
                                          <p:attrName>ppt_y</p:attrName>
                                        </p:attrNameLst>
                                      </p:cBhvr>
                                      <p:tavLst>
                                        <p:tav tm="0">
                                          <p:val>
                                            <p:strVal val="1+#ppt_h/2"/>
                                          </p:val>
                                        </p:tav>
                                        <p:tav tm="100000">
                                          <p:val>
                                            <p:strVal val="#ppt_y"/>
                                          </p:val>
                                        </p:tav>
                                      </p:tavLst>
                                    </p:anim>
                                  </p:childTnLst>
                                </p:cTn>
                              </p:par>
                            </p:childTnLst>
                          </p:cTn>
                        </p:par>
                        <p:par>
                          <p:cTn id="152" fill="hold">
                            <p:stCondLst>
                              <p:cond delay="1000"/>
                            </p:stCondLst>
                            <p:childTnLst>
                              <p:par>
                                <p:cTn id="153" nodeType="afterEffect" fill="hold" presetClass="entr" presetID="37">
                                  <p:stCondLst>
                                    <p:cond delay="0"/>
                                  </p:stCondLst>
                                  <p:childTnLst>
                                    <p:set>
                                      <p:cBhvr>
                                        <p:cTn id="154" dur="1" fill="hold">
                                          <p:stCondLst>
                                            <p:cond delay="0"/>
                                          </p:stCondLst>
                                        </p:cTn>
                                        <p:tgtEl>
                                          <p:spTgt spid="162"/>
                                        </p:tgtEl>
                                        <p:attrNameLst>
                                          <p:attrName>style.visibility</p:attrName>
                                        </p:attrNameLst>
                                      </p:cBhvr>
                                      <p:to>
                                        <p:strVal val="visible"/>
                                      </p:to>
                                    </p:set>
                                    <p:animEffect filter="fade" transition="in">
                                      <p:cBhvr additive="repl">
                                        <p:cTn id="155" dur="500"/>
                                        <p:tgtEl>
                                          <p:spTgt spid="162"/>
                                        </p:tgtEl>
                                      </p:cBhvr>
                                    </p:animEffect>
                                    <p:anim calcmode="lin" valueType="num">
                                      <p:cBhvr additive="repl">
                                        <p:cTn id="156" dur="500" fill="hold"/>
                                        <p:tgtEl>
                                          <p:spTgt spid="162"/>
                                        </p:tgtEl>
                                        <p:attrNameLst>
                                          <p:attrName>ppt_x</p:attrName>
                                        </p:attrNameLst>
                                      </p:cBhvr>
                                      <p:tavLst>
                                        <p:tav tm="0">
                                          <p:val>
                                            <p:strVal val="#ppt_x"/>
                                          </p:val>
                                        </p:tav>
                                        <p:tav tm="100000">
                                          <p:val>
                                            <p:strVal val="#ppt_x"/>
                                          </p:val>
                                        </p:tav>
                                      </p:tavLst>
                                    </p:anim>
                                    <p:anim calcmode="lin" valueType="num">
                                      <p:cBhvr additive="repl">
                                        <p:cTn id="157" dur="450" fill="hold"/>
                                        <p:tgtEl>
                                          <p:spTgt spid="162"/>
                                        </p:tgtEl>
                                        <p:attrNameLst>
                                          <p:attrName>ppt_y</p:attrName>
                                        </p:attrNameLst>
                                      </p:cBhvr>
                                      <p:tavLst>
                                        <p:tav tm="0">
                                          <p:val>
                                            <p:strVal val="#ppt_y+1"/>
                                          </p:val>
                                        </p:tav>
                                        <p:tav tm="100000">
                                          <p:val>
                                            <p:strVal val="#ppt_y-.03"/>
                                          </p:val>
                                        </p:tav>
                                      </p:tavLst>
                                    </p:anim>
                                    <p:anim calcmode="lin" valueType="num">
                                      <p:cBhvr additive="repl">
                                        <p:cTn id="158" dur="50" fill="hold">
                                          <p:stCondLst>
                                            <p:cond delay="450"/>
                                          </p:stCondLst>
                                        </p:cTn>
                                        <p:tgtEl>
                                          <p:spTgt spid="162"/>
                                        </p:tgtEl>
                                        <p:attrNameLst>
                                          <p:attrName>ppt_y</p:attrName>
                                        </p:attrNameLst>
                                      </p:cBhvr>
                                      <p:tavLst>
                                        <p:tav tm="0">
                                          <p:val>
                                            <p:strVal val="#ppt_y-.03"/>
                                          </p:val>
                                        </p:tav>
                                        <p:tav tm="100000">
                                          <p:val>
                                            <p:strVal val="#ppt_y"/>
                                          </p:val>
                                        </p:tav>
                                      </p:tavLst>
                                    </p:anim>
                                  </p:childTnLst>
                                </p:cTn>
                              </p:par>
                            </p:childTnLst>
                          </p:cTn>
                        </p:par>
                        <p:par>
                          <p:cTn id="159" fill="hold">
                            <p:stCondLst>
                              <p:cond delay="1500"/>
                            </p:stCondLst>
                            <p:childTnLst>
                              <p:par>
                                <p:cTn id="160" nodeType="afterEffect" fill="hold" presetClass="entr" presetID="37">
                                  <p:stCondLst>
                                    <p:cond delay="0"/>
                                  </p:stCondLst>
                                  <p:childTnLst>
                                    <p:set>
                                      <p:cBhvr>
                                        <p:cTn id="161" dur="1" fill="hold">
                                          <p:stCondLst>
                                            <p:cond delay="0"/>
                                          </p:stCondLst>
                                        </p:cTn>
                                        <p:tgtEl>
                                          <p:spTgt spid="163"/>
                                        </p:tgtEl>
                                        <p:attrNameLst>
                                          <p:attrName>style.visibility</p:attrName>
                                        </p:attrNameLst>
                                      </p:cBhvr>
                                      <p:to>
                                        <p:strVal val="visible"/>
                                      </p:to>
                                    </p:set>
                                    <p:animEffect filter="fade" transition="in">
                                      <p:cBhvr additive="repl">
                                        <p:cTn id="162" dur="500"/>
                                        <p:tgtEl>
                                          <p:spTgt spid="163"/>
                                        </p:tgtEl>
                                      </p:cBhvr>
                                    </p:animEffect>
                                    <p:anim calcmode="lin" valueType="num">
                                      <p:cBhvr additive="repl">
                                        <p:cTn id="163" dur="500" fill="hold"/>
                                        <p:tgtEl>
                                          <p:spTgt spid="163"/>
                                        </p:tgtEl>
                                        <p:attrNameLst>
                                          <p:attrName>ppt_x</p:attrName>
                                        </p:attrNameLst>
                                      </p:cBhvr>
                                      <p:tavLst>
                                        <p:tav tm="0">
                                          <p:val>
                                            <p:strVal val="#ppt_x"/>
                                          </p:val>
                                        </p:tav>
                                        <p:tav tm="100000">
                                          <p:val>
                                            <p:strVal val="#ppt_x"/>
                                          </p:val>
                                        </p:tav>
                                      </p:tavLst>
                                    </p:anim>
                                    <p:anim calcmode="lin" valueType="num">
                                      <p:cBhvr additive="repl">
                                        <p:cTn id="164" dur="450" fill="hold"/>
                                        <p:tgtEl>
                                          <p:spTgt spid="163"/>
                                        </p:tgtEl>
                                        <p:attrNameLst>
                                          <p:attrName>ppt_y</p:attrName>
                                        </p:attrNameLst>
                                      </p:cBhvr>
                                      <p:tavLst>
                                        <p:tav tm="0">
                                          <p:val>
                                            <p:strVal val="#ppt_y+1"/>
                                          </p:val>
                                        </p:tav>
                                        <p:tav tm="100000">
                                          <p:val>
                                            <p:strVal val="#ppt_y-.03"/>
                                          </p:val>
                                        </p:tav>
                                      </p:tavLst>
                                    </p:anim>
                                    <p:anim calcmode="lin" valueType="num">
                                      <p:cBhvr additive="repl">
                                        <p:cTn id="165" dur="50" fill="hold">
                                          <p:stCondLst>
                                            <p:cond delay="45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
          <p:cNvSpPr/>
          <p:nvPr/>
        </p:nvSpPr>
        <p:spPr>
          <a:xfrm>
            <a:off x="990720" y="106668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429000" y="0"/>
            <a:ext cx="52243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rPr>
              <a:t>Al cesar la dominación española, el Hospital "Reina Mercedes" cambió </a:t>
            </a:r>
            <a:r>
              <a:rPr b="1" i="1" lang="en-US" sz="2800" spc="-1" strike="noStrike">
                <a:solidFill>
                  <a:srgbClr val="ffffff"/>
                </a:solidFill>
                <a:latin typeface="Times New Roman"/>
              </a:rPr>
              <a:t>nuevamente </a:t>
            </a:r>
            <a:r>
              <a:rPr b="1" i="1" lang="es-ES" sz="2800" spc="-1" strike="noStrike">
                <a:solidFill>
                  <a:srgbClr val="ffffff"/>
                </a:solidFill>
                <a:latin typeface="Times New Roman"/>
              </a:rPr>
              <a:t>su nombre</a:t>
            </a:r>
            <a:r>
              <a:rPr b="1" i="1" lang="en-US" sz="2800" spc="-1" strike="noStrike">
                <a:solidFill>
                  <a:srgbClr val="ffffff"/>
                </a:solidFill>
                <a:latin typeface="Times New Roman"/>
              </a:rPr>
              <a:t>,  esta vez</a:t>
            </a:r>
            <a:r>
              <a:rPr b="1" i="1" lang="es-ES" sz="2800" spc="-1" strike="noStrike">
                <a:solidFill>
                  <a:srgbClr val="ffffff"/>
                </a:solidFill>
                <a:latin typeface="Times New Roman"/>
              </a:rPr>
              <a:t> por el de "Nuestra Señora de las Mercedes" y</a:t>
            </a:r>
            <a:r>
              <a:rPr b="1" i="1" lang="en-US" sz="2800" spc="-1" strike="noStrike">
                <a:solidFill>
                  <a:srgbClr val="ffffff"/>
                </a:solidFill>
                <a:latin typeface="Times New Roman"/>
              </a:rPr>
              <a:t> comenzó a ser </a:t>
            </a:r>
            <a:r>
              <a:rPr b="1" i="1" lang="es-ES" sz="2800" spc="-1" strike="noStrike">
                <a:solidFill>
                  <a:srgbClr val="ffffff"/>
                </a:solidFill>
                <a:latin typeface="Times New Roman"/>
              </a:rPr>
              <a:t> dirigido por un Patrona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6" name="" descr=""/>
          <p:cNvPicPr/>
          <p:nvPr/>
        </p:nvPicPr>
        <p:blipFill>
          <a:blip r:embed="rId1"/>
          <a:stretch/>
        </p:blipFill>
        <p:spPr>
          <a:xfrm>
            <a:off x="533520" y="228600"/>
            <a:ext cx="2438280" cy="1828800"/>
          </a:xfrm>
          <a:prstGeom prst="rect">
            <a:avLst/>
          </a:prstGeom>
          <a:ln w="0">
            <a:noFill/>
          </a:ln>
        </p:spPr>
      </p:pic>
      <p:sp>
        <p:nvSpPr>
          <p:cNvPr id="167" name=""/>
          <p:cNvSpPr/>
          <p:nvPr/>
        </p:nvSpPr>
        <p:spPr>
          <a:xfrm>
            <a:off x="0" y="2801880"/>
            <a:ext cx="4419720" cy="415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rPr>
              <a:t>Era un Centro público, de carácter religioso</a:t>
            </a:r>
            <a:r>
              <a:rPr b="1" i="1" lang="en-US" sz="2800" spc="-1" strike="noStrike">
                <a:solidFill>
                  <a:srgbClr val="ffffff"/>
                </a:solidFill>
                <a:latin typeface="Times New Roman"/>
              </a:rPr>
              <a:t> cuyas plazas se ganaban por oposición y</a:t>
            </a:r>
            <a:r>
              <a:rPr b="1" i="1" lang="es-ES" sz="2800" spc="-1" strike="noStrike">
                <a:solidFill>
                  <a:srgbClr val="ffffff"/>
                </a:solidFill>
                <a:latin typeface="Times New Roman"/>
              </a:rPr>
              <a:t> que, junto al Hospital "Calixto García", constituían los únicos Hospitales Universitarios del país</a:t>
            </a:r>
            <a:r>
              <a:rPr b="1" i="1" lang="en-US" sz="2800" spc="-1" strike="noStrike">
                <a:solidFill>
                  <a:srgbClr val="ffffff"/>
                </a:solidFill>
                <a:latin typeface="Times New Roman"/>
              </a:rPr>
              <a:t> en aquel entonces</a:t>
            </a:r>
            <a:r>
              <a:rPr b="1" i="1" lang="es-E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 descr=""/>
          <p:cNvPicPr/>
          <p:nvPr/>
        </p:nvPicPr>
        <p:blipFill>
          <a:blip r:embed="rId2"/>
          <a:stretch/>
        </p:blipFill>
        <p:spPr>
          <a:xfrm>
            <a:off x="4643280" y="3357720"/>
            <a:ext cx="3673800" cy="2592360"/>
          </a:xfrm>
          <a:prstGeom prst="rect">
            <a:avLst/>
          </a:prstGeom>
          <a:ln w="0">
            <a:noFill/>
          </a:ln>
        </p:spPr>
      </p:pic>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1">
                                  <p:stCondLst>
                                    <p:cond delay="0"/>
                                  </p:stCondLst>
                                  <p:childTnLst>
                                    <p:set>
                                      <p:cBhvr>
                                        <p:cTn id="171" dur="1" fill="hold">
                                          <p:stCondLst>
                                            <p:cond delay="0"/>
                                          </p:stCondLst>
                                        </p:cTn>
                                        <p:tgtEl>
                                          <p:spTgt spid="166"/>
                                        </p:tgtEl>
                                        <p:attrNameLst>
                                          <p:attrName>style.visibility</p:attrName>
                                        </p:attrNameLst>
                                      </p:cBhvr>
                                      <p:to>
                                        <p:strVal val="visible"/>
                                      </p:to>
                                    </p:set>
                                    <p:animEffect filter="wipe(up)" transition="in">
                                      <p:cBhvr additive="repl">
                                        <p:cTn id="172" dur="500"/>
                                        <p:tgtEl>
                                          <p:spTgt spid="166"/>
                                        </p:tgtEl>
                                      </p:cBhvr>
                                    </p:animEffect>
                                  </p:childTnLst>
                                </p:cTn>
                              </p:par>
                            </p:childTnLst>
                          </p:cTn>
                        </p:par>
                        <p:par>
                          <p:cTn id="173" fill="hold">
                            <p:stCondLst>
                              <p:cond delay="500"/>
                            </p:stCondLst>
                            <p:childTnLst>
                              <p:par>
                                <p:cTn id="174" nodeType="afterEffect" fill="hold" presetClass="entr" presetID="23" presetSubtype="528">
                                  <p:stCondLst>
                                    <p:cond delay="0"/>
                                  </p:stCondLst>
                                  <p:childTnLst>
                                    <p:set>
                                      <p:cBhvr>
                                        <p:cTn id="175" dur="1" fill="hold">
                                          <p:stCondLst>
                                            <p:cond delay="0"/>
                                          </p:stCondLst>
                                        </p:cTn>
                                        <p:tgtEl>
                                          <p:spTgt spid="165"/>
                                        </p:tgtEl>
                                        <p:attrNameLst>
                                          <p:attrName>style.visibility</p:attrName>
                                        </p:attrNameLst>
                                      </p:cBhvr>
                                      <p:to>
                                        <p:strVal val="visible"/>
                                      </p:to>
                                    </p:set>
                                    <p:anim calcmode="lin" valueType="num">
                                      <p:cBhvr additive="repl">
                                        <p:cTn id="176" dur="500" fill="hold"/>
                                        <p:tgtEl>
                                          <p:spTgt spid="165"/>
                                        </p:tgtEl>
                                        <p:attrNameLst>
                                          <p:attrName>ppt_w</p:attrName>
                                        </p:attrNameLst>
                                      </p:cBhvr>
                                      <p:tavLst>
                                        <p:tav tm="0">
                                          <p:val>
                                            <p:fltVal val="0"/>
                                          </p:val>
                                        </p:tav>
                                        <p:tav tm="100000">
                                          <p:val>
                                            <p:strVal val="#ppt_w"/>
                                          </p:val>
                                        </p:tav>
                                      </p:tavLst>
                                    </p:anim>
                                    <p:anim calcmode="lin" valueType="num">
                                      <p:cBhvr additive="repl">
                                        <p:cTn id="177" dur="500" fill="hold"/>
                                        <p:tgtEl>
                                          <p:spTgt spid="165"/>
                                        </p:tgtEl>
                                        <p:attrNameLst>
                                          <p:attrName>ppt_h</p:attrName>
                                        </p:attrNameLst>
                                      </p:cBhvr>
                                      <p:tavLst>
                                        <p:tav tm="0">
                                          <p:val>
                                            <p:fltVal val="0"/>
                                          </p:val>
                                        </p:tav>
                                        <p:tav tm="100000">
                                          <p:val>
                                            <p:strVal val="#ppt_h"/>
                                          </p:val>
                                        </p:tav>
                                      </p:tavLst>
                                    </p:anim>
                                    <p:anim calcmode="lin" valueType="num">
                                      <p:cBhvr additive="repl">
                                        <p:cTn id="178" dur="500" fill="hold"/>
                                        <p:tgtEl>
                                          <p:spTgt spid="165"/>
                                        </p:tgtEl>
                                        <p:attrNameLst>
                                          <p:attrName>ppt_x</p:attrName>
                                        </p:attrNameLst>
                                      </p:cBhvr>
                                      <p:tavLst>
                                        <p:tav tm="0">
                                          <p:val>
                                            <p:fltVal val="0.5"/>
                                          </p:val>
                                        </p:tav>
                                        <p:tav tm="100000">
                                          <p:val>
                                            <p:strVal val="#ppt_x"/>
                                          </p:val>
                                        </p:tav>
                                      </p:tavLst>
                                    </p:anim>
                                    <p:anim calcmode="lin" valueType="num">
                                      <p:cBhvr additive="repl">
                                        <p:cTn id="179" dur="500" fill="hold"/>
                                        <p:tgtEl>
                                          <p:spTgt spid="165"/>
                                        </p:tgtEl>
                                        <p:attrNameLst>
                                          <p:attrName>ppt_y</p:attrName>
                                        </p:attrNameLst>
                                      </p:cBhvr>
                                      <p:tavLst>
                                        <p:tav tm="0">
                                          <p:val>
                                            <p:fltVal val="0.5"/>
                                          </p:val>
                                        </p:tav>
                                        <p:tav tm="100000">
                                          <p:val>
                                            <p:strVal val="#ppt_y"/>
                                          </p:val>
                                        </p:tav>
                                      </p:tavLst>
                                    </p:anim>
                                  </p:childTnLst>
                                </p:cTn>
                              </p:par>
                            </p:childTnLst>
                          </p:cTn>
                        </p:par>
                        <p:par>
                          <p:cTn id="180" fill="hold">
                            <p:stCondLst>
                              <p:cond delay="1000"/>
                            </p:stCondLst>
                            <p:childTnLst>
                              <p:par>
                                <p:cTn id="181" nodeType="afterEffect" fill="hold" presetClass="entr" presetID="2" presetSubtype="4">
                                  <p:stCondLst>
                                    <p:cond delay="0"/>
                                  </p:stCondLst>
                                  <p:childTnLst>
                                    <p:set>
                                      <p:cBhvr>
                                        <p:cTn id="182" dur="1" fill="hold">
                                          <p:stCondLst>
                                            <p:cond delay="0"/>
                                          </p:stCondLst>
                                        </p:cTn>
                                        <p:tgtEl>
                                          <p:spTgt spid="168"/>
                                        </p:tgtEl>
                                        <p:attrNameLst>
                                          <p:attrName>style.visibility</p:attrName>
                                        </p:attrNameLst>
                                      </p:cBhvr>
                                      <p:to>
                                        <p:strVal val="visible"/>
                                      </p:to>
                                    </p:set>
                                    <p:anim calcmode="lin" valueType="num">
                                      <p:cBhvr additive="base">
                                        <p:cTn id="183" dur="500" fill="hold"/>
                                        <p:tgtEl>
                                          <p:spTgt spid="168"/>
                                        </p:tgtEl>
                                        <p:attrNameLst>
                                          <p:attrName>ppt_x</p:attrName>
                                        </p:attrNameLst>
                                      </p:cBhvr>
                                      <p:tavLst>
                                        <p:tav tm="0">
                                          <p:val>
                                            <p:strVal val="#ppt_x"/>
                                          </p:val>
                                        </p:tav>
                                        <p:tav tm="100000">
                                          <p:val>
                                            <p:strVal val="#ppt_x"/>
                                          </p:val>
                                        </p:tav>
                                      </p:tavLst>
                                    </p:anim>
                                    <p:anim calcmode="lin" valueType="num">
                                      <p:cBhvr additive="base">
                                        <p:cTn id="18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5T21:19:18Z</dcterms:created>
  <dc:creator>Dr. Carlos A. Romero</dc:creator>
  <dc:description/>
  <dc:language>en-US</dc:language>
  <cp:lastModifiedBy>Sierra®</cp:lastModifiedBy>
  <dcterms:modified xsi:type="dcterms:W3CDTF">2005-07-26T16:40:41Z</dcterms:modified>
  <cp:revision>255</cp:revision>
  <dc:subject/>
  <dc:title>Historia</dc:title>
</cp:coreProperties>
</file>