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F04CC-79AC-4728-8CF4-B3A3AFF2E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6930-3AB4-415C-AA90-413C31D7C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A7A8D-F1D3-42D8-8A5F-82926B1FE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3B88F-65A8-48DE-A6C5-542F9418F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D924E-F145-41AB-A14B-6FA0218BC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FBBB2-C4DD-486A-A0E3-86E781680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16240-9E03-4C91-AE4A-515C4587A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391D0-8E56-4699-AB34-263F9EE0C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7974D-DA86-4A2B-A38F-2873DDEA7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3AB45-05C8-48A0-8686-DF3B1F426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1E11B-CCF9-4B0C-82F5-0A03DB006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4903-8FF0-43CE-96D2-EE84C4FF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CE78D-E086-4F70-A27B-BB26E9550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4126B-B449-40C1-AD1F-689CADDA7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C9125-E53A-4139-B2C8-C15D2AD8C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41CF2-DC83-4793-BC0A-4065FC897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0B247-BD73-4E33-A708-F0EB14DD5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26190-DA91-4B1E-A3DF-6FA06F2AA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73C40-EF6B-4262-B5D0-54682DFEA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7E04C-FBBF-4CA6-B927-266F5CB6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759C1-6DA2-42DF-8790-589C8856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391E-F0B2-465B-8EF2-F0794DD1A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DF89-2852-4D6C-8ABE-FF2E866F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77B0-59FB-4621-9037-656A38170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BD8C-914D-43D5-869F-E29C7EECA9A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2B65-A958-4326-98F5-3165C11E1EA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Rehabilitación neurológica</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395280" y="3962520"/>
            <a:ext cx="835344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Pedro Orlando Mena Quiñone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pecialista de 2do grado en Medicina Física y Rehabilitación.</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NR Julio Día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 requieren medios auxiliares de apoy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lmohadas,  sacos de arena, rodillos de telas, frazadas, colchas, férulas plásticas o de alumin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tilizaremos como ejemplo el tratamiento postural de una persona con tetraplejí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i el paciente presenta una hemiplejía no debe apoyar sobre la parte paralizada, los decúbitos a adoptar serán supino, prono y lateral sobre el lado s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 </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expondrán las posiciones básicas tomando como ejemplo una persona con tetraplejía a Nivel C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br>
              <a:rPr sz="4400"/>
            </a:b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piernas se colocan en posición neutra ,las plantas de los pies se apoyaran en una almohada para evitar el equino (como alternativa se colocaran correctores de equin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s caderas y las rodillas se mantendrán extendidas y para evitar la rotación externa de la cadera se debe colocara una almohadilla  o toalla enrollada debajo del trocánter (almohadilla trocantérica)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br>
              <a:rPr sz="4400"/>
            </a:b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xtremidades superiores se colocaran en variadas posiciones para evitar contracturas articulares. Atención  particular se le debe dar al hombro que debe adoptar abducción 1-2 horas, 3 veces al dí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7"/>
                </a:solidFill>
                <a:latin typeface="Arial Black"/>
              </a:rPr>
              <a:t>Decúbito Supino</a:t>
            </a:r>
            <a:br>
              <a:rPr sz="4000"/>
            </a:br>
            <a:r>
              <a:rPr b="1" lang="en-US" sz="4000" spc="-1" strike="noStrike">
                <a:solidFill>
                  <a:srgbClr val="ffffb7"/>
                </a:solidFill>
                <a:latin typeface="Arial Black"/>
              </a:rPr>
              <a:t> Existen tres posiciones básicas del hombro</a:t>
            </a:r>
            <a:endParaRPr b="1" lang="en-US" sz="40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bducción a 90 grados del hombro, con ligera rotación interna de brazo, codo flexionado a 90 grados y antebrazo con pronación parcial </a:t>
            </a: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bducción de 90 grados de hombro, rotación externa de brazo, codo flexionado a 90 grados y pronación de antebrazo</a:t>
            </a:r>
            <a:endParaRPr b="0" lang="en-US" sz="2800" spc="-1" strike="noStrike">
              <a:solidFill>
                <a:srgbClr val="ffffff"/>
              </a:solidFill>
              <a:latin typeface="Arial"/>
            </a:endParaRPr>
          </a:p>
          <a:p>
            <a:pPr marL="339480" indent="-3394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ligera abducción de hombro, extensión de codo y supinación de antebraz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 el fin de lograr un efecto de tenodesis en la mano de  individuos con tetraplejía  que  realizan dorsiflexión activa de muñeca, se colocara una férula  estática en dorsiflexión de muñeca  y ligera flexión de las articulaciones metacarpo- falángicas  e interfalángicas con oposición del pulga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mo  alternativa se puede colocar un paño enrollado en la palma de la mano para mantener la posición anteriormente descrita de la misma.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Supino</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personas con hemiplejía pueden recibir similar cuidado en la posición de la mano</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o alternativa se puede utilizar una segunda posición y colocar una férula con dorsiflexión de muñeca, los dedos estarán extendidos en las articulaciones metacarpo-falángicas e inter-falángicas , y el pulgar se coloca en oposició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lateral:</a:t>
            </a:r>
            <a:br>
              <a:rPr sz="4400"/>
            </a:b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brazo que esta debajo se colocará  en rotación externa y separado del tórax, la pierna que esta en posición superior  se flexionará en cadera y rodilla, se colocará una almohada debajo de la rodilla y del tobillo para evitar el contacto con la pierna de abajo, y  la compresión de los testíc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prono:</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etapa aguda de las lesiones medulares cervicales se debe evitar por la bradicardia que ocasiona  y el peligro de paro cardiaco (al existir un predominio vagal ) , tambien debido a la disnea   producto de la  fatiga del diafragma.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periodos posteriores esta posición resulta útil para mantener la extensión de caderas y corregir contracturas en flexión, así como posterior a la operación de úlceras  por  presión en regiones sacras e isquiátic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Es un área  importante  dentro del campo de la medicina física y rehabilit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ecúbito prono:</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caderas y las rodillas se mantendrán extendid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artejos no deben tocar la pielera de la cama</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ies pueden elevarse ligeramente con un pequeño rollo hecho con una toallita, colocado debajo de la parte anterior del tobillo</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razo se abduce ligeramente, se extiende el codo, el antebrazo se supina y se extiende la muñeca, se coloca una almohadilla o toalla doblada debajo de cada hombro para evitar la anteropuls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grado de independencia en el funcionamiento de las actividades de la vida diaria </a:t>
            </a:r>
            <a:r>
              <a:rPr b="0" lang="en-US" sz="2400" spc="-1" strike="noStrike">
                <a:solidFill>
                  <a:srgbClr val="ffffff"/>
                </a:solidFill>
                <a:latin typeface="Arial"/>
              </a:rPr>
              <a:t>(AVD)</a:t>
            </a:r>
            <a:r>
              <a:rPr b="0" lang="es-MX" sz="2400" spc="-1" strike="noStrike">
                <a:solidFill>
                  <a:srgbClr val="ffffff"/>
                </a:solidFill>
                <a:latin typeface="Arial"/>
              </a:rPr>
              <a:t> que debe desarrollar la persona discapacitada depende de las capacidades físicas, y cognoscitivas  remanentes, de su voluntad y de la experiencia del equipo de rehabilitación.</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ta independencia funcional en las AVD le permite al individuo realizar su vida  e integrarse al la socieda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 por lo tanto un indicador del grado de rehabilitación médica alcanza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 importante  evaluar la Independencia funcional </a:t>
            </a:r>
            <a:r>
              <a:rPr b="0" lang="es-ES" sz="3200" spc="-1" strike="noStrike">
                <a:solidFill>
                  <a:srgbClr val="ffffff"/>
                </a:solidFill>
                <a:latin typeface="Arial"/>
              </a:rPr>
              <a:t> en las AVD, y para esto existen distintos instrumentos de evaluación como el indice de Barthel y el FIM </a:t>
            </a:r>
            <a:r>
              <a:rPr b="0" lang="en-US" sz="3200" spc="-1" strike="noStrike">
                <a:solidFill>
                  <a:srgbClr val="ffffff"/>
                </a:solidFill>
                <a:latin typeface="Arial"/>
              </a:rPr>
              <a:t>( functional Independence measurement)</a:t>
            </a:r>
            <a:r>
              <a:rPr b="0" lang="es-ES" sz="3200" spc="-1" strike="noStrike">
                <a:solidFill>
                  <a:srgbClr val="ffffff"/>
                </a:solidFill>
                <a:latin typeface="Arial"/>
              </a:rPr>
              <a:t> por citar dos escalas mundialmente conocid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unque las AVD son todas aquellas actividades que realizamos habitualmente en nuestra vida, estas se pueden clasificar e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ividades en la cama</a:t>
            </a:r>
            <a:r>
              <a:rPr b="0" lang="en-US" sz="2800" spc="-1" strike="noStrike">
                <a:solidFill>
                  <a:srgbClr val="ffffff"/>
                </a:solidFill>
                <a:latin typeface="Arial"/>
              </a:rPr>
              <a:t>: cambios de posici</a:t>
            </a:r>
            <a:r>
              <a:rPr b="0" lang="es-ES" sz="2800" spc="-1" strike="noStrike">
                <a:solidFill>
                  <a:srgbClr val="ffffff"/>
                </a:solidFill>
                <a:latin typeface="Arial"/>
              </a:rPr>
              <a:t>ó</a:t>
            </a:r>
            <a:r>
              <a:rPr b="0" lang="en-US" sz="2800" spc="-1" strike="noStrike">
                <a:solidFill>
                  <a:srgbClr val="ffffff"/>
                </a:solidFill>
                <a:latin typeface="Arial"/>
              </a:rPr>
              <a:t>n , sentarse, elevar el troco sobre la cam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iene:</a:t>
            </a:r>
            <a:r>
              <a:rPr b="0" lang="es-ES" sz="2800" spc="-1" strike="noStrike">
                <a:solidFill>
                  <a:srgbClr val="ffffff"/>
                </a:solidFill>
                <a:latin typeface="Arial"/>
              </a:rPr>
              <a:t> lavarse la cara y las manos, cepillarse los dientes, uso del pañuelo,peinars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vejiga e intestin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tirs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enci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dades en el sill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ul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individuo  no puede realizar una o mas de las AVD se impone un entrenamiento especial que se realiza habitualmente en el departamento de terapia ocupacional</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poder realizar este entrenamiento es necesario desarrollar la fuerza muscular, la resistencia y la coordinación de los grupos musculares involucrados en las distintas AV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pueden ser necesarios aditamentos especiales para compensar funciones perdida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 de estos utensilios o ayudas son las guantillas que permiten el agarre de cepillos de dientes, lápices o cubiertos de mesa con lo que se facilita la realización de tareas tan importantes como la higiene bucal, la escritura y la alimentación</a:t>
            </a:r>
            <a:r>
              <a:rPr b="0" lang="en-US" sz="2800" spc="-1" strike="noStrike">
                <a:solidFill>
                  <a:srgbClr val="ffffff"/>
                </a:solidFill>
                <a:latin typeface="Arial"/>
              </a:rPr>
              <a:t> </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 </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grar la transferencia entre la cama y el sillón de ruedas para aquellas personas que no pueden caminar, resulta un eslabón importante para el autovalidism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tipos fundamentales de transferencia sillón- cama s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lateral con tabla deslizan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antero posteri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ransferencia  lateral sin tabla desliza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lateral con tabla deslizant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entrenan en este tipo de transferencia aquellos individuos con pobre equilibrio de tronco y miembros superiores débiles ejemplo paraplejías altas o tetraplejías C6/C8</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debe estar  a la  misma altu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antero posterio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alizan aquello pacientes con mejor equilibrio de tronco y con fuerza muscular normal en miembros superio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debe estar  a la  misma altura</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requiere que no exista contractura en flexión de rodilla ni espasmos flexores de miembros inferio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s personas con  afecciones neurológicas discapacitantes  requieren de los servicios del equipo de rehabilitación, y en dependencia de las características del daño pueden presentar </a:t>
            </a:r>
            <a:r>
              <a:rPr b="0" lang="en-US" sz="2400" spc="-1" strike="noStrike">
                <a:solidFill>
                  <a:srgbClr val="ffffb7"/>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Afectación de la movilidad, ya sea por parálisis centrales y periféricas , o por  trastornos del movimiento</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 </a:t>
            </a:r>
            <a:r>
              <a:rPr b="0" lang="es-ES" sz="2400" spc="-1" strike="noStrike">
                <a:solidFill>
                  <a:srgbClr val="ffffb7"/>
                </a:solidFill>
                <a:latin typeface="Arial"/>
              </a:rPr>
              <a:t>si  existe daño encefálico pueden aquejar también trastornos de</a:t>
            </a:r>
            <a:r>
              <a:rPr b="0" lang="en-US" sz="2400" spc="-1" strike="noStrike">
                <a:solidFill>
                  <a:srgbClr val="ffffb7"/>
                </a:solidFill>
                <a:latin typeface="Arial"/>
              </a:rPr>
              <a:t>:</a:t>
            </a:r>
            <a:r>
              <a:rPr b="0" lang="es-ES" sz="2400" spc="-1" strike="noStrike">
                <a:solidFill>
                  <a:srgbClr val="ffffb7"/>
                </a:solidFill>
                <a:latin typeface="Arial"/>
              </a:rPr>
              <a:t> las funciones cognoscitivas ,del habla y la voz, de la conducta, así como  de las funciones sensorial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encia  lateral sin tabla deslizan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requiere buen equilibrio de tronco y excelente desarrollo de la fuerza muscular de miembros superio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cama y el asiento del sillón de ruedas deben estar inicialmente a la  misma altura. Individuos jóvenes con  potente desarrollo de tren superior y buen entrenamiento pueden realizarla con alturas diferentes entre la cama y el sillón de rue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b7"/>
                </a:solidFill>
                <a:latin typeface="Arial Black"/>
              </a:rPr>
              <a:t>Independencia Funcional</a:t>
            </a:r>
            <a:br>
              <a:rPr sz="4400"/>
            </a:br>
            <a:r>
              <a:rPr b="1" i="1" lang="es-MX" sz="4400" spc="-1" strike="noStrike">
                <a:solidFill>
                  <a:srgbClr val="ffffb7"/>
                </a:solidFill>
                <a:latin typeface="Arial Black"/>
              </a:rPr>
              <a:t>transferencias</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tras transferencias importantes a entrenar s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retret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bañader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automóvil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nsferencia sillón sue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1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de rueda</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ituye un puente a la vid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ite la locomoción en aquellas personas que no pueden camin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sillones de ruedas pueden ser, de propulsión manual o eléctrica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paciente y el familiar deben estar bien familiarizados con el sillón de rued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de rueda</a:t>
            </a: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illón estándar  de  propulsión manual consta de las siguientes part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uñadura de empuj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eda</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o de propulsión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ra de elevación</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aldar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azo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ensa lateral</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ento</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eda delantera o libr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a p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llón estándar</a:t>
            </a:r>
            <a:endParaRPr b="1" lang="en-US" sz="4400" spc="-1" strike="noStrike">
              <a:solidFill>
                <a:srgbClr val="ffffb7"/>
              </a:solidFill>
              <a:latin typeface="Arial Black"/>
            </a:endParaRPr>
          </a:p>
        </p:txBody>
      </p:sp>
      <p:pic>
        <p:nvPicPr>
          <p:cNvPr id="167" name="" descr=""/>
          <p:cNvPicPr/>
          <p:nvPr/>
        </p:nvPicPr>
        <p:blipFill>
          <a:blip r:embed="rId1"/>
          <a:stretch/>
        </p:blipFill>
        <p:spPr>
          <a:xfrm>
            <a:off x="2484360" y="1851120"/>
            <a:ext cx="4608720" cy="402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Sillón de ruedas para tetrapléjicos</a:t>
            </a:r>
            <a:endParaRPr b="1" lang="en-US" sz="4400" spc="-1" strike="noStrike">
              <a:solidFill>
                <a:srgbClr val="ffffb7"/>
              </a:solidFill>
              <a:latin typeface="Arial Black"/>
            </a:endParaRPr>
          </a:p>
        </p:txBody>
      </p:sp>
      <p:pic>
        <p:nvPicPr>
          <p:cNvPr id="169" name="" descr=""/>
          <p:cNvPicPr/>
          <p:nvPr/>
        </p:nvPicPr>
        <p:blipFill>
          <a:blip r:embed="rId1"/>
          <a:stretch/>
        </p:blipFill>
        <p:spPr>
          <a:xfrm>
            <a:off x="3203640" y="2205000"/>
            <a:ext cx="3456000" cy="35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positivo ortopédico aplicado externamente a una región del cuerpo par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mantener la alineació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revenir o corregir deformidad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sistir en el movimi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t>
            </a:r>
            <a:r>
              <a:rPr b="0" lang="es-ES" sz="3200" spc="-1" strike="noStrike">
                <a:solidFill>
                  <a:srgbClr val="ffffff"/>
                </a:solidFill>
                <a:latin typeface="Arial"/>
              </a:rPr>
              <a:t>átic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nciona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ervicales collarin, minerva, HAL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onco ortesis toracolumba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embros superiores ortesis estáticas y ortesis dinámica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iembros inferiores Ortesis de tobillo-pie, ortesis de rodilla- tobillo- pie, ortesis de cadera-rodilla-tobillo-pi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independencia funcional para realizar las Actividades de la Vida Diaria </a:t>
            </a:r>
            <a:r>
              <a:rPr b="0" lang="en-US" sz="2400" spc="-1" strike="noStrike">
                <a:solidFill>
                  <a:srgbClr val="ffffb7"/>
                </a:solidFill>
                <a:latin typeface="Arial"/>
              </a:rPr>
              <a:t>(AVD) </a:t>
            </a:r>
            <a:r>
              <a:rPr b="0" lang="es-ES" sz="2400" spc="-1" strike="noStrike">
                <a:solidFill>
                  <a:srgbClr val="ffffb7"/>
                </a:solidFill>
                <a:latin typeface="Arial"/>
              </a:rPr>
              <a:t>se ve afectada como consecuencia del trastorno de la movilidad y también por daño de funciones cognoscitiva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incontinencia  de orina y heces interfiere con la vida social y se presentan en personas que sufren lesiones a nivel de médula espinal ,  daño encefálico severo  y  neuropatías autonómica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b7"/>
                </a:solidFill>
                <a:latin typeface="Arial"/>
              </a:rPr>
              <a:t>La disfunción sexual predominantemente orgánica se ve en personas con daño medular y con neuropatía autonómic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5888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de Ms Is</a:t>
            </a:r>
            <a:br>
              <a:rPr sz="4400"/>
            </a:br>
            <a:r>
              <a:rPr b="1" lang="es-ES" sz="4400" spc="-1" strike="noStrike">
                <a:solidFill>
                  <a:srgbClr val="ffffb7"/>
                </a:solidFill>
                <a:latin typeface="Arial Black"/>
              </a:rPr>
              <a:t>ortesis bivalva </a:t>
            </a:r>
            <a:endParaRPr b="1" lang="en-US" sz="4400" spc="-1" strike="noStrike">
              <a:solidFill>
                <a:srgbClr val="ffffb7"/>
              </a:solidFill>
              <a:latin typeface="Arial Black"/>
            </a:endParaRPr>
          </a:p>
        </p:txBody>
      </p:sp>
      <p:pic>
        <p:nvPicPr>
          <p:cNvPr id="177" name="" descr=""/>
          <p:cNvPicPr/>
          <p:nvPr/>
        </p:nvPicPr>
        <p:blipFill>
          <a:blip r:embed="rId1"/>
          <a:stretch/>
        </p:blipFill>
        <p:spPr>
          <a:xfrm>
            <a:off x="3343320" y="1895400"/>
            <a:ext cx="2563920" cy="3909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de tobillo -pie</a:t>
            </a:r>
            <a:endParaRPr b="1" lang="en-US" sz="4400" spc="-1" strike="noStrike">
              <a:solidFill>
                <a:srgbClr val="ffffb7"/>
              </a:solidFill>
              <a:latin typeface="Arial Black"/>
            </a:endParaRPr>
          </a:p>
        </p:txBody>
      </p:sp>
      <p:pic>
        <p:nvPicPr>
          <p:cNvPr id="179" name="" descr=""/>
          <p:cNvPicPr/>
          <p:nvPr/>
        </p:nvPicPr>
        <p:blipFill>
          <a:blip r:embed="rId1"/>
          <a:stretch/>
        </p:blipFill>
        <p:spPr>
          <a:xfrm>
            <a:off x="3327480" y="2184480"/>
            <a:ext cx="3027240" cy="36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Ortesis larga articulada de rodilla-tobillo-pie</a:t>
            </a:r>
            <a:endParaRPr b="1" lang="en-US" sz="4400" spc="-1" strike="noStrike">
              <a:solidFill>
                <a:srgbClr val="ffffb7"/>
              </a:solidFill>
              <a:latin typeface="Arial Black"/>
            </a:endParaRPr>
          </a:p>
        </p:txBody>
      </p:sp>
      <p:pic>
        <p:nvPicPr>
          <p:cNvPr id="181" name="" descr=""/>
          <p:cNvPicPr/>
          <p:nvPr/>
        </p:nvPicPr>
        <p:blipFill>
          <a:blip r:embed="rId1"/>
          <a:stretch/>
        </p:blipFill>
        <p:spPr>
          <a:xfrm>
            <a:off x="4008600" y="2079720"/>
            <a:ext cx="1666800" cy="3840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yudas de marcha</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do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et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t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dador estándar</a:t>
            </a:r>
            <a:endParaRPr b="1" lang="en-US" sz="4400" spc="-1" strike="noStrike">
              <a:solidFill>
                <a:srgbClr val="ffffb7"/>
              </a:solidFill>
              <a:latin typeface="Arial Black"/>
            </a:endParaRPr>
          </a:p>
        </p:txBody>
      </p:sp>
      <p:pic>
        <p:nvPicPr>
          <p:cNvPr id="185" name="" descr=""/>
          <p:cNvPicPr/>
          <p:nvPr/>
        </p:nvPicPr>
        <p:blipFill>
          <a:blip r:embed="rId1"/>
          <a:stretch/>
        </p:blipFill>
        <p:spPr>
          <a:xfrm>
            <a:off x="1908000" y="2781360"/>
            <a:ext cx="1872000" cy="2879640"/>
          </a:xfrm>
          <a:prstGeom prst="rect">
            <a:avLst/>
          </a:prstGeom>
          <a:ln w="0">
            <a:noFill/>
          </a:ln>
        </p:spPr>
      </p:pic>
      <p:sp>
        <p:nvSpPr>
          <p:cNvPr id="186"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dor de 4 puntos de apoyo y regaton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indica en personas con equilibrio pob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etas</a:t>
            </a:r>
            <a:endParaRPr b="1" lang="en-US" sz="4400" spc="-1" strike="noStrike">
              <a:solidFill>
                <a:srgbClr val="ffffb7"/>
              </a:solidFill>
              <a:latin typeface="Arial Black"/>
            </a:endParaRPr>
          </a:p>
        </p:txBody>
      </p:sp>
      <p:sp>
        <p:nvSpPr>
          <p:cNvPr id="188"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Muletas axila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gatón</a:t>
            </a:r>
            <a:endParaRPr b="0" lang="en-US" sz="2800" spc="-1" strike="noStrike">
              <a:solidFill>
                <a:srgbClr val="ffffff"/>
              </a:solidFill>
              <a:latin typeface="Arial"/>
            </a:endParaRPr>
          </a:p>
        </p:txBody>
      </p:sp>
      <p:pic>
        <p:nvPicPr>
          <p:cNvPr id="189" name="" descr=""/>
          <p:cNvPicPr/>
          <p:nvPr/>
        </p:nvPicPr>
        <p:blipFill>
          <a:blip r:embed="rId1"/>
          <a:stretch/>
        </p:blipFill>
        <p:spPr>
          <a:xfrm>
            <a:off x="1841400" y="3030480"/>
            <a:ext cx="1920960" cy="1938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Muletas axilares</a:t>
            </a:r>
            <a:endParaRPr b="1" lang="en-US" sz="4400" spc="-1" strike="noStrike">
              <a:solidFill>
                <a:srgbClr val="ffffb7"/>
              </a:solidFill>
              <a:latin typeface="Arial Black"/>
            </a:endParaRPr>
          </a:p>
        </p:txBody>
      </p:sp>
      <p:sp>
        <p:nvSpPr>
          <p:cNvPr id="191"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odos forman 160 grados al agarrar las muleta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oyan en el suelo a una distancia de 6 pulgadas lateralmente a los pi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ligro de compresión del plexo braquia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 descr=""/>
          <p:cNvPicPr/>
          <p:nvPr/>
        </p:nvPicPr>
        <p:blipFill>
          <a:blip r:embed="rId1"/>
          <a:stretch/>
        </p:blipFill>
        <p:spPr>
          <a:xfrm>
            <a:off x="1116000" y="1916280"/>
            <a:ext cx="3240000" cy="41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stón andador</a:t>
            </a:r>
            <a:endParaRPr b="1" lang="en-US" sz="4400" spc="-1" strike="noStrike">
              <a:solidFill>
                <a:srgbClr val="ffffb7"/>
              </a:solidFill>
              <a:latin typeface="Arial Black"/>
            </a:endParaRPr>
          </a:p>
        </p:txBody>
      </p:sp>
      <p:sp>
        <p:nvSpPr>
          <p:cNvPr id="194" name="PlaceHolder 2"/>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indica en la fase inicial del entrenamiento de marcha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ndividuos con equilibrio pobr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usa  para apoyar contralateralmente al lado afectado</a:t>
            </a:r>
            <a:endParaRPr b="0" lang="en-US" sz="2800" spc="-1" strike="noStrike">
              <a:solidFill>
                <a:srgbClr val="ffffff"/>
              </a:solidFill>
              <a:latin typeface="Arial"/>
            </a:endParaRPr>
          </a:p>
        </p:txBody>
      </p:sp>
      <p:pic>
        <p:nvPicPr>
          <p:cNvPr id="195" name="" descr=""/>
          <p:cNvPicPr/>
          <p:nvPr/>
        </p:nvPicPr>
        <p:blipFill>
          <a:blip r:embed="rId1"/>
          <a:stretch/>
        </p:blipFill>
        <p:spPr>
          <a:xfrm>
            <a:off x="2124000" y="2421000"/>
            <a:ext cx="1871640" cy="287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letas de cuatro puntos</a:t>
            </a:r>
            <a:endParaRPr b="1" lang="en-US" sz="4400" spc="-1" strike="noStrike">
              <a:solidFill>
                <a:srgbClr val="ffffb7"/>
              </a:solidFill>
              <a:latin typeface="Arial Black"/>
            </a:endParaRPr>
          </a:p>
        </p:txBody>
      </p:sp>
      <p:pic>
        <p:nvPicPr>
          <p:cNvPr id="197" name="" descr=""/>
          <p:cNvPicPr/>
          <p:nvPr/>
        </p:nvPicPr>
        <p:blipFill>
          <a:blip r:embed="rId1"/>
          <a:stretch/>
        </p:blipFill>
        <p:spPr>
          <a:xfrm>
            <a:off x="4140360" y="2637000"/>
            <a:ext cx="1517400" cy="287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stón de un punto</a:t>
            </a:r>
            <a:endParaRPr b="1" lang="en-US" sz="4400" spc="-1" strike="noStrike">
              <a:solidFill>
                <a:srgbClr val="ffffb7"/>
              </a:solidFill>
              <a:latin typeface="Arial Black"/>
            </a:endParaRPr>
          </a:p>
        </p:txBody>
      </p:sp>
      <p:pic>
        <p:nvPicPr>
          <p:cNvPr id="199" name="" descr=""/>
          <p:cNvPicPr/>
          <p:nvPr/>
        </p:nvPicPr>
        <p:blipFill>
          <a:blip r:embed="rId1"/>
          <a:stretch/>
        </p:blipFill>
        <p:spPr>
          <a:xfrm>
            <a:off x="3995640" y="2276640"/>
            <a:ext cx="1368360" cy="30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Otros problemas son</a:t>
            </a:r>
            <a:r>
              <a:rPr b="0" lang="en-US" sz="3200" spc="-1" strike="noStrike">
                <a:solidFill>
                  <a:srgbClr val="ffffb7"/>
                </a:solidFill>
                <a:latin typeface="Arial"/>
              </a:rPr>
              <a: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Depresión, ansiedad, ira, nega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Afectación económic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Impacto negativo en la vida familia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b7"/>
                </a:solidFill>
                <a:latin typeface="Arial"/>
              </a:rPr>
              <a:t>Impacto negativo en la vida so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LTURA </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muleta axilar, se mide desde el pliegue anterior de la axila hasta el maleolo interno ( lo que queda hasta el piso es para que la muleta no se apoye en la axila), </a:t>
            </a:r>
            <a:endParaRPr b="0" lang="en-US" sz="2800" spc="-1" strike="noStrike">
              <a:solidFill>
                <a:srgbClr val="ffffff"/>
              </a:solidFill>
              <a:latin typeface="Arial"/>
            </a:endParaRPr>
          </a:p>
          <a:p>
            <a:pPr marL="609480" indent="-60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muleta de antebrazo se mide desde el olècranon hasta el suelo y la empuñadura debe de quedar a la altura del trocánter may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paciente debe apoyar todo el peso sobre las muletas, ejerciendo presión con su brazo y manos extendidas en la empuñadura de las mulet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uando el paciente está de pié  las muletas deben estar ligeramente anguladas por fuera del cuerpo y apoyadas a unos 10 cms aproximadamente del pie, las muletas se sujetan al cuerpo por intermedio de los aductores del hombro y no por presión de la muleta en el interior de la axil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presión sobre el axila conlleva el riesgo de lesión del plexo braqui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incipios en el uso de muletas</a:t>
            </a: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empuñadura de las muletas de antebrazo debe quedar a la altura del trocanter may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uando se utiliza una sola muleta o bastón esta debe utilizarse contralateralmente a la pierna afectada (o de la más afectada</a:t>
            </a:r>
            <a:r>
              <a:rPr b="0" lang="en-US" sz="3200" spc="-1" strike="noStrike">
                <a:solidFill>
                  <a:srgbClr val="ffffff"/>
                </a:solidFill>
                <a:latin typeface="Arial"/>
              </a:rPr>
              <a:t>)</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habilitación neurológica</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jemplos de afecciones frecuentes del sistema nervioso que son discapacitantes </a:t>
            </a:r>
            <a:r>
              <a:rPr b="0" lang="en-US" sz="2800" spc="-1" strike="noStrike">
                <a:solidFill>
                  <a:srgbClr val="ffffb7"/>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nfermedad cerebro</a:t>
            </a:r>
            <a:r>
              <a:rPr b="0" lang="en-US" sz="2800" spc="-1" strike="noStrike">
                <a:solidFill>
                  <a:srgbClr val="ffffb7"/>
                </a:solidFill>
                <a:latin typeface="Arial"/>
              </a:rPr>
              <a:t> vascula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Par</a:t>
            </a:r>
            <a:r>
              <a:rPr b="0" lang="es-ES" sz="2800" spc="-1" strike="noStrike">
                <a:solidFill>
                  <a:srgbClr val="ffffb7"/>
                </a:solidFill>
                <a:latin typeface="Arial"/>
              </a:rPr>
              <a:t>á</a:t>
            </a:r>
            <a:r>
              <a:rPr b="0" lang="en-US" sz="2800" spc="-1" strike="noStrike">
                <a:solidFill>
                  <a:srgbClr val="ffffb7"/>
                </a:solidFill>
                <a:latin typeface="Arial"/>
              </a:rPr>
              <a:t>lisis cerebral</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nfermedad</a:t>
            </a:r>
            <a:r>
              <a:rPr b="0" lang="en-US" sz="2800" spc="-1" strike="noStrike">
                <a:solidFill>
                  <a:srgbClr val="ffffb7"/>
                </a:solidFill>
                <a:latin typeface="Arial"/>
              </a:rPr>
              <a:t> de Parkins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Trauma c</a:t>
            </a:r>
            <a:r>
              <a:rPr b="0" lang="es-ES" sz="2800" spc="-1" strike="noStrike">
                <a:solidFill>
                  <a:srgbClr val="ffffb7"/>
                </a:solidFill>
                <a:latin typeface="Arial"/>
              </a:rPr>
              <a:t>ráneo  encefálico</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Lesión medula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Esclerosis múltipl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Poli neuropatí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pectos de la rehabilitación neurológica </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ratamiento postural</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Reeducación neuromuscular</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Independencia funcional en AVD</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Necesidad de ortesis y de ayudas ortopedicas para la marcha (bastones,  muletas, andador) así como de dispositivos para las AVD</a:t>
            </a:r>
            <a:endParaRPr b="0" lang="en-US" sz="3200" spc="-1" strike="noStrike">
              <a:solidFill>
                <a:srgbClr val="ffffff"/>
              </a:solidFill>
              <a:latin typeface="Arial"/>
            </a:endParaRPr>
          </a:p>
          <a:p>
            <a:pPr marL="609480" indent="-60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trenamiento para la March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spectos de la rehabilitación neurológica</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 </a:t>
            </a:r>
            <a:r>
              <a:rPr b="0" lang="es-MX" sz="2800" spc="-1" strike="noStrike">
                <a:solidFill>
                  <a:srgbClr val="ffffb7"/>
                </a:solidFill>
                <a:latin typeface="Arial"/>
              </a:rPr>
              <a:t>Desarrollo de habilidades en el uso de la silla de ruedas.</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Terapia del habl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uidados de vejiga e intestino</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b7"/>
                </a:solidFill>
                <a:latin typeface="Arial"/>
              </a:rPr>
              <a:t>Adecuación psicológic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onsejos sexuales</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Educación del paciente y familiar</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Rehabilitación profesional</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Integración  social</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Seguimiento en APS  </a:t>
            </a:r>
            <a:r>
              <a:rPr b="0" lang="en-US" sz="2800" spc="-1" strike="noStrike">
                <a:solidFill>
                  <a:srgbClr val="ffffb7"/>
                </a:solidFill>
                <a:latin typeface="Arial"/>
              </a:rPr>
              <a:t>( Comunidad)</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tamiento postural en cama</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Dirigido a prevenir complicaciones secundarias como  </a:t>
            </a:r>
            <a:r>
              <a:rPr b="0" lang="es-ES" sz="2800" spc="-1" strike="noStrike">
                <a:solidFill>
                  <a:srgbClr val="ffffb7"/>
                </a:solidFill>
                <a:latin typeface="Arial"/>
              </a:rPr>
              <a:t>úlceras por presión y contracturas articula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Persigue el alineamiento correcto de todo el cuerpo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Cambio de posición del cuerpo en decúbito  cada 2-3 horas las 24 hora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b7"/>
                </a:solidFill>
                <a:latin typeface="Arial"/>
              </a:rPr>
              <a:t>El paciente y el familiar deben tomar responsabilidad creciente en los cambios posturales y en los cuidados de la pie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3:13:15Z</dcterms:created>
  <dc:creator>Mena</dc:creator>
  <dc:description/>
  <dc:language>en-US</dc:language>
  <cp:lastModifiedBy>aviacion</cp:lastModifiedBy>
  <dcterms:modified xsi:type="dcterms:W3CDTF">2005-02-24T13:48:25Z</dcterms:modified>
  <cp:revision>66</cp:revision>
  <dc:subject/>
  <dc:title>Rehabilitación neurológica</dc:title>
</cp:coreProperties>
</file>