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3F5D5-CEEB-483F-A769-77B65F8AF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BD277-E620-4236-8C63-76AC2DE97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7EEBD-826E-4D49-923A-0D3FBC338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571FE-DBBE-44ED-B2B7-1C4CF735F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931A4-42C4-42BF-A83A-3162C990B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5C1B4-B46A-4D36-B06C-A68091DBA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A15F0-76A6-484C-B813-D3819F231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58643-9842-4701-9FA4-9162F82F8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0563E-B67F-4985-8169-4A20EB8F9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31093-8B0B-4EEF-9EA8-081A94DDF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83598-E337-417D-9221-392423408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679EF-E194-454A-A681-1F3982DE7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D75CE-F76F-4EF7-9401-94C253D7D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643C4-E0CE-4BB6-BE2E-DA4FE317E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5E0F2-A673-4CE5-A9D4-9CBF43966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925A5-5800-4682-866D-976E65F71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67A85-27D4-471C-BDD4-1B25A004F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F412D-D441-4C6D-9993-110E743F0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D5F39-405B-4DB4-9DB4-DAA69A8BD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5D114-2061-4112-A24C-451676873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288BB-3D6B-4DBE-B55C-186AF2F31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38A7-8A01-461C-B8C8-9E9217453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3701-01DC-4D53-A8D6-EBE971C3C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76110-4A16-4280-B13A-EFE91CC24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90E7-C80C-4319-A26A-CD176346817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7509-EA38-4E1C-9026-7DC3546D8C3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Rehabilitación neurológica</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395280" y="3962520"/>
            <a:ext cx="835344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Pedro Orlando Mena Quiñone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ista de 2do grado en Medicina Física y Rehabilitación.</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NR Julio Día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tamiento postural en cama</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 requieren medios auxiliares de apoy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lmohadas,  sacos de arena, rodillos de telas, frazadas, colchas, férulas plásticas o de alumin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tamiento postural en cama</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tilizaremos como ejemplo el tratamiento postural de una persona con tetraplejí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i el paciente presenta una hemiplejía no debe apoyar sobre la parte paralizada, los decúbitos a adoptar serán supino, prono y lateral sobre el lado s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tamiento postural en cama </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expondrán las posiciones básicas tomando como ejemplo una persona con tetraplejía a Nivel C4.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Supino</a:t>
            </a:r>
            <a:br>
              <a:rPr sz="4400"/>
            </a:b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s piernas se colocan en posición neutra ,las plantas de los pies se apoyaran en una almohada para evitar el equino (como alternativa se colocaran correctores de equino).</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s caderas y las rodillas se mantendrán extendidas y para evitar la rotación externa de la cadera se debe colocara una almohadilla  o toalla enrollada debajo del trocánter (almohadilla trocantérica)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Supino</a:t>
            </a:r>
            <a:br>
              <a:rPr sz="4400"/>
            </a:b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xtremidades superiores se colocaran en variadas posiciones para evitar contracturas articulares. Atención  particular se le debe dar al hombro que debe adoptar abducción 1-2 horas, 3 veces al dí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Decúbito Supino</a:t>
            </a:r>
            <a:br>
              <a:rPr sz="4000"/>
            </a:br>
            <a:r>
              <a:rPr b="1" lang="en-US" sz="4000" spc="-1" strike="noStrike">
                <a:solidFill>
                  <a:srgbClr val="ffffb7"/>
                </a:solidFill>
                <a:latin typeface="Arial Black"/>
              </a:rPr>
              <a:t> Existen tres posiciones básicas del hombro</a:t>
            </a:r>
            <a:endParaRPr b="1" lang="en-US" sz="40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bducción a 90 grados del hombro, con ligera rotación interna de brazo, codo flexionado a 90 grados y antebrazo con pronación parcial </a:t>
            </a:r>
            <a:endParaRPr b="0" lang="en-US" sz="2800" spc="-1" strike="noStrike">
              <a:solidFill>
                <a:srgbClr val="ffffff"/>
              </a:solidFill>
              <a:latin typeface="Arial"/>
            </a:endParaRPr>
          </a:p>
          <a:p>
            <a:pPr marL="339480" indent="-3394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bducción de 90 grados de hombro, rotación externa de brazo, codo flexionado a 90 grados y pronación de antebrazo</a:t>
            </a:r>
            <a:endParaRPr b="0" lang="en-US" sz="2800" spc="-1" strike="noStrike">
              <a:solidFill>
                <a:srgbClr val="ffffff"/>
              </a:solidFill>
              <a:latin typeface="Arial"/>
            </a:endParaRPr>
          </a:p>
          <a:p>
            <a:pPr marL="339480" indent="-3394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ligera abducción de hombro, extensión de codo y supinación de antebraz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Supino</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 el fin de lograr un efecto de tenodesis en la mano de  individuos con tetraplejía  que  realizan dorsiflexión activa de muñeca, se colocara una férula  estática en dorsiflexión de muñeca  y ligera flexión de las articulaciones metacarpo- falángicas  e interfalángicas con oposición del pulgar</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mo  alternativa se puede colocar un paño enrollado en la palma de la mano para mantener la posición anteriormente descrita de la misma.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Supino</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personas con hemiplejía pueden recibir similar cuidado en la posición de la mano</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o alternativa se puede utilizar una segunda posición y colocar una férula con dorsiflexión de muñeca, los dedos estarán extendidos en las articulaciones metacarpo-falángicas e inter-falángicas , y el pulgar se coloca en oposició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lateral:</a:t>
            </a:r>
            <a:br>
              <a:rPr sz="4400"/>
            </a:b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brazo que esta debajo se colocará  en rotación externa y separado del tórax, la pierna que esta en posición superior  se flexionará en cadera y rodilla, se colocará una almohada debajo de la rodilla y del tobillo para evitar el contacto con la pierna de abajo, y  la compresión de los testíc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prono:</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etapa aguda de las lesiones medulares cervicales se debe evitar por la bradicardia que ocasiona  y el peligro de paro cardiaco (al existir un predominio vagal ) , tambien debido a la disnea   producto de la  fatiga del diafragma.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os periodos posteriores esta posición resulta útil para mantener la extensión de caderas y corregir contracturas en flexión, así como posterior a la operación de úlceras  por  presión en regiones sacras e isquiática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Es un área  importante  dentro del campo de la medicina física y rehabilit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prono:</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caderas y las rodillas se mantendrán extendida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rtejos no deben tocar la pielera de la cama</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pies pueden elevarse ligeramente con un pequeño rollo hecho con una toallita, colocado debajo de la parte anterior del tobillo</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razo se abduce ligeramente, se extiende el codo, el antebrazo se supina y se extiende la muñeca, se coloca una almohadilla o toalla doblada debajo de cada hombro para evitar la anteropuls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grado de independencia en el funcionamiento de las actividades de la vida diaria </a:t>
            </a:r>
            <a:r>
              <a:rPr b="0" lang="en-US" sz="2400" spc="-1" strike="noStrike">
                <a:solidFill>
                  <a:srgbClr val="ffffff"/>
                </a:solidFill>
                <a:latin typeface="Arial"/>
              </a:rPr>
              <a:t>(AVD)</a:t>
            </a:r>
            <a:r>
              <a:rPr b="0" lang="es-MX" sz="2400" spc="-1" strike="noStrike">
                <a:solidFill>
                  <a:srgbClr val="ffffff"/>
                </a:solidFill>
                <a:latin typeface="Arial"/>
              </a:rPr>
              <a:t> que debe desarrollar la persona discapacitada depende de las capacidades físicas, y cognoscitivas  remanentes, de su voluntad y de la experiencia del equipo de rehabilitació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ta independencia funcional en las AVD le permite al individuo realizar su vida  e integrarse al la sociedad</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 por lo tanto un indicador del grado de rehabilitación médica alcanza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importante  evaluar la Independencia funcional </a:t>
            </a:r>
            <a:r>
              <a:rPr b="0" lang="es-ES" sz="3200" spc="-1" strike="noStrike">
                <a:solidFill>
                  <a:srgbClr val="ffffff"/>
                </a:solidFill>
                <a:latin typeface="Arial"/>
              </a:rPr>
              <a:t> en las AVD, y para esto existen distintos instrumentos de evaluación como el indice de Barthel y el FIM </a:t>
            </a:r>
            <a:r>
              <a:rPr b="0" lang="en-US" sz="3200" spc="-1" strike="noStrike">
                <a:solidFill>
                  <a:srgbClr val="ffffff"/>
                </a:solidFill>
                <a:latin typeface="Arial"/>
              </a:rPr>
              <a:t>( functional Independence measurement)</a:t>
            </a:r>
            <a:r>
              <a:rPr b="0" lang="es-ES" sz="3200" spc="-1" strike="noStrike">
                <a:solidFill>
                  <a:srgbClr val="ffffff"/>
                </a:solidFill>
                <a:latin typeface="Arial"/>
              </a:rPr>
              <a:t> por citar dos escalas mundialmente conocid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unque las AVD son todas aquellas actividades que realizamos habitualmente en nuestra vida, estas se pueden clasificar e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ividades en la cama</a:t>
            </a:r>
            <a:r>
              <a:rPr b="0" lang="en-US" sz="2800" spc="-1" strike="noStrike">
                <a:solidFill>
                  <a:srgbClr val="ffffff"/>
                </a:solidFill>
                <a:latin typeface="Arial"/>
              </a:rPr>
              <a:t>: cambios de posici</a:t>
            </a:r>
            <a:r>
              <a:rPr b="0" lang="es-ES" sz="2800" spc="-1" strike="noStrike">
                <a:solidFill>
                  <a:srgbClr val="ffffff"/>
                </a:solidFill>
                <a:latin typeface="Arial"/>
              </a:rPr>
              <a:t>ó</a:t>
            </a:r>
            <a:r>
              <a:rPr b="0" lang="en-US" sz="2800" spc="-1" strike="noStrike">
                <a:solidFill>
                  <a:srgbClr val="ffffff"/>
                </a:solidFill>
                <a:latin typeface="Arial"/>
              </a:rPr>
              <a:t>n , sentarse, elevar el troco sobre la cam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iene:</a:t>
            </a:r>
            <a:r>
              <a:rPr b="0" lang="es-ES" sz="2800" spc="-1" strike="noStrike">
                <a:solidFill>
                  <a:srgbClr val="ffffff"/>
                </a:solidFill>
                <a:latin typeface="Arial"/>
              </a:rPr>
              <a:t> lavarse la cara y las manos, cepillarse los dientes, uso del pañuelo,peinars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vejiga e intestin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stirs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erenci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dades en el sill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ul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el individuo  no puede realizar una o mas de las AVD se impone un entrenamiento especial que se realiza habitualmente en el departamento de terapia ocupacional</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poder realizar este entrenamiento es necesario desarrollar la fuerza muscular, la resistencia y la coordinación de los grupos musculares involucrados en las distintas AV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más  pueden ser necesarios aditamentos especiales para compensar funciones perdida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jemplo de estos utensilios o ayudas son las guantillas que permiten el agarre de cepillos de dientes, lápices o cubiertos de mesa con lo que se facilita la realización de tareas tan importantes como la higiene bucal, la escritura y la alimentación</a:t>
            </a:r>
            <a:r>
              <a:rPr b="0" lang="en-US" sz="2800" spc="-1" strike="noStrike">
                <a:solidFill>
                  <a:srgbClr val="ffffff"/>
                </a:solidFill>
                <a:latin typeface="Arial"/>
              </a:rPr>
              <a:t> </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 </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grar la transferencia entre la cama y el sillón de ruedas para aquellas personas que no pueden caminar, resulta un eslabón importante para el autovalidismo.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tipos fundamentales de transferencia sillón- cama s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ransferencia lateral con tabla deslizant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ransferencia antero posteri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ransferencia  lateral sin tabla desliza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encia lateral con tabla deslizant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entrenan en este tipo de transferencia aquellos individuos con pobre equilibrio de tronco y miembros superiores débiles ejemplo paraplejías altas o tetraplejías C6/C8</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ma y el asiento del sillón de ruedas deben estar debe estar  a la  misma altur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encia antero posteri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alizan aquello pacientes con mejor equilibrio de tronco y con fuerza muscular normal en miembros superior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ma y el asiento del sillón de ruedas deben estar debe estar  a la  misma altura</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requiere que no exista contractura en flexión de rodilla ni espasmos flexores de miembros inferio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Las personas con  afecciones neurológicas discapacitantes  requieren de los servicios del equipo de rehabilitación, y en dependencia de las características del daño pueden presentar </a:t>
            </a:r>
            <a:r>
              <a:rPr b="0" lang="en-US" sz="2400" spc="-1" strike="noStrike">
                <a:solidFill>
                  <a:srgbClr val="ffffb7"/>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Afectación de la movilidad, ya sea por parálisis centrales y periféricas , o por  trastornos del movimiento</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 </a:t>
            </a:r>
            <a:r>
              <a:rPr b="0" lang="es-ES" sz="2400" spc="-1" strike="noStrike">
                <a:solidFill>
                  <a:srgbClr val="ffffb7"/>
                </a:solidFill>
                <a:latin typeface="Arial"/>
              </a:rPr>
              <a:t>si  existe daño encefálico pueden aquejar también trastornos de</a:t>
            </a:r>
            <a:r>
              <a:rPr b="0" lang="en-US" sz="2400" spc="-1" strike="noStrike">
                <a:solidFill>
                  <a:srgbClr val="ffffb7"/>
                </a:solidFill>
                <a:latin typeface="Arial"/>
              </a:rPr>
              <a:t>:</a:t>
            </a:r>
            <a:r>
              <a:rPr b="0" lang="es-ES" sz="2400" spc="-1" strike="noStrike">
                <a:solidFill>
                  <a:srgbClr val="ffffb7"/>
                </a:solidFill>
                <a:latin typeface="Arial"/>
              </a:rPr>
              <a:t> las funciones cognoscitivas ,del habla y la voz, de la conducta, así como  de las funciones sensorial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encia  lateral sin tabla deslizant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requiere buen equilibrio de tronco y excelente desarrollo de la fuerza muscular de miembros superior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ma y el asiento del sillón de ruedas deben estar inicialmente a la  misma altura. Individuos jóvenes con  potente desarrollo de tren superior y buen entrenamiento pueden realizarla con alturas diferentes entre la cama y el sillón de rue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tras transferencias importantes a entrenar s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nsferencia sillón retret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nsferencia sillón bañader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nsferencia sillón automóvil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nsferencia sillón sue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illón de rueda</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ye un puente a la vid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e la locomoción en aquellas personas que no pueden camina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sillones de ruedas pueden ser, de propulsión manual o eléctrica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paciente y el familiar deben estar bien familiarizados con el sillón de rued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illón de rueda</a:t>
            </a: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illón estándar  de  propulsión manual consta de las siguientes parte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uñadura de empuj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eda</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o de propulsión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ra de elevación</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aldar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azo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ensa lateral</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ento</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eda delantera o libr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a pi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illón estándar</a:t>
            </a:r>
            <a:endParaRPr b="1" lang="en-US" sz="4400" spc="-1" strike="noStrike">
              <a:solidFill>
                <a:srgbClr val="ffffb7"/>
              </a:solidFill>
              <a:latin typeface="Arial Black"/>
            </a:endParaRPr>
          </a:p>
        </p:txBody>
      </p:sp>
      <p:pic>
        <p:nvPicPr>
          <p:cNvPr id="167" name="" descr=""/>
          <p:cNvPicPr/>
          <p:nvPr/>
        </p:nvPicPr>
        <p:blipFill>
          <a:blip r:embed="rId1"/>
          <a:stretch/>
        </p:blipFill>
        <p:spPr>
          <a:xfrm>
            <a:off x="2484360" y="1851120"/>
            <a:ext cx="4608720" cy="402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Sillón de ruedas para tetrapléjicos</a:t>
            </a:r>
            <a:endParaRPr b="1" lang="en-US" sz="4400" spc="-1" strike="noStrike">
              <a:solidFill>
                <a:srgbClr val="ffffb7"/>
              </a:solidFill>
              <a:latin typeface="Arial Black"/>
            </a:endParaRPr>
          </a:p>
        </p:txBody>
      </p:sp>
      <p:pic>
        <p:nvPicPr>
          <p:cNvPr id="169" name="" descr=""/>
          <p:cNvPicPr/>
          <p:nvPr/>
        </p:nvPicPr>
        <p:blipFill>
          <a:blip r:embed="rId1"/>
          <a:stretch/>
        </p:blipFill>
        <p:spPr>
          <a:xfrm>
            <a:off x="3203640" y="2205000"/>
            <a:ext cx="3456000" cy="35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 </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ispositivo ortopédico aplicado externamente a una región del cuerpo para</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mantener la alineación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prevenir o corregir deformidad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sistir en el movimi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t>
            </a:r>
            <a:r>
              <a:rPr b="0" lang="es-ES" sz="3200" spc="-1" strike="noStrike">
                <a:solidFill>
                  <a:srgbClr val="ffffff"/>
                </a:solidFill>
                <a:latin typeface="Arial"/>
              </a:rPr>
              <a:t>átic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ncion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ervicales collarin, minerva, HAL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onco ortesis toracolumbar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embros superiores ortesis estáticas y ortesis dinámica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embros inferiores Ortesis de tobillo-pie, ortesis de rodilla- tobillo- pie, ortesis de cadera-rodilla-tobillo-pi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La independencia funcional para realizar las Actividades de la Vida Diaria </a:t>
            </a:r>
            <a:r>
              <a:rPr b="0" lang="en-US" sz="2400" spc="-1" strike="noStrike">
                <a:solidFill>
                  <a:srgbClr val="ffffb7"/>
                </a:solidFill>
                <a:latin typeface="Arial"/>
              </a:rPr>
              <a:t>(AVD) </a:t>
            </a:r>
            <a:r>
              <a:rPr b="0" lang="es-ES" sz="2400" spc="-1" strike="noStrike">
                <a:solidFill>
                  <a:srgbClr val="ffffb7"/>
                </a:solidFill>
                <a:latin typeface="Arial"/>
              </a:rPr>
              <a:t>se ve afectada como consecuencia del trastorno de la movilidad y también por daño de funciones cognoscitiva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La incontinencia  de orina y heces interfiere con la vida social y se presentan en personas que sufren lesiones a nivel de médula espinal ,  daño encefálico severo  y  neuropatías autonómica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La disfunción sexual predominantemente orgánica se ve en personas con daño medular y con neuropatía autonómic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 de Ms Is</a:t>
            </a:r>
            <a:br>
              <a:rPr sz="4400"/>
            </a:br>
            <a:r>
              <a:rPr b="1" lang="es-ES" sz="4400" spc="-1" strike="noStrike">
                <a:solidFill>
                  <a:srgbClr val="ffffb7"/>
                </a:solidFill>
                <a:latin typeface="Arial Black"/>
              </a:rPr>
              <a:t>ortesis bivalva </a:t>
            </a:r>
            <a:endParaRPr b="1" lang="en-US" sz="4400" spc="-1" strike="noStrike">
              <a:solidFill>
                <a:srgbClr val="ffffb7"/>
              </a:solidFill>
              <a:latin typeface="Arial Black"/>
            </a:endParaRPr>
          </a:p>
        </p:txBody>
      </p:sp>
      <p:pic>
        <p:nvPicPr>
          <p:cNvPr id="177" name="" descr=""/>
          <p:cNvPicPr/>
          <p:nvPr/>
        </p:nvPicPr>
        <p:blipFill>
          <a:blip r:embed="rId1"/>
          <a:stretch/>
        </p:blipFill>
        <p:spPr>
          <a:xfrm>
            <a:off x="3343320" y="1895400"/>
            <a:ext cx="2563920" cy="3909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 de tobillo -pie</a:t>
            </a:r>
            <a:endParaRPr b="1" lang="en-US" sz="4400" spc="-1" strike="noStrike">
              <a:solidFill>
                <a:srgbClr val="ffffb7"/>
              </a:solidFill>
              <a:latin typeface="Arial Black"/>
            </a:endParaRPr>
          </a:p>
        </p:txBody>
      </p:sp>
      <p:pic>
        <p:nvPicPr>
          <p:cNvPr id="179" name="" descr=""/>
          <p:cNvPicPr/>
          <p:nvPr/>
        </p:nvPicPr>
        <p:blipFill>
          <a:blip r:embed="rId1"/>
          <a:stretch/>
        </p:blipFill>
        <p:spPr>
          <a:xfrm>
            <a:off x="3327480" y="2184480"/>
            <a:ext cx="3027240" cy="36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 larga articulada de rodilla-tobillo-pie</a:t>
            </a:r>
            <a:endParaRPr b="1" lang="en-US" sz="4400" spc="-1" strike="noStrike">
              <a:solidFill>
                <a:srgbClr val="ffffb7"/>
              </a:solidFill>
              <a:latin typeface="Arial Black"/>
            </a:endParaRPr>
          </a:p>
        </p:txBody>
      </p:sp>
      <p:pic>
        <p:nvPicPr>
          <p:cNvPr id="181" name="" descr=""/>
          <p:cNvPicPr/>
          <p:nvPr/>
        </p:nvPicPr>
        <p:blipFill>
          <a:blip r:embed="rId1"/>
          <a:stretch/>
        </p:blipFill>
        <p:spPr>
          <a:xfrm>
            <a:off x="4008600" y="2079720"/>
            <a:ext cx="1666800" cy="3840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yudas de marcha</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dor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et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t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dador estándar</a:t>
            </a:r>
            <a:endParaRPr b="1" lang="en-US" sz="4400" spc="-1" strike="noStrike">
              <a:solidFill>
                <a:srgbClr val="ffffb7"/>
              </a:solidFill>
              <a:latin typeface="Arial Black"/>
            </a:endParaRPr>
          </a:p>
        </p:txBody>
      </p:sp>
      <p:pic>
        <p:nvPicPr>
          <p:cNvPr id="185" name="" descr=""/>
          <p:cNvPicPr/>
          <p:nvPr/>
        </p:nvPicPr>
        <p:blipFill>
          <a:blip r:embed="rId1"/>
          <a:stretch/>
        </p:blipFill>
        <p:spPr>
          <a:xfrm>
            <a:off x="1908000" y="2781360"/>
            <a:ext cx="1872000" cy="2879640"/>
          </a:xfrm>
          <a:prstGeom prst="rect">
            <a:avLst/>
          </a:prstGeom>
          <a:ln w="0">
            <a:noFill/>
          </a:ln>
        </p:spPr>
      </p:pic>
      <p:sp>
        <p:nvSpPr>
          <p:cNvPr id="186"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dor de 4 puntos de apoyo y regatone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indica en personas con equilibrio pob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letas</a:t>
            </a:r>
            <a:endParaRPr b="1" lang="en-US" sz="4400" spc="-1" strike="noStrike">
              <a:solidFill>
                <a:srgbClr val="ffffb7"/>
              </a:solidFill>
              <a:latin typeface="Arial Black"/>
            </a:endParaRPr>
          </a:p>
        </p:txBody>
      </p:sp>
      <p:sp>
        <p:nvSpPr>
          <p:cNvPr id="188"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uletas axila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gatón</a:t>
            </a:r>
            <a:endParaRPr b="0" lang="en-US" sz="2800" spc="-1" strike="noStrike">
              <a:solidFill>
                <a:srgbClr val="ffffff"/>
              </a:solidFill>
              <a:latin typeface="Arial"/>
            </a:endParaRPr>
          </a:p>
        </p:txBody>
      </p:sp>
      <p:pic>
        <p:nvPicPr>
          <p:cNvPr id="189" name="" descr=""/>
          <p:cNvPicPr/>
          <p:nvPr/>
        </p:nvPicPr>
        <p:blipFill>
          <a:blip r:embed="rId1"/>
          <a:stretch/>
        </p:blipFill>
        <p:spPr>
          <a:xfrm>
            <a:off x="1841400" y="3030480"/>
            <a:ext cx="1920960" cy="1938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Muletas axilares</a:t>
            </a:r>
            <a:endParaRPr b="1" lang="en-US" sz="4400" spc="-1" strike="noStrike">
              <a:solidFill>
                <a:srgbClr val="ffffb7"/>
              </a:solidFill>
              <a:latin typeface="Arial Black"/>
            </a:endParaRPr>
          </a:p>
        </p:txBody>
      </p:sp>
      <p:sp>
        <p:nvSpPr>
          <p:cNvPr id="191"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odos forman 160 grados al agarrar las muleta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oyan en el suelo a una distancia de 6 pulgadas lateralmente a los pie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ligro de compresión del plexo braquia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2" name="" descr=""/>
          <p:cNvPicPr/>
          <p:nvPr/>
        </p:nvPicPr>
        <p:blipFill>
          <a:blip r:embed="rId1"/>
          <a:stretch/>
        </p:blipFill>
        <p:spPr>
          <a:xfrm>
            <a:off x="1116000" y="1916280"/>
            <a:ext cx="3240000" cy="4176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stón andador</a:t>
            </a:r>
            <a:endParaRPr b="1" lang="en-US" sz="4400" spc="-1" strike="noStrike">
              <a:solidFill>
                <a:srgbClr val="ffffb7"/>
              </a:solidFill>
              <a:latin typeface="Arial Black"/>
            </a:endParaRPr>
          </a:p>
        </p:txBody>
      </p:sp>
      <p:sp>
        <p:nvSpPr>
          <p:cNvPr id="194"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 indica en la fase inicial del entrenamiento de marcha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ndividuos con equilibrio pobr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 usa  para apoyar contralateralmente al lado afectado</a:t>
            </a:r>
            <a:endParaRPr b="0" lang="en-US" sz="2800" spc="-1" strike="noStrike">
              <a:solidFill>
                <a:srgbClr val="ffffff"/>
              </a:solidFill>
              <a:latin typeface="Arial"/>
            </a:endParaRPr>
          </a:p>
        </p:txBody>
      </p:sp>
      <p:pic>
        <p:nvPicPr>
          <p:cNvPr id="195" name="" descr=""/>
          <p:cNvPicPr/>
          <p:nvPr/>
        </p:nvPicPr>
        <p:blipFill>
          <a:blip r:embed="rId1"/>
          <a:stretch/>
        </p:blipFill>
        <p:spPr>
          <a:xfrm>
            <a:off x="2124000" y="2421000"/>
            <a:ext cx="1871640" cy="287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letas de cuatro puntos</a:t>
            </a:r>
            <a:endParaRPr b="1" lang="en-US" sz="4400" spc="-1" strike="noStrike">
              <a:solidFill>
                <a:srgbClr val="ffffb7"/>
              </a:solidFill>
              <a:latin typeface="Arial Black"/>
            </a:endParaRPr>
          </a:p>
        </p:txBody>
      </p:sp>
      <p:pic>
        <p:nvPicPr>
          <p:cNvPr id="197" name="" descr=""/>
          <p:cNvPicPr/>
          <p:nvPr/>
        </p:nvPicPr>
        <p:blipFill>
          <a:blip r:embed="rId1"/>
          <a:stretch/>
        </p:blipFill>
        <p:spPr>
          <a:xfrm>
            <a:off x="4140360" y="2637000"/>
            <a:ext cx="1517400" cy="28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stón de un punto</a:t>
            </a:r>
            <a:endParaRPr b="1" lang="en-US" sz="4400" spc="-1" strike="noStrike">
              <a:solidFill>
                <a:srgbClr val="ffffb7"/>
              </a:solidFill>
              <a:latin typeface="Arial Black"/>
            </a:endParaRPr>
          </a:p>
        </p:txBody>
      </p:sp>
      <p:pic>
        <p:nvPicPr>
          <p:cNvPr id="199" name="" descr=""/>
          <p:cNvPicPr/>
          <p:nvPr/>
        </p:nvPicPr>
        <p:blipFill>
          <a:blip r:embed="rId1"/>
          <a:stretch/>
        </p:blipFill>
        <p:spPr>
          <a:xfrm>
            <a:off x="3995640" y="2276640"/>
            <a:ext cx="1368360" cy="309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Otros problemas son</a:t>
            </a:r>
            <a:r>
              <a:rPr b="0" lang="en-US" sz="3200" spc="-1" strike="noStrike">
                <a:solidFill>
                  <a:srgbClr val="ffffb7"/>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Depresión, ansiedad, ira, nega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Afectación económic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Impacto negativo en la vida familia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Impacto negativo en la vida soc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ios en el uso de muletas</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URA </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muleta axilar, se mide desde el pliegue anterior de la axila hasta el maleolo interno ( lo que queda hasta el piso es para que la muleta no se apoye en la axila),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muleta de antebrazo se mide desde el olècranon hasta el suelo y la empuñadura debe de quedar a la altura del trocánter may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ios en el uso de muletas</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paciente debe apoyar todo el peso sobre las muletas, ejerciendo presión con su brazo y manos extendidas en la empuñadura de las muleta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ios en el uso de muletas</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uando el paciente está de pié  las muletas deben estar ligeramente anguladas por fuera del cuerpo y apoyadas a unos 10 cms aproximadamente del pie, las muletas se sujetan al cuerpo por intermedio de los aductores del hombro y no por presión de la muleta en el interior de la axil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presión sobre el axila conlleva el riesgo de lesión del plexo braqui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ios en el uso de muletas</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empuñadura de las muletas de antebrazo debe quedar a la altura del trocanter mayo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ando se utiliza una sola muleta o bastón esta debe utilizarse contralateralmente a la pierna afectada (o de la más afectada</a:t>
            </a:r>
            <a:r>
              <a:rPr b="0" lang="en-US" sz="3200" spc="-1" strike="noStrike">
                <a:solidFill>
                  <a:srgbClr val="ffffff"/>
                </a:solidFill>
                <a:latin typeface="Arial"/>
              </a:rPr>
              <a:t>)</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Ejemplos de afecciones frecuentes del sistema nervioso que son discapacitantes </a:t>
            </a:r>
            <a:r>
              <a:rPr b="0" lang="en-US" sz="2800" spc="-1" strike="noStrike">
                <a:solidFill>
                  <a:srgbClr val="ffffb7"/>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Enfermedad cerebro</a:t>
            </a:r>
            <a:r>
              <a:rPr b="0" lang="en-US" sz="2800" spc="-1" strike="noStrike">
                <a:solidFill>
                  <a:srgbClr val="ffffb7"/>
                </a:solidFill>
                <a:latin typeface="Arial"/>
              </a:rPr>
              <a:t> vascula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Par</a:t>
            </a:r>
            <a:r>
              <a:rPr b="0" lang="es-ES" sz="2800" spc="-1" strike="noStrike">
                <a:solidFill>
                  <a:srgbClr val="ffffb7"/>
                </a:solidFill>
                <a:latin typeface="Arial"/>
              </a:rPr>
              <a:t>á</a:t>
            </a:r>
            <a:r>
              <a:rPr b="0" lang="en-US" sz="2800" spc="-1" strike="noStrike">
                <a:solidFill>
                  <a:srgbClr val="ffffb7"/>
                </a:solidFill>
                <a:latin typeface="Arial"/>
              </a:rPr>
              <a:t>lisis cerebr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Enfermedad</a:t>
            </a:r>
            <a:r>
              <a:rPr b="0" lang="en-US" sz="2800" spc="-1" strike="noStrike">
                <a:solidFill>
                  <a:srgbClr val="ffffb7"/>
                </a:solidFill>
                <a:latin typeface="Arial"/>
              </a:rPr>
              <a:t> de Parkins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Trauma c</a:t>
            </a:r>
            <a:r>
              <a:rPr b="0" lang="es-ES" sz="2800" spc="-1" strike="noStrike">
                <a:solidFill>
                  <a:srgbClr val="ffffb7"/>
                </a:solidFill>
                <a:latin typeface="Arial"/>
              </a:rPr>
              <a:t>ráneo  encefálico</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Lesión medula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Esclerosis múltipl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Poli neuropatía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pectos de la rehabilitación neurológica </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ratamiento postural</a:t>
            </a:r>
            <a:endParaRPr b="0" lang="en-US" sz="3200" spc="-1" strike="noStrike">
              <a:solidFill>
                <a:srgbClr val="ffffff"/>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educación neuromuscular</a:t>
            </a:r>
            <a:endParaRPr b="0" lang="en-US" sz="3200" spc="-1" strike="noStrike">
              <a:solidFill>
                <a:srgbClr val="ffffff"/>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Independencia funcional en AVD</a:t>
            </a:r>
            <a:endParaRPr b="0" lang="en-US" sz="3200" spc="-1" strike="noStrike">
              <a:solidFill>
                <a:srgbClr val="ffffff"/>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Necesidad de ortesis y de ayudas ortopedicas para la marcha (bastones,  muletas, andador) así como de dispositivos para las AVD</a:t>
            </a:r>
            <a:endParaRPr b="0" lang="en-US" sz="3200" spc="-1" strike="noStrike">
              <a:solidFill>
                <a:srgbClr val="ffffff"/>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Entrenamiento para la March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pectos de la rehabilitación neurológica</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 </a:t>
            </a:r>
            <a:r>
              <a:rPr b="0" lang="es-MX" sz="2800" spc="-1" strike="noStrike">
                <a:solidFill>
                  <a:srgbClr val="ffffb7"/>
                </a:solidFill>
                <a:latin typeface="Arial"/>
              </a:rPr>
              <a:t>Desarrollo de habilidades en el uso de la silla de ruedas.</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Terapia del habla</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Cuidados de vejiga e intestino</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Adecuación psicológica</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Consejos sexuales</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Educación del paciente y familiar</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Rehabilitación profesional</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Integración  social</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Seguimiento en APS  </a:t>
            </a:r>
            <a:r>
              <a:rPr b="0" lang="en-US" sz="2800" spc="-1" strike="noStrike">
                <a:solidFill>
                  <a:srgbClr val="ffffb7"/>
                </a:solidFill>
                <a:latin typeface="Arial"/>
              </a:rPr>
              <a:t>( Comunidad)</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tamiento postural en cama</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Dirigido a prevenir complicaciones secundarias como  </a:t>
            </a:r>
            <a:r>
              <a:rPr b="0" lang="es-ES" sz="2800" spc="-1" strike="noStrike">
                <a:solidFill>
                  <a:srgbClr val="ffffb7"/>
                </a:solidFill>
                <a:latin typeface="Arial"/>
              </a:rPr>
              <a:t>úlceras por presión y contracturas articular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Persigue el alineamiento correcto de todo el cuerpo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Cambio de posición del cuerpo en decúbito  cada 2-3 horas las 24 hora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El paciente y el familiar deben tomar responsabilidad creciente en los cambios posturales y en los cuidados de la pie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3:13:15Z</dcterms:created>
  <dc:creator>Mena</dc:creator>
  <dc:description/>
  <dc:language>en-US</dc:language>
  <cp:lastModifiedBy>aviacion</cp:lastModifiedBy>
  <dcterms:modified xsi:type="dcterms:W3CDTF">2005-02-24T13:48:25Z</dcterms:modified>
  <cp:revision>66</cp:revision>
  <dc:subject/>
  <dc:title>Rehabilitación neurológica</dc:title>
</cp:coreProperties>
</file>