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34A80-505B-4CC1-87B8-91B4BF7B6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ECFE2-8069-45D9-8783-BA3D610F1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90AB5-2C3A-45ED-8E07-3290B9AE6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CC9E6-C9EC-4D76-94F3-4FED1073C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E57AB-E4E0-47B0-AD6E-EA58B7DDB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44A8C-899C-4847-A78E-066F61332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32A23-3028-4B79-9EC6-7D18E0A89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1D6DA-760B-4D25-8B83-544ABBB69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0386C-27B4-4566-8329-AB286BE39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77D2B-DC73-40AB-8B3E-9A7AF976F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93CBF-FE93-48AB-9510-BAC8EC1D4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37F46-6811-4297-B11E-C63E31D72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F21F-C338-4BD4-A360-D489A5012F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457200" y="533520"/>
            <a:ext cx="82296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OVILIZACION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42" name="" descr=""/>
          <p:cNvPicPr/>
          <p:nvPr/>
        </p:nvPicPr>
        <p:blipFill>
          <a:blip r:embed="rId2"/>
          <a:stretch/>
        </p:blipFill>
        <p:spPr>
          <a:xfrm>
            <a:off x="0" y="2362320"/>
            <a:ext cx="9144000" cy="4495680"/>
          </a:xfrm>
          <a:prstGeom prst="rect">
            <a:avLst/>
          </a:prstGeom>
          <a:ln w="0">
            <a:noFill/>
          </a:ln>
        </p:spPr>
      </p:pic>
    </p:spTree>
  </p:cSld>
  <p:transition>
    <p:comb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0" y="58680"/>
            <a:ext cx="8915400" cy="68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3300"/>
                </a:solidFill>
                <a:uFillTx/>
                <a:latin typeface="Times New Roman"/>
              </a:rPr>
              <a:t>Movilización pasiva analítica simp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Llamada movilización clásica, compromete a una sola articulación y suele realizarse en un solo plano de movimiento; se emplea una fuerza pequeña y consigue mantener la movilidad articular aunque no suele aumentar la amplitud del movimient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000000"/>
                </a:solidFill>
                <a:uFillTx/>
                <a:latin typeface="Times New Roman"/>
              </a:rPr>
              <a:t>Consta de 4 tiempo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 </a:t>
            </a:r>
            <a:r>
              <a:rPr b="1" lang="es-ES" sz="2300" spc="-1" strike="noStrike">
                <a:solidFill>
                  <a:srgbClr val="000000"/>
                </a:solidFill>
                <a:latin typeface="Times New Roman"/>
              </a:rPr>
              <a:t>Inicio del movimiento, mantenimiento, retorno y repos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 </a:t>
            </a:r>
            <a:r>
              <a:rPr b="1" lang="es-ES" sz="2300" spc="-1" strike="noStrike">
                <a:solidFill>
                  <a:srgbClr val="000000"/>
                </a:solidFill>
                <a:latin typeface="Times New Roman"/>
              </a:rPr>
              <a:t>(Los tres primeros tiempos son iguales y el último es la suma de los tres anteriore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000000"/>
                </a:solidFill>
                <a:uFillTx/>
                <a:latin typeface="Times New Roman"/>
              </a:rPr>
              <a:t>Principios de la movilización</a:t>
            </a:r>
            <a:endParaRPr b="0" lang="en-US" sz="23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Respetar planos y ejes fisiológicos del organismo.</a:t>
            </a:r>
            <a:endParaRPr b="0" lang="en-US" sz="23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Movilizar en toda la amplitud que permita dicha articulación.</a:t>
            </a:r>
            <a:endParaRPr b="0" lang="en-US" sz="23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Respetar la regla del no dolor.</a:t>
            </a:r>
            <a:endParaRPr b="0" lang="en-US" sz="23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Movilizar utilizando la  toma y contratoma (apoyo y fijación).</a:t>
            </a:r>
            <a:endParaRPr b="0" lang="en-US" sz="23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No intercalar nunca articulaciones intermedias.</a:t>
            </a:r>
            <a:endParaRPr b="0" lang="en-US" sz="23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Dosificar la movilización (el tiempo,  fuerza, la velocidad y repeticiones)</a:t>
            </a:r>
            <a:endParaRPr b="0" lang="en-US" sz="2300" spc="-1" strike="noStrike">
              <a:solidFill>
                <a:srgbClr val="000000"/>
              </a:solidFill>
              <a:latin typeface="Arial"/>
            </a:endParaRPr>
          </a:p>
        </p:txBody>
      </p:sp>
    </p:spTree>
  </p:cSld>
  <p:transition>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152280"/>
            <a:ext cx="9144000" cy="618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3300"/>
                </a:solidFill>
                <a:uFillTx/>
                <a:latin typeface="Times New Roman"/>
              </a:rPr>
              <a:t>Movilización pasiva analítica específic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asocia una única articulación al movimiento pero se utiliza cuando existe limitación de la amplitud articular,  su objetivo es la recuperación de la movilida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ara lograrlo, asocia a la realización del movimiento deslizamientos y descompresiones que dependerán de las características de la articulación a trat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tomas de la movilización son necesariamente corta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l lugar de la fuerza movilizadora está cerca de la interlínea articular) y la contratoma evita en forma eficaz las compensaciones.</a:t>
            </a:r>
            <a:endParaRPr b="0" lang="en-US" sz="2800" spc="-1" strike="noStrike">
              <a:solidFill>
                <a:srgbClr val="000000"/>
              </a:solidFill>
              <a:latin typeface="Arial"/>
            </a:endParaRPr>
          </a:p>
        </p:txBody>
      </p:sp>
    </p:spTree>
  </p:cSld>
  <p:transition>
    <p:comb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0" y="76320"/>
            <a:ext cx="9144000" cy="679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3300"/>
                </a:solidFill>
                <a:uFillTx/>
                <a:latin typeface="Times New Roman"/>
              </a:rPr>
              <a:t>Movilización pasiva funcional o glob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mbina en este caso las diversas posibilidades funcionales de una o varias articulaciones, y asocia movimientos combinados en varios planos para crear un dibujo cinético usual (normalmente de la vida diaria, como puede ser peinars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Principi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socia las distintas articulaciones  así como los grados de libertad de cada una de ell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No es necesario movilizar en toda la amplitud del movimien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Respetar la regla del no dol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os planos del movimiento están combinados y no corresponden a la clasificación anatómic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Utilizar toma y contratom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osificar la movilización (el tiempo,  fuerza, la velocidad y repeticiones</a:t>
            </a:r>
            <a:r>
              <a:rPr b="0" lang="es-ES" sz="2400" spc="-1" strike="noStrike">
                <a:solidFill>
                  <a:srgbClr val="000000"/>
                </a:solidFill>
                <a:latin typeface="Times New Roman"/>
              </a:rPr>
              <a:t>)</a:t>
            </a:r>
            <a:endParaRPr b="0" lang="en-US" sz="2400" spc="-1" strike="noStrike">
              <a:solidFill>
                <a:srgbClr val="000000"/>
              </a:solidFill>
              <a:latin typeface="Arial"/>
            </a:endParaRPr>
          </a:p>
        </p:txBody>
      </p:sp>
    </p:spTree>
  </p:cSld>
  <p:transition>
    <p:comb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0" y="152280"/>
            <a:ext cx="9144000" cy="661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Times New Roman"/>
              </a:rPr>
              <a:t>Movilización pasiva autopasiv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realiza el propio sujeto, en forma manual, instrumental o por articulaciones vecinas a la que quiere moviliza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Autopasiva por las articulaciones vecinas</a:t>
            </a:r>
            <a:r>
              <a:rPr b="0" lang="es-ES" sz="2800" spc="-1" strike="noStrike">
                <a:solidFill>
                  <a:srgbClr val="000000"/>
                </a:solidFill>
                <a:latin typeface="Times New Roman"/>
              </a:rPr>
              <a:t>: se lleva el movimiento por una articulación periférica vecina a la que queremos tratar, por ejemplo, los ejercicios de Codma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Mediante instrumentos</a:t>
            </a:r>
            <a:r>
              <a:rPr b="0" lang="es-ES" sz="2800" spc="-1" strike="noStrike">
                <a:solidFill>
                  <a:srgbClr val="000000"/>
                </a:solidFill>
                <a:latin typeface="Times New Roman"/>
              </a:rPr>
              <a:t>: se puede realizar a través de autopasivos de miembro superior o inferior, en cuyo caso podemos hablar de sistemas homólogos (al mover un miembro superior movilizo el otro miembro superior), simétricos (un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xtensión de una articulación supone igualmente una extensión en la articulación que quiero tratar).</a:t>
            </a:r>
            <a:endParaRPr b="0" lang="en-US" sz="2800" spc="-1" strike="noStrike">
              <a:solidFill>
                <a:srgbClr val="000000"/>
              </a:solidFill>
              <a:latin typeface="Arial"/>
            </a:endParaRPr>
          </a:p>
        </p:txBody>
      </p:sp>
    </p:spTree>
  </p:cSld>
  <p:transition>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0" y="76320"/>
            <a:ext cx="9144000" cy="618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3300"/>
                </a:solidFill>
                <a:uFillTx/>
                <a:latin typeface="Times New Roman"/>
              </a:rPr>
              <a:t>Movilización pasiva articular instrumen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agente movilizador es un aparato. (aparatos de desplazamiento lineal o pueden ser multidirecciona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Principio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spetar siempre el principio de no dolor.</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acer corresponder lo mejor posible el eje mecánico del aparato con el eje fisiológico de la articulación de la articulación.</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finir siempre los límites de las amplitudes articulares alcanzabl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enerse en cuenta los diferentes parámetros de la dosificación.</a:t>
            </a:r>
            <a:endParaRPr b="0" lang="en-US" sz="2800" spc="-1" strike="noStrike">
              <a:solidFill>
                <a:srgbClr val="000000"/>
              </a:solidFill>
              <a:latin typeface="Arial"/>
            </a:endParaRPr>
          </a:p>
        </p:txBody>
      </p:sp>
    </p:spTree>
  </p:cSld>
  <p:transition>
    <p:comb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0" y="228600"/>
            <a:ext cx="9144000" cy="56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3300"/>
                </a:solidFill>
                <a:uFillTx/>
                <a:latin typeface="Times New Roman"/>
              </a:rPr>
              <a:t>Tracciones articular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on técnicas que consisten en ejercer esfuerzos de tracción sobre las piezas articulares con el fin de buscar una disminución de las presiones articulares compresivas, respetando la fisiología del paciente. Se aplican sobre raquis y extremidades, predominando las primeras en frecuencia e importancia.</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objetivos de la tracción articular s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Descompresión o decoaptación articu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Puesta en tensión de las estructuras capsulo-ligamentos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ipos de tracció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Graveda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Instrumental</a:t>
            </a:r>
            <a:endParaRPr b="0" lang="en-US" sz="2400" spc="-1" strike="noStrike">
              <a:solidFill>
                <a:srgbClr val="000000"/>
              </a:solidFill>
              <a:latin typeface="Arial"/>
            </a:endParaRPr>
          </a:p>
        </p:txBody>
      </p:sp>
    </p:spTree>
  </p:cSld>
  <p:transition>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76320"/>
            <a:ext cx="9144000" cy="661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3300"/>
                </a:solidFill>
                <a:uFillTx/>
                <a:latin typeface="Times New Roman"/>
              </a:rPr>
              <a:t>Posturas osteoarticular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Consisten en el mantenimiento de una o varias articulaciones en una posición impuesta con un objetivo preventivo o corrector durante un largo período de tiempo..</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Principi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a:t>
            </a:r>
            <a:r>
              <a:rPr b="1" lang="es-ES" sz="2400" spc="-1" strike="noStrike">
                <a:solidFill>
                  <a:srgbClr val="000000"/>
                </a:solidFill>
                <a:latin typeface="Times New Roman"/>
              </a:rPr>
              <a:t>Van dirigidas a las articulaciones cuya amplitud está limitada por alteración de las diferentes estructuras periarticulares. (ligamentos, cápsula, tendones, músculos, sinovial y planos de deslizamien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eben respetar los planos y ejes de la articulación y la amplitud articular Fisiológic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No deben provocar dol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e realizan progresivamente evitando maniobras rápidas y violenta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n general son esfuerzos de pequeña intensidad, pero muy prolongados en el tiempo  con el fin de evitar la aparición de fenómenos  dolorosos que llevarían a una reacción de protec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p:comb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304920" y="380880"/>
            <a:ext cx="8381880" cy="473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ele realizarse su aplicación de dos formas distintas:</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Continua</a:t>
            </a:r>
            <a:r>
              <a:rPr b="0" lang="en-US" sz="3200" spc="-1" strike="noStrike">
                <a:solidFill>
                  <a:srgbClr val="000000"/>
                </a:solidFill>
                <a:latin typeface="Times New Roman"/>
              </a:rPr>
              <a:t>: esfuerzo corrector aplicado de forma linealmente creciente en el tiempo.</a:t>
            </a:r>
            <a:endParaRPr b="0" lang="en-US" sz="32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t>
            </a:r>
            <a:r>
              <a:rPr b="1" lang="en-US" sz="3200" spc="-1" strike="noStrike" u="sng">
                <a:solidFill>
                  <a:srgbClr val="000000"/>
                </a:solidFill>
                <a:uFillTx/>
                <a:latin typeface="Times New Roman"/>
              </a:rPr>
              <a:t>Palieres:</a:t>
            </a:r>
            <a:r>
              <a:rPr b="0" lang="en-US" sz="3200" spc="-1" strike="noStrike">
                <a:solidFill>
                  <a:srgbClr val="000000"/>
                </a:solidFill>
                <a:latin typeface="Times New Roman"/>
              </a:rPr>
              <a:t> esfuerzos discontinuos con períodos de interrupción en la progresión.</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28600" y="76320"/>
            <a:ext cx="8915400" cy="67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3300"/>
                </a:solidFill>
                <a:uFillTx/>
                <a:latin typeface="Times New Roman"/>
              </a:rPr>
              <a:t>Encontramos según el mecanismo que aplica la postura, 3 form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i="1" lang="es-ES" sz="2800" spc="-1" strike="noStrike" u="sng">
                <a:solidFill>
                  <a:srgbClr val="000000"/>
                </a:solidFill>
                <a:uFillTx/>
                <a:latin typeface="Times New Roman"/>
              </a:rPr>
              <a:t>Posturas osteoarticulares manuales</a:t>
            </a:r>
            <a:r>
              <a:rPr b="1" lang="es-ES" sz="2600" spc="-1" strike="noStrike">
                <a:solidFill>
                  <a:srgbClr val="000000"/>
                </a:solidFill>
                <a:latin typeface="Times New Roman"/>
              </a:rPr>
              <a:t>: se realizan de forma pasiva por el fisioterapeuta, son de menor duración en el tiempo y de una gran precisión en la dirección e intensidad.</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 </a:t>
            </a:r>
            <a:r>
              <a:rPr b="1" i="1" lang="es-ES" sz="2800" spc="-1" strike="noStrike" u="sng">
                <a:solidFill>
                  <a:srgbClr val="000000"/>
                </a:solidFill>
                <a:uFillTx/>
                <a:latin typeface="Times New Roman"/>
              </a:rPr>
              <a:t>Posturas osteoarticulares autopasivas</a:t>
            </a:r>
            <a:r>
              <a:rPr b="1" lang="es-ES" sz="2600" spc="-1" strike="noStrike">
                <a:solidFill>
                  <a:srgbClr val="000000"/>
                </a:solidFill>
                <a:latin typeface="Times New Roman"/>
              </a:rPr>
              <a:t>: ejecutadas por el propio paciente en forma manual o por medio de un sistema cable-polea que él mismo pone en marcha o hacen uso del peso del segmento corporal del paciente para lograr esfuerzos correctores.</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 </a:t>
            </a:r>
            <a:r>
              <a:rPr b="1" i="1" lang="es-ES" sz="2800" spc="-1" strike="noStrike" u="sng">
                <a:solidFill>
                  <a:srgbClr val="000000"/>
                </a:solidFill>
                <a:uFillTx/>
                <a:latin typeface="Times New Roman"/>
              </a:rPr>
              <a:t>Posturas osteoarticulares instrumentales</a:t>
            </a:r>
            <a:r>
              <a:rPr b="1" i="1" lang="es-ES" sz="2600" spc="-1" strike="noStrike" u="sng">
                <a:solidFill>
                  <a:srgbClr val="000000"/>
                </a:solidFill>
                <a:uFillTx/>
                <a:latin typeface="Times New Roman"/>
              </a:rPr>
              <a:t>:</a:t>
            </a:r>
            <a:r>
              <a:rPr b="1" lang="es-ES" sz="2600" spc="-1" strike="noStrike">
                <a:solidFill>
                  <a:srgbClr val="000000"/>
                </a:solidFill>
                <a:latin typeface="Times New Roman"/>
              </a:rPr>
              <a:t> No son dosificadas por el paciente, sino por el fisioterapeuta de forma indirecta fijando los parámetros o las cargas a aplicar, fijando las cinchas o tiras que provocan el mantenimiento de la posición o fijando la ortesis o férula correctora.</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comb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0" y="76320"/>
            <a:ext cx="9144000" cy="672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3300"/>
                </a:solidFill>
                <a:uFillTx/>
                <a:latin typeface="Times New Roman"/>
              </a:rPr>
              <a:t>Estiramientos músculo-tendinos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Maniobras manuales, pasivas o autopasivas, destinadas a colocar en trayectoria externa máxima la estructura músculotendinosa, con el fin de estirar los componentes contráctiles, extensibles y/o los componentes no contráctiles poco o nada extensibles.</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Su fin es lograr un alargamiento de estructuras anormalmente acortadas o lograr un aumento de la extensibilidad con una finalidad generalmente deportiva, o de forma terapéutica para interrumpir una disfunción neuromuscular como puede ser un calambre o la espasticidad.</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Se puede realizar de forma poli o monoarticular.</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Una técnica de estiramiento debe realizarse siguiendo los componentes espaciales de las diferentes articulaciones atravesadas, contrariamente a la acción muscular.</a:t>
            </a:r>
            <a:endParaRPr b="0" lang="en-US" sz="2600" spc="-1" strike="noStrike">
              <a:solidFill>
                <a:srgbClr val="000000"/>
              </a:solidFill>
              <a:latin typeface="Arial"/>
            </a:endParaRPr>
          </a:p>
        </p:txBody>
      </p:sp>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0" y="152280"/>
            <a:ext cx="9144000" cy="625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u="sng">
                <a:solidFill>
                  <a:srgbClr val="ff3300"/>
                </a:solidFill>
                <a:uFillTx/>
                <a:latin typeface="Times New Roman"/>
              </a:rPr>
              <a:t>DEFINICIÓ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l significado de la palabra Kinesiterapia hay que buscarlo en su etimología, procedente del griego une dos raíces, </a:t>
            </a:r>
            <a:r>
              <a:rPr b="1" lang="es-ES" sz="3600" spc="-1" strike="noStrike">
                <a:solidFill>
                  <a:srgbClr val="ff3300"/>
                </a:solidFill>
                <a:latin typeface="Times New Roman"/>
              </a:rPr>
              <a:t>Kinesis</a:t>
            </a:r>
            <a:r>
              <a:rPr b="1" lang="es-ES" sz="3600" spc="-1" strike="noStrike">
                <a:solidFill>
                  <a:srgbClr val="000000"/>
                </a:solidFill>
                <a:latin typeface="Times New Roman"/>
              </a:rPr>
              <a:t> (movimiento) y </a:t>
            </a:r>
            <a:r>
              <a:rPr b="1" lang="es-ES" sz="3600" spc="-1" strike="noStrike">
                <a:solidFill>
                  <a:srgbClr val="ff3300"/>
                </a:solidFill>
                <a:latin typeface="Times New Roman"/>
              </a:rPr>
              <a:t>Therapeia</a:t>
            </a:r>
            <a:r>
              <a:rPr b="1" lang="es-ES" sz="3600" spc="-1" strike="noStrike">
                <a:solidFill>
                  <a:srgbClr val="000000"/>
                </a:solidFill>
                <a:latin typeface="Times New Roman"/>
              </a:rPr>
              <a:t> (curación o cuidad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Se puede definir entonces Kinesiterapia como el conjunto de procedimientos terapéuticos cuyo fin es el tratamiento de las enfermedades mediante el movimiento.</a:t>
            </a:r>
            <a:endParaRPr b="0" lang="en-US" sz="3600" spc="-1" strike="noStrike">
              <a:solidFill>
                <a:srgbClr val="000000"/>
              </a:solidFill>
              <a:latin typeface="Arial"/>
            </a:endParaRPr>
          </a:p>
        </p:txBody>
      </p:sp>
    </p:spTree>
  </p:cSld>
  <p:transition>
    <p:comb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685800"/>
            <a:ext cx="8610480" cy="531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3300"/>
                </a:solidFill>
                <a:uFillTx/>
                <a:latin typeface="Times New Roman"/>
              </a:rPr>
              <a:t>Técnicas de Estiramientos músculo-tendinosos</a:t>
            </a:r>
            <a:endParaRPr b="0" lang="en-US" sz="28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Manuales:</a:t>
            </a:r>
            <a:r>
              <a:rPr b="1" lang="es-ES" sz="2400" spc="-1" strike="noStrike">
                <a:solidFill>
                  <a:srgbClr val="000000"/>
                </a:solidFill>
                <a:latin typeface="Times New Roman"/>
              </a:rPr>
              <a:t> </a:t>
            </a:r>
            <a:r>
              <a:rPr b="1" lang="es-ES" sz="2600" spc="-1" strike="noStrike">
                <a:solidFill>
                  <a:srgbClr val="000000"/>
                </a:solidFill>
                <a:latin typeface="Times New Roman"/>
              </a:rPr>
              <a:t>Ejecutadas por el reeducador, se le indica que realice una fuerte</a:t>
            </a:r>
            <a:r>
              <a:rPr b="1" lang="es-ES" sz="2600" spc="-1" strike="noStrike">
                <a:solidFill>
                  <a:srgbClr val="000000"/>
                </a:solidFill>
                <a:latin typeface="Arial"/>
              </a:rPr>
              <a:t>  contracción estática  </a:t>
            </a:r>
            <a:r>
              <a:rPr b="1" lang="es-ES" sz="2600" spc="-1" strike="noStrike">
                <a:solidFill>
                  <a:srgbClr val="000000"/>
                </a:solidFill>
                <a:latin typeface="Times New Roman"/>
              </a:rPr>
              <a:t>mantenida por 20 segundos y seguida de un periodo de relajación de 6 segundos como mínimo y al finalizar el músculo en cuestión se estira progresivamente.</a:t>
            </a:r>
            <a:endParaRPr b="0" lang="en-US" sz="2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aparece contracción durante el estiramiento se pueden utilizar la  técnica de </a:t>
            </a:r>
            <a:r>
              <a:rPr b="0" i="1" lang="es-ES" sz="2800" spc="-1" strike="noStrike">
                <a:solidFill>
                  <a:srgbClr val="ff3300"/>
                </a:solidFill>
                <a:latin typeface="Times New Roman"/>
              </a:rPr>
              <a:t>tensión-relajación</a:t>
            </a:r>
            <a:r>
              <a:rPr b="0" lang="es-ES" sz="2800" spc="-1" strike="noStrike">
                <a:solidFill>
                  <a:srgbClr val="000000"/>
                </a:solidFill>
                <a:latin typeface="Times New Roman"/>
              </a:rPr>
              <a:t> o la </a:t>
            </a:r>
            <a:r>
              <a:rPr b="0" i="1" lang="es-ES" sz="2800" spc="-1" strike="noStrike">
                <a:solidFill>
                  <a:srgbClr val="ff3300"/>
                </a:solidFill>
                <a:latin typeface="Times New Roman"/>
              </a:rPr>
              <a:t>contracción-relajació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Técnica autopasiva</a:t>
            </a:r>
            <a:r>
              <a:rPr b="0" lang="es-ES" sz="2800" spc="-1" strike="noStrike">
                <a:solidFill>
                  <a:srgbClr val="000000"/>
                </a:solidFill>
                <a:latin typeface="Times New Roman"/>
              </a:rPr>
              <a:t>. El paciente  mismo realiza y controla la tecnica de estiramiento músculo ligamentoso.  </a:t>
            </a:r>
            <a:endParaRPr b="0" lang="en-US" sz="2800" spc="-1" strike="noStrike">
              <a:solidFill>
                <a:srgbClr val="000000"/>
              </a:solidFill>
              <a:latin typeface="Arial"/>
            </a:endParaRPr>
          </a:p>
        </p:txBody>
      </p:sp>
    </p:spTree>
  </p:cSld>
  <p:transition>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0" y="228600"/>
            <a:ext cx="9144000" cy="555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Manipulacion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manipulación es una movilización pasiva forzada, que se realiza a través de un movimiento enérgico, no violento, y no doloroso para el paciente, que tiende a llevar los elementos de una articulación o un conjunto de ellas más allá de su juego habitual, hasta el límite de su posible movilidad anatómic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manipulación es, por tanto, un acto médico; debe ser un gesto ortopédico muy preciso cuyas coordenadas están determinadas por un examen previo.</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0" y="0"/>
            <a:ext cx="8915400" cy="673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3300"/>
                </a:solidFill>
                <a:uFillTx/>
                <a:latin typeface="Times New Roman"/>
              </a:rPr>
              <a:t>INDICACIONES DE LAS MOVILIZACIONES PASIVAS</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Terapéutica previa a otros tipos de movilizacion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parálisis flácida; en este caso es la terapia de elecció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contracturas de origen central, por su efecto relajant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Como terapéutica preventiva en ciertos procesos, a fin 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conservar la movi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evitar rigideces articulares y limita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evitar retracciones conservando la longitud muscular,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evitar anquilosis en posiciones viciosa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afecciones traumáticas y ortopédicas que cur­sen c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bloqueos articula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trastornos mecánicos raquídeos o articula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rigideces articul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retracción de partes bland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dolores radiculares rebeldes a otros tratamien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 </a:t>
            </a:r>
            <a:r>
              <a:rPr b="1" lang="es-MX" sz="2400" spc="-1" strike="noStrike">
                <a:solidFill>
                  <a:srgbClr val="000000"/>
                </a:solidFill>
                <a:latin typeface="Times New Roman"/>
              </a:rPr>
              <a:t>desviaciones de columna vertebral, etc.</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n procesos vasculares periféricos y respiratorios. </a:t>
            </a:r>
            <a:endParaRPr b="0" lang="en-US" sz="2400" spc="-1" strike="noStrike">
              <a:solidFill>
                <a:srgbClr val="000000"/>
              </a:solidFill>
              <a:latin typeface="Arial"/>
            </a:endParaRPr>
          </a:p>
        </p:txBody>
      </p:sp>
    </p:spTree>
  </p:cSld>
  <p:transition>
    <p:comb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0" y="76320"/>
            <a:ext cx="9144000" cy="688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3300"/>
                </a:solidFill>
                <a:uFillTx/>
                <a:latin typeface="Times New Roman"/>
              </a:rPr>
              <a:t>CONTRAINDICACIONES DE LAS MOVILIZACIONES PASIVA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600" spc="-1" strike="noStrike">
                <a:solidFill>
                  <a:srgbClr val="000000"/>
                </a:solidFill>
                <a:latin typeface="Times New Roman"/>
              </a:rPr>
              <a:t>Aquellos casos en que no se tiene la seguridad de su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indicación y/o del modo de llevarla a  cabo.</a:t>
            </a: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Procesos inflamatorios o infecciosos agudos.</a:t>
            </a: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Fracturas en su período de consolidación. </a:t>
            </a: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Osteotomías o artrodesis.</a:t>
            </a: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Articulaciones muy dolorosas.</a:t>
            </a: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Derrames articulares</a:t>
            </a: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Rigideces articulares postraumáticas.</a:t>
            </a: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Hiperlaxitud articular, con la excepción de la pará­lisis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flácida.</a:t>
            </a: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Anquilosis establecida.</a:t>
            </a:r>
            <a:endParaRPr b="0" lang="en-US" sz="2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Tumores óseos o medulares, en la osteoporosis infecciosa 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inflamatoria en el caso de las manipulaciones o en los qu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no se ha descartado la presencia de metástasis óseas d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a:t>
            </a:r>
            <a:r>
              <a:rPr b="1" lang="es-MX" sz="2600" spc="-1" strike="noStrike">
                <a:solidFill>
                  <a:srgbClr val="000000"/>
                </a:solidFill>
                <a:latin typeface="Times New Roman"/>
              </a:rPr>
              <a:t>localización vertebral, en el caso de las tracciones vertebrales.</a:t>
            </a:r>
            <a:endParaRPr b="0" lang="en-US" sz="2600" spc="-1" strike="noStrike">
              <a:solidFill>
                <a:srgbClr val="000000"/>
              </a:solidFill>
              <a:latin typeface="Arial"/>
            </a:endParaRPr>
          </a:p>
        </p:txBody>
      </p:sp>
    </p:spTree>
  </p:cSld>
  <p:transition>
    <p:comb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txBox="1"/>
          <p:nvPr/>
        </p:nvSpPr>
        <p:spPr>
          <a:xfrm>
            <a:off x="380880" y="685800"/>
            <a:ext cx="7853400" cy="228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UCHAS GRACIA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73" name="" descr=""/>
          <p:cNvPicPr/>
          <p:nvPr/>
        </p:nvPicPr>
        <p:blipFill>
          <a:blip r:embed="rId2"/>
          <a:stretch/>
        </p:blipFill>
        <p:spPr>
          <a:xfrm>
            <a:off x="2057400" y="2743200"/>
            <a:ext cx="4038480" cy="3043080"/>
          </a:xfrm>
          <a:prstGeom prst="rect">
            <a:avLst/>
          </a:prstGeom>
          <a:ln w="0">
            <a:noFill/>
          </a:ln>
        </p:spPr>
      </p:pic>
    </p:spTree>
  </p:cSld>
  <p:transition>
    <p:comb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39">
                                  <p:stCondLst>
                                    <p:cond delay="0"/>
                                  </p:stCondLst>
                                  <p:childTnLst>
                                    <p:animMotion origin="layout" path="M 0 0 C 0 0.04667 0.028 0.08267 0.062 0.08267 C 0.097 0.08267 0.125 0.04667 0.125 0 C 0.125 -0.04667 0.153 -0.08267 0.188 -0.08267 C 0.222 -0.08267 0.25 -0.04667 0.25 0 E">
                                      <p:cBhvr>
                                        <p:cTn id="6" dur="2000" fill="hold"/>
                                        <p:tgtEl>
                                          <p:spTgt spid="73"/>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8">
                                  <p:stCondLst>
                                    <p:cond delay="0"/>
                                  </p:stCondLst>
                                  <p:childTnLst>
                                    <p:animRot by="21600000">
                                      <p:cBhvr>
                                        <p:cTn id="10" dur="2000" fill="hold"/>
                                        <p:tgtEl>
                                          <p:spTgt spid="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228600" y="76320"/>
            <a:ext cx="8534520" cy="643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Times New Roman"/>
              </a:rPr>
              <a:t>MODALIDADES KINESITERAPI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gún  la participación del paciente, al área de aplicación del tratamiento,</a:t>
            </a:r>
            <a:r>
              <a:rPr b="0" lang="en-US" sz="3200" spc="-1" strike="noStrike">
                <a:solidFill>
                  <a:srgbClr val="000000"/>
                </a:solidFill>
                <a:latin typeface="Times New Roman"/>
              </a:rPr>
              <a:t> </a:t>
            </a:r>
            <a:r>
              <a:rPr b="0" lang="en-US" sz="2800" spc="-1" strike="noStrike">
                <a:solidFill>
                  <a:srgbClr val="000000"/>
                </a:solidFill>
                <a:latin typeface="Times New Roman"/>
              </a:rPr>
              <a:t>al estado de la articula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000000"/>
                </a:solidFill>
                <a:uFillTx/>
                <a:latin typeface="Times New Roman"/>
              </a:rPr>
              <a:t>Así obtenemos las siguientes clasificaciones:</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úmero de personas atendidas: Individual o colectiva.</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vidad del tratamiento: Analítica (tratamos una única articulación y probablemente en un solo plano y eje de movimiento) o global/funcional (varias articulaciones).</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stado de la articulación: relajada (articulaciones libres) o forzada (articulaciones no libres)</a:t>
            </a:r>
            <a:endParaRPr b="0" lang="en-US" sz="3200" spc="-1" strike="noStrike">
              <a:solidFill>
                <a:srgbClr val="000000"/>
              </a:solidFill>
              <a:latin typeface="Arial"/>
            </a:endParaRPr>
          </a:p>
        </p:txBody>
      </p:sp>
    </p:spTree>
  </p:cSld>
  <p:transition>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762120"/>
            <a:ext cx="9144000" cy="6095880"/>
          </a:xfrm>
          <a:prstGeom prst="rect">
            <a:avLst/>
          </a:prstGeom>
          <a:ln w="0">
            <a:noFill/>
          </a:ln>
        </p:spPr>
      </p:pic>
      <p:sp>
        <p:nvSpPr>
          <p:cNvPr id="46" name=""/>
          <p:cNvSpPr/>
          <p:nvPr/>
        </p:nvSpPr>
        <p:spPr>
          <a:xfrm>
            <a:off x="304920" y="0"/>
            <a:ext cx="8381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gún  la participación del paciente, facilitación o resistencia externas</a:t>
            </a:r>
            <a:r>
              <a:rPr b="1" lang="en-US" sz="2600" spc="-1" strike="noStrike">
                <a:solidFill>
                  <a:srgbClr val="000000"/>
                </a:solidFill>
                <a:latin typeface="Arial"/>
              </a:rPr>
              <a:t> </a:t>
            </a:r>
            <a:r>
              <a:rPr b="1" lang="en-US" sz="2600" spc="-1" strike="noStrike">
                <a:solidFill>
                  <a:srgbClr val="000000"/>
                </a:solidFill>
                <a:latin typeface="Times New Roman"/>
              </a:rPr>
              <a:t>del movimiento</a:t>
            </a:r>
            <a:endParaRPr b="0" lang="en-US" sz="2600" spc="-1" strike="noStrike">
              <a:solidFill>
                <a:srgbClr val="000000"/>
              </a:solidFill>
              <a:latin typeface="Arial"/>
            </a:endParaRPr>
          </a:p>
        </p:txBody>
      </p:sp>
    </p:spTree>
  </p:cSld>
  <p:transition>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0"/>
            <a:ext cx="9144000" cy="990720"/>
          </a:xfrm>
          <a:prstGeom prst="rect">
            <a:avLst/>
          </a:prstGeom>
          <a:ln w="0">
            <a:noFill/>
          </a:ln>
        </p:spPr>
      </p:pic>
      <p:pic>
        <p:nvPicPr>
          <p:cNvPr id="48" name="" descr=""/>
          <p:cNvPicPr/>
          <p:nvPr/>
        </p:nvPicPr>
        <p:blipFill>
          <a:blip r:embed="rId3"/>
          <a:stretch/>
        </p:blipFill>
        <p:spPr>
          <a:xfrm>
            <a:off x="0" y="762120"/>
            <a:ext cx="9144000" cy="6018120"/>
          </a:xfrm>
          <a:prstGeom prst="rect">
            <a:avLst/>
          </a:prstGeom>
          <a:ln w="0">
            <a:noFill/>
          </a:ln>
        </p:spPr>
      </p:pic>
    </p:spTree>
  </p:cSld>
  <p:transition>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0" y="174600"/>
            <a:ext cx="9144000" cy="597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u="sng">
                <a:solidFill>
                  <a:srgbClr val="ff3300"/>
                </a:solidFill>
                <a:uFillTx/>
                <a:latin typeface="Times New Roman"/>
              </a:rPr>
              <a:t>ACCIONES FISIOLOGICAS  DE LAS MOVILIZACION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 </a:t>
            </a:r>
            <a:r>
              <a:rPr b="1" lang="es-MX" sz="2800" spc="-1" strike="noStrike" u="sng">
                <a:solidFill>
                  <a:srgbClr val="000000"/>
                </a:solidFill>
                <a:uFillTx/>
                <a:latin typeface="Times New Roman"/>
              </a:rPr>
              <a:t>Efectos loca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El ejercicio mejora la circulación, por acci</a:t>
            </a:r>
            <a:r>
              <a:rPr b="1" lang="es-ES_tradnl" sz="2200" spc="-1" strike="noStrike">
                <a:solidFill>
                  <a:srgbClr val="000000"/>
                </a:solidFill>
                <a:latin typeface="Times New Roman"/>
              </a:rPr>
              <a:t>ón </a:t>
            </a:r>
            <a:r>
              <a:rPr b="1" lang="es-MX" sz="2200" spc="-1" strike="noStrike">
                <a:solidFill>
                  <a:srgbClr val="000000"/>
                </a:solidFill>
                <a:latin typeface="Times New Roman"/>
              </a:rPr>
              <a:t> de bomba mecánica que contribuye al retorno venoso y linfátic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un aumento del volumen muscular por hipertrofia de las fibras y/o aumento de la red capila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provocan la combustión del glucógeno y un mayor aflujo de sangre al músculo (hiperemia), lo que le confiere mayor amplitud funcional y aumento de la contractilida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fortalecen los músculos y su resistencia, y favorecen la potencia muscula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pueden distender estructuras fibrosas que pudieran estar acortadas o retraída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Favorecen  el estiramiento de cápsulas y ligamentos, junto a un estímulo de la secreción sinovial, hace más fácil la realización de los movimiento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estimula su funcionamiento y la transmisión del impulso nervioso a la placa motora, lo que se traduce en una mejora en el equilibrio y la coordinación de los movimientos.</a:t>
            </a:r>
            <a:endParaRPr b="0" lang="en-US" sz="2200" spc="-1" strike="noStrike">
              <a:solidFill>
                <a:srgbClr val="000000"/>
              </a:solidFill>
              <a:latin typeface="Arial"/>
            </a:endParaRPr>
          </a:p>
        </p:txBody>
      </p:sp>
    </p:spTree>
  </p:cSld>
  <p:transition>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609480" y="457200"/>
            <a:ext cx="8001000" cy="566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B) </a:t>
            </a:r>
            <a:r>
              <a:rPr b="1" lang="es-MX" sz="2800" spc="-1" strike="noStrike" u="sng">
                <a:solidFill>
                  <a:srgbClr val="000000"/>
                </a:solidFill>
                <a:uFillTx/>
                <a:latin typeface="Times New Roman"/>
              </a:rPr>
              <a:t>EFECTOS GENERA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El ejercicio produce un aumento del trabajo cardíaco, que puede conducir a una mejor vascularización e hipertrofia.</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Si los movimientos son generalizados y de suficiente intensidad, puede aumentarse la circulación general por una disminución de la resistencia periférica, lo que favorece el intercambio tisular.</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La actividad muscular activa la termogénesis, lo se traduce en una elevación de la temperatura.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 El ejercicio conlleva efectos psíquicos favorables y conduce a un estado físico satisfactorio, factor importante por sus repercusiones en el deseo de recuperación de los enfermos.</a:t>
            </a:r>
            <a:endParaRPr b="0" lang="en-US" sz="2600" spc="-1" strike="noStrike">
              <a:solidFill>
                <a:srgbClr val="000000"/>
              </a:solidFill>
              <a:latin typeface="Arial"/>
            </a:endParaRPr>
          </a:p>
        </p:txBody>
      </p:sp>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914400" y="4373640"/>
            <a:ext cx="6858000" cy="5814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gún el grado de libertad articular</a:t>
            </a:r>
            <a:r>
              <a:rPr b="0" lang="es-MX" sz="3200" spc="-1" strike="noStrike">
                <a:solidFill>
                  <a:srgbClr val="000000"/>
                </a:solidFill>
                <a:latin typeface="Times New Roman"/>
              </a:rPr>
              <a:t>	</a:t>
            </a:r>
            <a:endParaRPr b="0" lang="en-US" sz="3200" spc="-1" strike="noStrike">
              <a:solidFill>
                <a:srgbClr val="000000"/>
              </a:solidFill>
              <a:latin typeface="Arial"/>
            </a:endParaRPr>
          </a:p>
        </p:txBody>
      </p:sp>
      <p:sp>
        <p:nvSpPr>
          <p:cNvPr id="52" name=""/>
          <p:cNvSpPr/>
          <p:nvPr/>
        </p:nvSpPr>
        <p:spPr>
          <a:xfrm>
            <a:off x="304920" y="457200"/>
            <a:ext cx="8610480" cy="356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t>
            </a:r>
            <a:r>
              <a:rPr b="1" i="1" lang="es-ES" sz="2800" spc="-1" strike="noStrike">
                <a:solidFill>
                  <a:srgbClr val="ff3300"/>
                </a:solidFill>
                <a:latin typeface="Times New Roman"/>
              </a:rPr>
              <a:t>C</a:t>
            </a:r>
            <a:r>
              <a:rPr b="1" i="1" lang="es-ES" sz="3200" spc="-1" strike="noStrike">
                <a:solidFill>
                  <a:srgbClr val="ff3300"/>
                </a:solidFill>
                <a:latin typeface="Times New Roman"/>
              </a:rPr>
              <a:t>inesiterapia pasiva</a:t>
            </a:r>
            <a:r>
              <a:rPr b="0" lang="es-ES" sz="2800" spc="-1" strike="noStrike">
                <a:solidFill>
                  <a:srgbClr val="000000"/>
                </a:solidFill>
                <a:latin typeface="Times New Roman"/>
              </a:rPr>
              <a:t> es el conjunto de técnicas aplicadas a las estructuras afectadas del paciente y destinadas a tratar las consecuencias de las enfermedades de los sistemas o aparatos osteoarticular, muscular, cardiovascular y respiratorio sin que el paciente realice ningún movimiento voluntario de la zona a tratar, sino que este movimiento le es comunicado por una fuerza externa a la que el paciente ni ayude ni resiste.</a:t>
            </a:r>
            <a:endParaRPr b="0" lang="en-US" sz="2800" spc="-1" strike="noStrike">
              <a:solidFill>
                <a:srgbClr val="000000"/>
              </a:solidFill>
              <a:latin typeface="Arial"/>
            </a:endParaRPr>
          </a:p>
        </p:txBody>
      </p:sp>
      <p:sp>
        <p:nvSpPr>
          <p:cNvPr id="53" name=""/>
          <p:cNvSpPr/>
          <p:nvPr/>
        </p:nvSpPr>
        <p:spPr>
          <a:xfrm>
            <a:off x="228600" y="5805360"/>
            <a:ext cx="3962520" cy="82548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
            </a:r>
            <a:r>
              <a:rPr b="1" lang="es-MX" sz="2400" spc="-1" strike="noStrike">
                <a:solidFill>
                  <a:srgbClr val="000000"/>
                </a:solidFill>
                <a:latin typeface="Arial"/>
              </a:rPr>
              <a:t>La cinesiterapia pasiva relajada.</a:t>
            </a:r>
            <a:endParaRPr b="0" lang="en-US" sz="2400" spc="-1" strike="noStrike">
              <a:solidFill>
                <a:srgbClr val="000000"/>
              </a:solidFill>
              <a:latin typeface="Arial"/>
            </a:endParaRPr>
          </a:p>
        </p:txBody>
      </p:sp>
      <p:sp>
        <p:nvSpPr>
          <p:cNvPr id="54" name=""/>
          <p:cNvSpPr/>
          <p:nvPr/>
        </p:nvSpPr>
        <p:spPr>
          <a:xfrm>
            <a:off x="4800600" y="5791320"/>
            <a:ext cx="3886200" cy="825480"/>
          </a:xfrm>
          <a:prstGeom prst="rect">
            <a:avLst/>
          </a:prstGeom>
          <a:solidFill>
            <a:srgbClr val="ffffcc"/>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1" lang="es-MX" sz="2400" spc="-1" strike="noStrike">
                <a:solidFill>
                  <a:srgbClr val="000000"/>
                </a:solidFill>
                <a:latin typeface="Arial"/>
              </a:rPr>
              <a:t>La cinesiterapia pasiva forzada.</a:t>
            </a:r>
            <a:endParaRPr b="0" lang="en-US" sz="2400" spc="-1" strike="noStrike">
              <a:solidFill>
                <a:srgbClr val="000000"/>
              </a:solidFill>
              <a:latin typeface="Arial"/>
            </a:endParaRPr>
          </a:p>
        </p:txBody>
      </p:sp>
      <p:sp>
        <p:nvSpPr>
          <p:cNvPr id="55" name=""/>
          <p:cNvSpPr/>
          <p:nvPr/>
        </p:nvSpPr>
        <p:spPr>
          <a:xfrm flipH="1">
            <a:off x="1600200" y="510552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638680" y="5029200"/>
            <a:ext cx="838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0" y="0"/>
            <a:ext cx="9144000" cy="6858000"/>
          </a:xfrm>
          <a:prstGeom prst="rect">
            <a:avLst/>
          </a:prstGeom>
          <a:ln w="0">
            <a:noFill/>
          </a:ln>
        </p:spPr>
      </p:pic>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isoterapia</cp:lastModifiedBy>
  <dcterms:modified xsi:type="dcterms:W3CDTF">2007-02-20T13:32:15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