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E21-EBAC-4396-81C5-6719FA7B0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B0D-6D66-4BA3-A67C-95B7A73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916-A2BF-42BC-A715-80D4871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6E1-E01B-4743-B84C-AB2EE981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3A5-76CE-4213-968F-B02CC32D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5FB-D260-4091-A32A-80C2EA94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5617-142D-4979-8535-5EF4470F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439-0319-43C9-BDE6-6419906F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5D33-1579-4B54-811D-E0A6605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2B8-E17B-42D8-A32A-A96195C6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92BE-FF88-44A1-9DA8-ABEB6505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EDA6-2FD4-4BB3-A1BF-285D440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FD3B-72F4-4E27-9EEC-D39B199D51E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6920" y="679320"/>
            <a:ext cx="101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A REHABILITACION EN LAS LESI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RAUMATICAS D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2760" y="330048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OSPITAL Dr. Luis Díaz S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7080"/>
            <a:ext cx="8744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9906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SE CRONIC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á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toforesis con ácido ascético (1 - 2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 (Pulsatil) 0.5 - 1w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asta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OTERAP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Relajar y elongar, amasa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tamiento de rigideces y adherencias articula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écnicas de estira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ENTORSIS DEL TOB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52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AD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 (24 - 36 H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tesis o vend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 (1 - 2 SEMAN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dro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&gt;S  Pulsatil 0.2-0.3 w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cha (mecanoterapi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D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rar el apoyo (descargar con 2 bastone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aje funcional bl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REHABILITADOR 2-3 SEMA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omasaje (hidroso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áser diodo rojo 670 n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de impulsos bidireccionales entre 8 - 25 Hz y 200-250 m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tamiento del edema, drenaje pos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rcicios (mecanoterap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744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9525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O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ción del criteri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movilización al retirar el y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dro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f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tamiento del edema y dren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jercicios de propiocep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ciación y cinesiterap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NFLICTO TIBIO ASTRAGAL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952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ño de paraf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toforesis (con ácido acét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ASCITIS PLANTAR Y ESPOLON CALCAN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52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 (agu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áser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9296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imes New Roman"/>
              </a:rPr>
              <a:t>PATOLOGIA MENIS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2666520"/>
            <a:ext cx="8744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TAMIENTO CONSERV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TAMIENTO QUIRURG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ATOLOGIA MENIS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Pre-quirúrgico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tener o aumentar movilidad 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alecimiento mus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Post-quirúrg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ciones isometricas del cuadric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43800"/>
            <a:ext cx="874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9601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s-ES_tradnl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ctroestimulacion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dolor o derrame en fondo de sa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acciones isometricas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tenciación progresiva según toler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US" sz="4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9525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ograr amplitud articular compl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otenciación global de cuadriceps e isquiotibi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rcha y ejercicios propioceptivos en planos inclina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PERIOSTIT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967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ANISMO DE PRODU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pturas de microvasos del periosteo endogeno que desencadena el proceso inflam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or: Aparece al final del entre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uede instaurar en las A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IZ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3 distales de la tibia en la cresta antero in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teral en el 50% de l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magrafia: Zona de hipercaptacion longitudinal que refuerza el margen ós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RUPTURA DE LIGAMEN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952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CONSER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se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lamación y do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rofias mus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estimul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ciones isométr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343800"/>
            <a:ext cx="874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9448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imitación articul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vilizaciones de rót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Fase de potenciación muscul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ectroestimulac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cciones isometr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ercicios fortalece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cción de la marc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48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NESTABILIDAD ROTUL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944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- LUXAC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agu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cr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recidiva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- SUBLUXAC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NDROPATIA ROTUL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9591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CONSERV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jercicios isometricos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alecimiento mus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LICA SINOV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9525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 quirúrg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vio del d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iente analgé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talecimiento del cuadric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9601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- Post-quirúr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952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nesiterapi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ciones Isometrica del cuadr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estimulacion del cuadric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ciación progresiva del cuadriceps según toler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448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XARTROSIS PRECOZ DEL DEPORTI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blación general      -----------------   1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blación deportista  -----------------   2.5 - 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RATAMIENTO REHABILI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9525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cer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das higiénico die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rcicios activos libres sin res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677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RRANCAMIENTO DE LA ESPINA IL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524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 deportivo de 3-4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indicado el mas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ciar la marcha en la primera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canoterap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renamiento deportivo a partir de la octava sema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PERIOSTIT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677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(24 - 48 H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aje en hi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 (10 - 15 sesi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áser 670 nm (Rojo) 7 - 8 Joule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sonido Pulsatil 1w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urante 7 minu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RRANCAMIENTO DEL ISQU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9525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 deportivo durante 2-3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indicado el 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304920"/>
            <a:ext cx="874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37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renamiento deportivo a partir de la cuarta semana, si el arrancamiento es importante a partir de los 6 me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9525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ATOLOGIA DEL CONFLICTO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GUINO PUBI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 + relajantes mus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 deportivo 3 - 6 sem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e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artir de la séptima sema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grama de reeducación muscu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 reequilibrar la musculatura de la cintura pélvica y compensar el déficit exist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imes New Roman"/>
              </a:rPr>
              <a:t>PERIOSTITIS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ntinuación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52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riente Diadinamic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F:(50Hz) tiempo de modulación 2 min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P: 10 minutos tiempo de modulación acción y pa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gnetoterapi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étodos copla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cuencia 10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dad  50Hz (15 minu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FRACTURA POR ES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CANISMO DE PRODUCC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umatismo repeti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ada inten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sodios continu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IZ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% de todas las lesiones deportiva del aparato loco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bia, metatarsiano y peroné (20-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ur (3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so (7 -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TO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Dolor se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MENT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diologí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os rayos x permanecen negativos entre la  3-6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anmagraf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ecnecio (99): Puede ser positivo 2 -3 semanas antes de los rayos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FRACTURA POR EST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TAMI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(24-48h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je de hielo (en el área del d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(10-15 sesiones de tratami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diodo (rojo) 670nm, 7-8Joulr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: método coplanar, frecuencia 5-10Hz con intensidad de 50% durante 20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ocasiones se puede utilizar: Ultrasonido Pulsatil 1w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rante 10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SINDROME PIRIFOR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NTOM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lor ciático (en glúteos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as dificultad al sentarse o sentado que cuando esta par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mento del dolor en la rotación interna y flexión del mus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591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RATAMIENTO: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INDROME PIRIFOR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952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crioterapia) (24-48h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lajante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rset lumbo-s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Pulsatil 1 - 15 w/c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acostado contralateral la pierna en flexión, aducción y rotación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I.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Modulación 5-100Hz (barrido gradual 40 sg de duración, 15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I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olsa de agua caliente (Spr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jercicios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estiramiento del piri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beración miofacial de los músculos paraespinales y lumbos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jercici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MC Kenz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EPICONDILITIS DE CO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9601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SE AGU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o rel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co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ésico y/o relajante musc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oterapia 24 - 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( Pulsatil) 0.2 - 0.4 w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1:24:07Z</dcterms:created>
  <dc:creator>YUDI-YAI</dc:creator>
  <dc:description/>
  <dc:language>en-US</dc:language>
  <cp:lastModifiedBy>Daniel</cp:lastModifiedBy>
  <cp:lastPrinted>2004-02-23T11:26:39Z</cp:lastPrinted>
  <dcterms:modified xsi:type="dcterms:W3CDTF">2004-03-09T03:07:32Z</dcterms:modified>
  <cp:revision>41</cp:revision>
  <dc:subject/>
  <dc:title>Sin título de diapositiva</dc:title>
</cp:coreProperties>
</file>