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83E-13BB-4C2E-B5EC-476C511C6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EDCD-C4A9-4681-B2FC-45169A34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C0EA-AFE9-477F-A860-88C88C46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164-0B8D-45CE-851F-24CECBF6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299C-7D6F-4632-AB52-9640FA0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CBF-B01D-413F-97FA-11A22A64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94F-18BF-4141-8FE7-B3E28D04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94E-18CA-435D-9BF7-B88E5247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AC5-00B4-493B-A239-9D89D437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503-B965-4277-B53D-29F485F9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4A2-85D2-4EF0-8F73-9E1A1B5B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F3E6-765D-47C4-BC66-A5EDF190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DD97-64CC-4D4E-8479-A534037EA3F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6920" y="679320"/>
            <a:ext cx="10184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LA REHABILITACION EN LAS LESION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TRAUMATICAS DEL DE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32760" y="3300480"/>
            <a:ext cx="665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HOSPITAL Dr. Luis Díaz So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7080"/>
            <a:ext cx="8744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9906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SE CRONIC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ás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ontoforesis con ácido ascético (1 - 2%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.S (Pulsatil) 0.5 - 1w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asta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SOTERAPI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 Relajar y elongar, amasa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ratamiento de rigideces y adherencias articula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écnicas de estira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ENTORSIS DEL TOBILL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9525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GRADO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 (24 - 36 H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tesis o vend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 (1 - 2 SEMANA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dro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&gt;S  Pulsatil 0.2-0.3 w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rcha (mecanoterapi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1120" y="457200"/>
            <a:ext cx="8744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AD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37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tirar el apoyo (descargar con 2 bastone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daje funcional bl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REHABILITADOR 2-3 SEMA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omasaje (hidroso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áser diodo rojo 670 n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de impulsos bidireccionales entre 8 - 25 Hz y 200-250 ms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tamiento del edema, drenaje pos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rcicios (mecanoterap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7440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95252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RADO 3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aluación del criterio Quirúrg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movilización al retirar el ye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dro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f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tamiento del edema y dren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jercicios de propiocep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tenciación y cinesiterap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NFLICTO TIBIO ASTRAGALI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95252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24-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ño de parafi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ntoforesis (con ácido acétic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.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96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FASCITIS PLANTAR Y ESPOLON CALCANE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952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 (agud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áser 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ontofor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9296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imes New Roman"/>
              </a:rPr>
              <a:t>PATOLOGIA MENISC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71120" y="2666520"/>
            <a:ext cx="8744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TAMIENTO CONSERVADO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RATAMIENTO QUIRURG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9525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ATOLOGIA MENIS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937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Pre-quirúrgico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tener o aumentar movilidad arti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alecimiento mus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Post-quirúrgic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ciones isometricas del cuadric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-343800"/>
            <a:ext cx="874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380880"/>
            <a:ext cx="9601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s-ES_tradnl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Fas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ri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ctroestimulacion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dolor o derrame en fondo de sa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racciones isometricas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otenciación progresiva según tolera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1120" y="45684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3</a:t>
            </a:r>
            <a:r>
              <a:rPr b="1" lang="en-US" sz="44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9525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ograr amplitud articular complet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Potenciación global de cuadriceps e isquiotibia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archa y ejercicios propioceptivos en planos inclina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744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66"/>
                </a:solidFill>
                <a:latin typeface="Arial"/>
              </a:rPr>
              <a:t>PERIOSTIT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9677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CANISMO DE PRODUC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pturas de microvasos del periosteo endogeno que desencadena el proceso inflama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TOM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or: Aparece al final del entrena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uede instaurar en las AV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LIZ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/3 distales de la tibia en la cresta antero int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lateral en el 50% de los ca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LEMENT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nmagrafia: Zona de hipercaptacion longitudinal que refuerza el margen ós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RUPTURA DE LIGAMENT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762120"/>
            <a:ext cx="9525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CONSERVAD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se ini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ven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flamación y dol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rofias muscu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estimul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ciones isométr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-343800"/>
            <a:ext cx="8743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9448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imitación articul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inesiterap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vilizaciones de rót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Fase de potenciación muscular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lectroestimulac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cciones isometr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jercicios fortalecedo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rrección de la march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9448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INESTABILIDAD ROTUL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9448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 - LUXAC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agu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cró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uxación recidiva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- SUBLUXAC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NDROPATIA ROTULI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9591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CONSERV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jercicios isometricos del cuadrice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alecimiento muscul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PLICA SINOV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9525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-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e quirúrgic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ivio del d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iente analgés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talecimiento del cuadrice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9601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- Post-quirúrg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9525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r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inesiterapi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cciones Isometrica del cuadric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estimulacion del cuadrice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ciación progresiva del cuadriceps según tolera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448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COXARTROSIS PRECOZ DEL DEPORTIS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9296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CI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blación general      -----------------   1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blación deportista  -----------------   2.5 - 3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TRATAMIENTO REHABILITA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9525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ercera etap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didas higiénico dieté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jercicios activos libres sin res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9677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ARRANCAMIENTO DE LA ESPINA ILIA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9524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 deportivo de 3-4 sema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aindicado el mas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iciar la marcha en la primera sem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9524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canoterap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renamiento deportivo a partir de la octava seman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Arial"/>
              </a:rPr>
              <a:t>PERIOSTITI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96771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Etapa (24 - 48 H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saje en hie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6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Etapa (10 - 15 sesione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áser 670 nm (Rojo) 7 - 8 Joule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Ultrasonido Pulsatil 1w/cm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durante 7 minu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9448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RRANCAMIENTO DEL ISQU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95252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RATAMIENTO REHABILITAD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oterap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 deportivo durante 2-3 se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indicado el masaj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serterapia diodo infrarro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1120" y="304920"/>
            <a:ext cx="874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372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ecan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ntrenamiento deportivo a partir de la cuarta semana, si el arrancamiento es importante a partir de los 6 me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9525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PATOLOGIA DEL CONFLICTO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INGUINO PUBI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TAMIENTO REHABILI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Primer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INES + relajantes muscu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Segunda etap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so deportivo 3 - 6 sema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s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serterapia de diodo infrarro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rriente TENS + BU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oterap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5252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ontinuació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9601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rcera etap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partir de la séptima seman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lectroterap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grama de reeducación muscul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ara reequilibrar la musculatura de la cintura pélvica y compensar el déficit existen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82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Times New Roman"/>
              </a:rPr>
              <a:t>PERIOSTITIS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Continuación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9525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Corriente Diadinamica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F:(50Hz) tiempo de modulación 2 minu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P: 10 minutos tiempo de modulación acción y pau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Magnetoterapia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étodos copla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cuencia 10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nsidad  50Hz (15 minut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FRACTURA POR EST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685440"/>
            <a:ext cx="9601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CANISMO DE PRODUCC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umatismo repeti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rada inten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pisodios continu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OCALIZAC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% de todas las lesiones deportiva del aparato loco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bia, metatarsiano y peroné (20-2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mur (3-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rso (7 - 1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NTO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Dolor se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MENTA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Radiologí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Los rayos x permanecen negativos entre la  3-6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Ganmagraf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Tecnecio (99): Puede ser positivo 2 -3 semanas antes de los rayos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743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FRACTURA POR ESTR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9601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RATAMIENT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1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E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(24-48h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saje de hielo (en el área del dol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2</a:t>
            </a:r>
            <a:r>
              <a:rPr b="1" lang="en-US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da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Etapa (10-15 sesiones de tratamien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áser diodo (rojo) 670nm, 7-8Joulr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gnetoterapia: método coplanar, frecuencia 5-10Hz con intensidad de 50% durante 20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 ocasiones se puede utilizar: Ultrasonido Pulsatil 1w/cm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urante 10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1120" y="380520"/>
            <a:ext cx="874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imes New Roman"/>
              </a:rPr>
              <a:t>SINDROME PIRIFORM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677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NTOMA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lor ciático (en glúteos):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as dificultad al sentarse o sentado que cuando esta par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mento del dolor en la rotación interna y flexión del mus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591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imes New Roman"/>
              </a:rPr>
              <a:t>TRATAMIENTO: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SINDROME PIRIFOR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761760"/>
            <a:ext cx="9525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pos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crioterapia) (24-48h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Relajante musc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rset lumbo-sac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Ultrasoni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Pulsatil 1 - 15 w/cm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acostado contralateral la pierna en flexión, aducción y rotación inter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.I.F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Modulación 5-100Hz (barrido gradual 40 sg de duración, 15 minu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áse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 I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Bolsa de agua caliente (Spr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jercicios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estiramiento del pirifor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iberación miofacial de los músculos paraespinales y lumbosac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jercici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 MC Kenzi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9448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"/>
              </a:rPr>
              <a:t>EPICONDILITIS DE COD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96012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ASE AGUD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so rela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o de cod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algésico y/o relajante muscu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oterapia 24 - 48 H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.S. ( Pulsatil) 0.2 - 0.4 w/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1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1:24:07Z</dcterms:created>
  <dc:creator>YUDI-YAI</dc:creator>
  <dc:description/>
  <dc:language>en-US</dc:language>
  <cp:lastModifiedBy>Daniel</cp:lastModifiedBy>
  <cp:lastPrinted>2004-02-23T11:26:39Z</cp:lastPrinted>
  <dcterms:modified xsi:type="dcterms:W3CDTF">2004-03-09T03:07:32Z</dcterms:modified>
  <cp:revision>41</cp:revision>
  <dc:subject/>
  <dc:title>Sin título de diapositiva</dc:title>
</cp:coreProperties>
</file>