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4858-3A28-44DD-BFC5-AC42BDF5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3D8-4F57-41D5-823B-124AAF64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ACB-0FE9-4D3C-BBC4-5BF9103F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76D-7746-4C73-BEC3-AA6D1E64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2032-4E50-40F5-9761-C399A9CF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D863-93EE-4707-AB42-D867A5ED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3FD9-2692-488B-A99D-C4960B12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16BC-E3B1-44AC-9314-74042D2E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7BF-FCC9-49E9-A36D-3A50A088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E7D7-090B-4BBB-9C19-18241AC5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E819-1D3D-4B77-8901-C017E3BF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387-DA8F-485F-9788-7E0A15E5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1208-BAD1-4B47-A32B-8B3C0749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B5FF-33C0-49AF-895C-680A992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7DE3-5137-46A4-A901-2D8D9592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C0D9-830D-4A0A-A0A7-DA75E718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65A9-D250-46B1-98A4-D40438CA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A511-D1C7-4D32-8A5C-E73784D6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C72-BB20-4552-8853-496B9DF4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E667-0041-45BF-A6B6-5167FAAE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3FA-2667-4B7B-8B5F-BE883B7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FB7E-114B-4D44-8DCB-377E0ED2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668-899E-4A61-827F-7C8E6E4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8C3-5838-46CE-B1FA-A0C1868B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D3A7-DD42-4EB6-8EC0-1A3C4E0565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8AB-7388-42EC-B3A7-1911455BB0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cc66"/>
                </a:solidFill>
                <a:latin typeface="Arial"/>
              </a:rPr>
              <a:t>LESIONES NERVIOSAS PERIFÉRICAS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CUADRO CLÍNIC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ASEMEJA LA FORMA  AGU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SIMÉ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PROXIMAL O DIS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REFLEJOS OT ABOLI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TRASTORNOS DE LA SENS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ABORATORI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LCR: PROTEINAS AUMENT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NEUROFISIOLÓGICAS: VELOCIDAD DE CONDUCCIÓN ENLENTECIDA NO UNIFOR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BIOPSIA: DESMIELINIZACIÓN SEGMEN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cc66"/>
                </a:solidFill>
                <a:latin typeface="Arial"/>
              </a:rPr>
              <a:t>TRATAMIENTO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</a:rPr>
              <a:t>ESTEROID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</a:rPr>
              <a:t>INMUNOGLOBULIN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</a:rPr>
              <a:t>PLASMAFÉRE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ONES PERIFÉRICA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SENSITIVOMOT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SENSITIVO DISTALES (BOTA Y GUAN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TORES DIS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RREFLEXIA O HIPORREFLEXIA PROFU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OLINEUROPÁTICO: BILATERAL, SIMÉTRICA, DIS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NONEUROPÁTICO: PAR CRAN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NONEUROPÁTICO MÚLTIPLE: ASIMÉTRICO, VARIOS TRONCOS NERVIO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NERVIO RADIAL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Arial"/>
              </a:rPr>
              <a:t>CAUS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COMPRESIÓN A NIVEL DE LA AXI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TRAUMAS DE C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FRACTURAS DE HÚM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LESIONES POR DEBAJO DEL C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Arial"/>
              </a:rPr>
              <a:t>CUADRO CLÍNICO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ALTERACIONES DE LA EXTENSIÓN DEL CODO SUPINADORES DEL ANTEBRAZO, EXTENSIÓN DE LA MUÑECA, MCF ,IFP, IF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REFLEJO TRICIPITAL CONSERV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ANESTESIA RA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ÓN CUBITAL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ANO EN GAR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DESVIACIÓN CUBITAL DE MUÑ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FLEXIÓN DE LAS FALANGES DISTALES 4-5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AL ADUCCIÓN DE LOS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FLEXIÓN METACARPOFALÁNG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TROFIA MUSCULAR PALMA DE LAS M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NESTESIA PALMA DE LAS MANOS 4-5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ÓN MEDIAN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ANO DE SIM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FLEXIÓN DE LA ÚLTIMA FALANGE DEL PULG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FLEXIÓN MCF 2-3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EXTENSIÓN I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DO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DEL SENTIDO ARTICULAR DE LOS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NESTESIA EN EL ÁREA AFECTADA POR EL NERV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TRATAMIENTO</a:t>
            </a: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QUIRÚRGICO CAU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FÉR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MASA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KINESIOLOGÍA PROGRES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E.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TERAPIA OCUPA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AGENTES FÍS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ÓN CIÁTICO MAYO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LARGO Y VOLUMINO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2 RAMAS: CPE—C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cc66"/>
                </a:solidFill>
                <a:latin typeface="Arial"/>
              </a:rPr>
              <a:t>C P EXTER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SÍNDROME DE COMPRESIÓN DE LA CABEZA DEL PERON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MARCHA DE ESTEP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ALTERACIONES DE LA SENS DE LA CARA ANTEROEXTERNA DE LA PIERNA Y DORSO DEL P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TIBIAL ANTEIOR, PERONEOS, EXT COMUN DEDOS, DEDO GRU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cc66"/>
                </a:solidFill>
                <a:latin typeface="Arial"/>
              </a:rPr>
              <a:t>C P  INTER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LESIÓN HUECO POPLÍTEO O SÍNDROME  DEL CANAL TARSI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GEMELOS, T POSTERIOR, SÓLEO, FLEX DEDOS ,DEDO GRU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TRATAMIENT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IRRITATIVA: AGENTES FÍS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OMPRESIVA: TRA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SECCIÓN: FÉR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NEUROPRAXIA: MAGNETO + LÁ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NEUROTNESIS: AGENTES FÍSICOS + FÉR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c66"/>
                </a:solidFill>
                <a:latin typeface="Arial"/>
              </a:rPr>
              <a:t>POLINEURITIS IDIOPÁTICAS CON ALTERACIÓN DE LA INMUNIDAD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Arial"/>
              </a:rPr>
              <a:t>SINONIMI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POLINEURITIS IDIOPÁTICA AGU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POLIRRADICULONEURITIS INFLAMATORIA IDIOPÁ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SÍNDROME DE GUILLAIN BARR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ÓN FAC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INERV A LOS MÚSCULOS DE LA CARA MENOS EL DEL PÁRPADO SUPERIOR Y LOS MASTICATO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cc66"/>
                </a:solidFill>
                <a:latin typeface="Arial"/>
              </a:rPr>
              <a:t>PARÁLISIS DE B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PUEDE ABRIRSE EL OJO PERO NO CERRARSE  SE DIRIGE HACIA ARRIBA Y AFUERA. (SIGNO DE BEL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LAGRIM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DESVIACIÓN DE LA COMISURA LABIAL LADO S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NO PUEDE SILB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ALTERACIÓN DE LA ARTICULACIÓN DE LA PALA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DESAPARECE EL SURCO NASALABIAL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NO PUEDE FRUNCIR EL C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CEJA CA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FLACIDÉZ DEL LADO AF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DIFICULTAD PARA LA DEGLU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SALIV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PARÁLISIS FACIAL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AUSA DESCONOC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UALQUIER 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20-40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OMIENZO AGU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80% SE RECUPERA EN 3-4 SEMA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DIFERENCIA CON LA PF CENTRAL: OCLUYE EL OJO PORQUE NO HAY LESIÓN DEL FACIAL SUP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TRATAMIENT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ÉD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STEROIDES, VITAMINOTERAP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FISIOTERAP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7-21 DÍAS: IONTOFORESIS, CORRIENTE ANALGÉSICA, MAGNETO, 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&gt;21 DÍAS: E. 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&lt; 15 DÍAS: MASAJE, ALTA FRECUENCIA ,UHF, EJERC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NEUROFISIOLOGÍA EVALUAR A LOS 21 DÍAS DE SU INI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00"/>
                </a:solidFill>
                <a:latin typeface="Arial"/>
              </a:rPr>
              <a:t>MUCHAS GRACIAS.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c66"/>
                </a:solidFill>
                <a:latin typeface="Arial"/>
              </a:rPr>
              <a:t>SÍNDROME DE GUILLAIN BARRÉ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DESMIELINIZACIÓN SEGMENTA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25-40% EDAD ADULTA Y MAYOR SEXO MASCULI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RECEDE CUADRO RESPIRATORIO AL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SIMÉTRICA Y AGU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OMPROMISO MOTOR Y/O SENSORIAL DISTAL Y ASCEND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FECCIÓN O NO DE LOS PARES CRANE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cc66"/>
                </a:solidFill>
                <a:latin typeface="Arial"/>
              </a:rPr>
              <a:t>PATOGENIA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2565360"/>
            <a:ext cx="728352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00"/>
                </a:solidFill>
                <a:latin typeface="Arial"/>
              </a:rPr>
              <a:t>DESCONOCIDA, SE INVOCAN MECANISMOS AUTOINMUNES MEDIADO POR LA INMUNIDAD CELULAR Y HUMOR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CUADRO CLÍNIC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DEBILIDAD MUSC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ARESTESIAS DIS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RREFLEXIA OSTEOTENDIN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ARES CRANEALES MAS AFECTADOS: VII, IX, 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INICIA EN MsIs Y PUEDE ASCENDER (PARÁLISIS ASCENDENTE DE LANDR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RTALIDAD 5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10-15 % SECUELAS PERMAN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5 % RECIDIV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c66"/>
                </a:solidFill>
                <a:latin typeface="Arial"/>
              </a:rPr>
              <a:t>EXÁMENES COMPLEMENTARIOS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LCR: DISOCIACIÓN ALBÚMINO- CITOLÓG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NEUROFISIOLÓGICOS: ENLENTENCIMIENTO DE LA VELOCIDAD DE CONDUCCIÓN C/ BLOQUE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b2b2b2"/>
                </a:solidFill>
                <a:latin typeface="Arial"/>
              </a:rPr>
              <a:t>TRATAMIENT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8000" y="2349360"/>
            <a:ext cx="64184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INTAGLOBÍ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VITAMINOTERA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ÁMARA HIPERBÁ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ESTERO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FISIOTERAPIA PRECÓ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FISIOTERAPIA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TRATAMIENTO POSTU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VILIZACIONES PASIV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STIMULAR LA CONTRACCION AC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VILIZACIONES ACTIVA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JERCICIOS DE EQUILIB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REHABILITACIÓN DE LA MAR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JERCICIOS RESPIRATO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JERCICIOS DE INDEPEN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TERAPIA OCUP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c66"/>
                </a:solidFill>
                <a:latin typeface="Arial"/>
              </a:rPr>
              <a:t>POLINEUROPATÍA DESMIELINIZANTE INFECCIOSA CRÓNICA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TRASTORNO LENTO Y PROGRES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DIAGNÓSTICO DEBILIDAD DE 2 MESES DE EVOL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AFECTA AMBOS SEX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PICO EN LA SEXTA DÉCADA DE LA V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7:18:19Z</dcterms:created>
  <dc:creator>Windows</dc:creator>
  <dc:description/>
  <dc:language>en-US</dc:language>
  <cp:lastModifiedBy>Windows</cp:lastModifiedBy>
  <dcterms:modified xsi:type="dcterms:W3CDTF">2003-02-23T20:41:01Z</dcterms:modified>
  <cp:revision>5</cp:revision>
  <dc:subject/>
  <dc:title>Diapositiva 1</dc:title>
</cp:coreProperties>
</file>