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185-159D-4DDA-9A99-959AA1DA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A5F0-D8FC-4AEF-B3B7-E97007CF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6DB5-A24A-4911-9A13-187EAE28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AE17-2A07-48D4-B877-FDB193E8E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4208-4784-4C1B-9912-9339BCE9D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1A7D-3915-4AC2-B910-F6642887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18E7-BA5D-451A-AC81-9C2D647C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57D2-D20A-4FF5-8574-B467E053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0F60-C351-447B-AC84-978D6A3D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2388-D21E-49A8-BC9E-39F17575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414C-160C-4367-B1D0-E065043C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2C2-664E-499F-9DEE-1D1A6BF0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DC92-D7C4-4EB0-A035-93AFE2B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174D-7EF4-4421-A917-82A06FC1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736F-DFA9-4E1A-A773-32EDDC47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0AD3E-F912-43CD-ADA8-49ABF6D8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FE2E-61D6-498F-8EC8-35D2D02A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BAA6-FF7B-44EB-8A02-10156AAB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349-442F-49D0-9148-12540509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7C8-AD07-42B4-ADB5-4ECEDD95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FD3-5A81-4B12-8414-34F6D752A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2BBC-5246-48F9-8E72-8D7F2270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02F-3E85-4F09-AEBF-B643060E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296F-2795-421B-AE0C-7DAC055F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BCAF-D0C6-4800-AEE4-248FED582E2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B41C-31FC-4495-A7EE-892D07815D3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cc66"/>
                </a:solidFill>
                <a:latin typeface="Arial"/>
              </a:rPr>
              <a:t>LESIONES NERVIOSAS PERIFÉRICAS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CUADRO CLÍNIC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ASEMEJA LA FORMA  AGU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SIMÉ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PROXIMAL O DIST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REFLEJOS OT ABOLI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TRASTORNOS DE LA SENS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ABORATORI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LCR: PROTEINAS AUMENT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NEUROFISIOLÓGICAS: VELOCIDAD DE CONDUCCIÓN ENLENTECIDA NO UNIFOR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BIOPSIA: DESMIELINIZACIÓN SEGMEN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cc66"/>
                </a:solidFill>
                <a:latin typeface="Arial"/>
              </a:rPr>
              <a:t>TRATAMIENTO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</a:rPr>
              <a:t>ESTEROID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</a:rPr>
              <a:t>INMUNOGLOBULINA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</a:rPr>
              <a:t>PLASMAFÉRES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ONES PERIFÉRICAS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SENSITIVOMOTO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SENSITIVO DISTALES (BOTA Y GUAN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TORES DIS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RREFLEXIA O HIPORREFLEXIA PROFU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OLINEUROPÁTICO: BILATERAL, SIMÉTRICA, DIST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NONEUROPÁTICO: PAR CRAN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NONEUROPÁTICO MÚLTIPLE: ASIMÉTRICO, VARIOS TRONCOS NERVIO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NERVIO RADIAL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Arial"/>
              </a:rPr>
              <a:t>CAUS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COMPRESIÓN A NIVEL DE LA AXI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TRAUMAS DE C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FRACTURAS DE HÚM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LESIONES POR DEBAJO DEL C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6"/>
                </a:solidFill>
                <a:latin typeface="Arial"/>
              </a:rPr>
              <a:t>CUADRO CLÍNICO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ALTERACIONES DE LA EXTENSIÓN DEL CODO SUPINADORES DEL ANTEBRAZO, EXTENSIÓN DE LA MUÑECA, MCF ,IFP, IF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REFLEJO TRICIPITAL CONSERV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00"/>
                </a:solidFill>
                <a:latin typeface="Arial"/>
              </a:rPr>
              <a:t>ANESTESIA RA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ÓN CUBITAL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ANO EN GAR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DESVIACIÓN CUBITAL DE MUÑE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FLEXIÓN DE LAS FALANGES DISTALES 4-5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AL ADUCCIÓN DE LOS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FLEXIÓN METACARPOFALÁNG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TROFIA MUSCULAR PALMA DE LAS MA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NESTESIA PALMA DE LAS MANOS 4-5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ÓN MEDIAN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ANO DE SIM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FLEXIÓN DE LA ÚLTIMA FALANGE DEL PULG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FLEXIÓN MCF 2-3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 DE LA EXTENSIÓN I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DOL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ÉRDIDADEL SENTIDO ARTICULAR DE LOS DE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NESTESIA EN EL ÁREA AFECTADA POR EL NERV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TRATAMIENTO</a:t>
            </a: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QUIRÚRGICO CAUS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FÉR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MASAJ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KINESIOLOGÍA PROGRESIV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E.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TERAPIA OCUPACION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AGENTES FÍS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ÓN CIÁTICO MAYOR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LARGO Y VOLUMINO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2 RAMAS: CPE—C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cc66"/>
                </a:solidFill>
                <a:latin typeface="Arial"/>
              </a:rPr>
              <a:t>C P EXTER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SÍNDROME DE COMPRESIÓN DE LA CABEZA DEL PERON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MARCHA DE ESTEP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ALTERACIONES DE LA SENS DE LA CARA ANTEROEXTERNA DE LA PIERNA Y DORSO DEL PI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TIBIAL ANTEIOR, PERONEOS, EXT COMUN DEDOS, DEDO GRU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cc66"/>
                </a:solidFill>
                <a:latin typeface="Arial"/>
              </a:rPr>
              <a:t>C P  INTERN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LESIÓN HUECO POPLÍTEO O SÍNDROME  DEL CANAL TARSI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GEMELOS, T POSTERIOR, SÓLEO, FLEX DEDOS ,DEDO GRUES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TRATAMIENT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IRRITATIVA: AGENTES FÍS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OMPRESIVA: TRA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SECCIÓN: FÉR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NEUROPRAXIA: MAGNETO + LÁS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NEUROTNESIS: AGENTES FÍSICOS + FÉRUL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c66"/>
                </a:solidFill>
                <a:latin typeface="Arial"/>
              </a:rPr>
              <a:t>POLINEURITIS IDIOPÁTICAS CON ALTERACIÓN DE LA INMUNIDAD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cc66"/>
                </a:solidFill>
                <a:latin typeface="Arial"/>
              </a:rPr>
              <a:t>SINONIMI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POLINEURITIS IDIOPÁTICA AGU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POLIRRADICULONEURITIS INFLAMATORIA IDIOPÁ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SÍNDROME DE GUILLAIN BARR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LESIÓN FACIAL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INERV A LOS MÚSCULOS DE LA CARA MENOS EL DEL PÁRPADO SUPERIOR Y LOS MASTICATO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cc66"/>
                </a:solidFill>
                <a:latin typeface="Arial"/>
              </a:rPr>
              <a:t>PARÁLISIS DE BEL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PUEDE ABRIRSE EL OJO PERO NO CERRARSE  SE DIRIGE HACIA ARRIBA Y AFUERA. (SIGNO DE BEL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LAGRIM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DESVIACIÓN DE LA COMISURA LABIAL LADO SAN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NO PUEDE SILB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ALTERACIÓN DE LA ARTICULACIÓN DE LA PALAB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DESAPARECE EL SURCO NASALABIAL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NO PUEDE FRUNCIR EL C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CEJA CAI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FLACIDÉZ DEL LADO AFEC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DIFICULTAD PARA LA DEGLU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ffff00"/>
                </a:solidFill>
                <a:latin typeface="Arial"/>
              </a:rPr>
              <a:t>SALIV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PARÁLISIS FACIAL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AUSA DESCONOC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UALQUIER E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20-40 AÑ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OMIENZO AGU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80% SE RECUPERA EN 3-4 SEMAN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DIFERENCIA CON LA PF CENTRAL: OCLUYE EL OJO PORQUE NO HAY LESIÓN DEL FACIAL SUPERI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TRATAMIENT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ÉDIC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STEROIDES, VITAMINOTERAP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FISIOTERAP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7-21 DÍAS: IONTOFORESIS, CORRIENTE ANALGÉSICA, MAGNETO, 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&gt;21 DÍAS: E. 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&lt; 15 DÍAS: MASAJE, ALTA FRECUENCIA ,UHF, EJERCI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NEUROFISIOLOGÍA EVALUAR A LOS 21 DÍAS DE SU INIC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2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ffff00"/>
                </a:solidFill>
                <a:latin typeface="Arial"/>
              </a:rPr>
              <a:t>MUCHAS GRACIAS.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c66"/>
                </a:solidFill>
                <a:latin typeface="Arial"/>
              </a:rPr>
              <a:t>SÍNDROME DE GUILLAIN BARRÉ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DESMIELINIZACIÓN SEGMENTA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25-40% EDAD ADULTA Y MAYOR SEXO MASCULI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RECEDE CUADRO RESPIRATORIO AL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SIMÉTRICA Y AGU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OMPROMISO MOTOR Y/O SENSORIAL DISTAL Y ASCEND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FECCIÓN O NO DE LOS PARES CRANE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fcc66"/>
                </a:solidFill>
                <a:latin typeface="Arial"/>
              </a:rPr>
              <a:t>PATOGENIA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3280" y="2565360"/>
            <a:ext cx="728352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00"/>
                </a:solidFill>
                <a:latin typeface="Arial"/>
              </a:rPr>
              <a:t>DESCONOCIDA, SE INVOCAN MECANISMOS AUTOINMUNES MEDIADO POR LA INMUNIDAD CELULAR Y HUMORA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CUADRO CLÍNIC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DEBILIDAD MUSCUL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ARESTESIAS DIST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ARREFLEXIA OSTEOTENDINO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PARES CRANEALES MAS AFECTADOS: VII, IX, 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INICIA EN MsIs Y PUEDE ASCENDER (PARÁLISIS ASCENDENTE DE LANDR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RTALIDAD 5 %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10-15 % SECUELAS PERMANE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5 % RECIDIV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c66"/>
                </a:solidFill>
                <a:latin typeface="Arial"/>
              </a:rPr>
              <a:t>EXÁMENES COMPLEMENTARIOS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420640"/>
            <a:ext cx="8229600" cy="37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LCR: DISOCIACIÓN ALBÚMINO- CITOLÓG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NEUROFISIOLÓGICOS: ENLENTENCIMIENTO DE LA VELOCIDAD DE CONDUCCIÓN C/ BLOQUE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b2b2b2"/>
                </a:solidFill>
                <a:latin typeface="Arial"/>
              </a:rPr>
              <a:t>TRATAMIENTO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68000" y="2349360"/>
            <a:ext cx="641844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INTAGLOBÍ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VITAMINOTERAP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CÁMARA HIPERBÁ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ESTEROI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FISIOTERAPIA PRECÓ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cc66"/>
                </a:solidFill>
                <a:latin typeface="Arial"/>
              </a:rPr>
              <a:t>FISIOTERAPIA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TRATAMIENTO POSTUR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VILIZACIONES PASIVA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STIMULAR LA CONTRACCION ACTIV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MOVILIZACIONES ACTIVAS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JERCICIOS DE EQUILIB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REHABILITACIÓN DE LA MARCH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JERCICIOS RESPIRATO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EJERCICIOS DE INDEPEN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TERAPIA OCUP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cc66"/>
                </a:solidFill>
                <a:latin typeface="Arial"/>
              </a:rPr>
              <a:t>POLINEUROPATÍA DESMIELINIZANTE INFECCIOSA CRÓNICA.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TRASTORNO LENTO Y PROGRES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DIAGNÓSTICO DEBILIDAD DE 2 MESES DE EVOLU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AFECTA AMBOS SEX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Arial"/>
              </a:rPr>
              <a:t>PICO EN LA SEXTA DÉCADA DE LA VI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3T17:18:19Z</dcterms:created>
  <dc:creator>Windows</dc:creator>
  <dc:description/>
  <dc:language>en-US</dc:language>
  <cp:lastModifiedBy>Windows</cp:lastModifiedBy>
  <dcterms:modified xsi:type="dcterms:W3CDTF">2003-02-23T20:41:01Z</dcterms:modified>
  <cp:revision>5</cp:revision>
  <dc:subject/>
  <dc:title>Diapositiva 1</dc:title>
</cp:coreProperties>
</file>