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1A89-6CC4-46FA-B87F-F98AEBBE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153-0CAA-4C57-907C-F815E9DC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969D-839A-4A69-B3DD-378F0C72C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ABEC-8225-4CB4-B227-3262C1E01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9EED-984F-4614-85A8-E7B18B83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A0EA-9719-4E58-BFA2-25ED2047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1E0C-6FE5-4319-8A28-ED4BE2AA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66A9-8B08-4F20-895D-3E078E5BC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1ABC-FA37-4C17-8A21-51BA0B60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E85E-FF0A-4657-9CAB-2FDB229D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6C10-47BF-49F4-AB4D-3687F59F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098A-4D18-4C6E-B4ED-1C5BD5A6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6C72-4164-4409-82B7-1CC530C2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FE276-AAEB-4D6C-A7A3-02781A24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FE58-EF6A-49B7-B857-6C36E8B37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D428-3A59-446B-947E-2787145A3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D98C-7924-42A7-A722-0B9F6469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86F-DF91-48A7-A21B-E42480F8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1B2-7DFA-4A94-A285-F3D460A8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D92E-E118-48A6-96AB-D85BAAFA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6224-B65B-4100-9F92-8766C5D7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18CD-8CD2-46E8-93BC-00EBD8BE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B45-A36B-4BFD-9F56-00D556E7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5144-7499-4074-894F-59536AA5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1177-1BDB-4964-B711-11FF61B3E6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FA48-85AD-42A5-B913-CAE603FE3A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INDROME DE GUILLAIN BARRÉ STRÖ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R. ARTURO J. ARIAS CANTALAPIED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COMPLEMENTARIO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- electromiografía y VC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- LC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- Coprocul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- Fondo de oj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.- Biopsis del nerv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DX DIFERENCIA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bseso epid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ielitis transver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erniacion de amigdalas cerebelosas en mening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europatía del enfermo crít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TERIOS</a:t>
            </a: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AGNÓST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1.-criterios para el dx (requerid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.- Debilidad muscular progresiva en mas de una extrem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b.- Arreflex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2.- Criterios q apoyan el Dx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.- Progresión de los sintomas hasta 4 s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b.- Simetria relativa de sintom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.- Sintomas o signos sensitivos lig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.- Afección de pares craneales (7o pa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.- Comienzo de la recuperación en 2-4 s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f.- disfunción autonóm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g.- Ausencia de fiebre al inicio de la en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h.- Aumento de concentración de proteínas en LCR &lt; 10 cel/mm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- Criterios dudosos para el D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.- Presencia de nivel sensitivo defini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.-Marcada o percistente asimetría de sintomas o sig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.- Disfunción esfinteriana percistente y grave o al inicio de la enferm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.- &gt; de 50 cel. Por mm3 o Leucocitos PM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- Criterios que excluyen el DX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.- Dx de botulismo, Miastenia gravis, Poliomielitis o PNP tóx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.- Transtornos en el metabolismo de la porfiri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.- Difteria rec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.- Sd. Sensitivo puro sin de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RITERIOS DE ADMISION EN U.C.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62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.- CV inferior a 12 ml/ k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2.- CV inferior a 18-20 ml/ kg con signos de fatiga diafragmática ( taquipnes, diaforesis y respiración paradójic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3.- Tos escasa, tendencia a acumular secreciones en las V.R. neumonia por aspi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4.- Debilidad progresiva asociadaq a transtornos de deglu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5.-transtornos autonómicos mayores (Arritmias, Bloqueo, edema pulmonar, Fluctuaciones de TA y FC, Ileo paralític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6.- Hipotensión por plasmafér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7.- Sepsis o Neu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8.- Dolor Torax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PRONÓSTIC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85 a 90% favorable, del 2 al 4% fallecen y hasta un 30% requieren ventilación asist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.F. y NC sin cambios sugieren que la enf. Dejara secue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bilidad residual en un 15% y hasta un 5% totalmente incapacit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riterios pronóstic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Buen pronostico( BP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ad tempr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uadro agudo: de una a tres sema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oca severidad y exten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eriodo de progresión bre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ecuperación ráp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alud anter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oca dener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igno de Mal pronostico (M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dad avanz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uadro hiper agudo de una a tres dí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n trastornos respirato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n mayor severidad y exten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Periodo de progresión prolongad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Mayor de cuatro sema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Enfermedades graves asociad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Denervación severa PUM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CRITERIOS DE TELLER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ivel de severidad del deficit mot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apidez de la progresión (sintomas graves menos de 7 di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año axonal en E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iempo prolongado entre maxima debilidad y el inicio de recuperación (mas de 1 mes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poyo ventilato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SUMARIO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TRODU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EFIN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PIDEMIOLOG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TOLOGÍA Y FISIOPATOGEN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LASIF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MANIFESTACIONES CLÍN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STUDIOS COMPLEMEN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AGNÓSTICO DIFEREN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ONÓST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RATAMIENTO (CUIDADOS DEL PACIENTE Y REHABILIT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TRATAMIENT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UIDADOS DEL PACIEN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HABILIT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- Medidas gener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.- Tto pos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.-Anticoagulan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.- Fisioterapia respirato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.- Ort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.- Cuidados de los oj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2.- Disfunción respirato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.- Medir C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.- Intub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3.- Disautonomí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.- EKG const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.- Anticolinergicos (OJ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.- Cateter en arteria pulmonar si arritmia o inestabilidad hemodina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.- Si hipotensión reposicion de volum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.- Tto H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- Infec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.- Lavado de man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.- Técnicas correctas de instrumentación (cateterismo urina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.- Desinfeccion y esterilización de equipos de ventil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5.- Nutrición y equilibrio hidromine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6.- Tto del dol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7.- Apoyo psicolo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8.- Inmunomodul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.- Plasmaféresis (RC) 40-50 ml/ kg por dia con albúmina o plasma fresco de 3 a 5 seciones distribuidas entre 7 y 14 dias, contraindicada si IMA, angina, sepsis activa o disautonomia cardiovas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.- Ig IV 0.4 gramos/kg/dia x 5 dias, aplicación rápida. Mejor efecto con Metilprednisolo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9.- Direcciones futur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.- Neutralización del A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B.- Neutralización de células “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C.- Bloqueo de citoci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.- Inhibición de la oxidonitrico sinteta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.- Empleo de interferones (beta 1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REHABILIT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OBJ. GR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- tto postu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- Mejorar circul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- Mantener A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- Concienzación del movimiento y potenciacion muscul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.- Evitar daño en areas de aneste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ESTADOS FUNCIONALES DE HUG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- Disautonomia, toma respiratoria con ventilador, transtornos de deglución y/o alimentación, cuadriplejí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- Estabilidad hemodina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- Marcha hasta 5 mts con apoyo ext. Y dependiente en AV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- Marcha independiente hasta 50 mts con o sin muletas independiente AV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- Independencia total de la marcha y AV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n resum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.- Prevenir complicaciones debida al estado critico del paci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2.- Intervención dirigida a la reeducación y fortalecimiento muscular, recuperación funcional y la independencia a las AV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.- Féru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.- Intervencion de terapia fisica(agentes fisicos tto postural, movilizaciones, reeducacion diafragmatica y respirator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.- Tto por logofoniatría (alimentación y formas alternativas de comunicació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.- T.O. habilidades y autoest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E.- Desde los estados 3 al 1 de Hughes fortalecimiento muscular, marcha, recre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.- Talleres a familia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INTRODUCCIÓ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sde inicios del s. xix se recogieron casos sin prestarle la debida aten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859, Jean Baptiste Octave Landry, describe parálisis aguda ascend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876, Westphal,utiliza el término anteri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892, Ostler, introduce polineuritis febril agu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urante la primera guerra mundial, Georges Charles Guillain y Jean Alexandre Barré, describen 2 casos y en 1916 junto a Sthröl (electrofiosiología) publican un informe clásico y señalan la disociación albúmino-citológ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49, Haymaker y Kernohan realizan correlación clinicopatológ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5, Waksman y Adams, describen N.A.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56, C. Miller Fisher, publica una variante atípica,Feasby, 1986, S.G.B ax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963, Melnick,encuentra Ac contra el tejido nervioso en 19/38 pacientes.en 1976 se establece relación con vacunación porcina. En 1984 Kaldor y Speed, informan evidencia de C. Jejuni en el 38%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DEFINICIÓ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lirradiculoneuropatía de inicio agudo y progresión rápida, de naturaleza autoinmune caracterizada por daño axonal en algunos casos y mas frecuentemente desmielinización  que afecta a las raices, nervios perifericos y pares craneales,  con  remisión espontanea var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EPIDEMIOLOGÍ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curre en cualquier región del mundo y a cualquier e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ayor incidencia de 5ta – 8va decdas y tasa entre 0.4 y 2.4 por 100,000 habit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as frecuente en hombres y raza blan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parición esporádica o brotes, no variación est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2/3 de los pacientes siguen a una infección y 1/3 en el curso de transtornos sistém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ortalidad entre 2-8%, si ventilación hasta el 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ATOLOGÍA Y FISIOPATOGÉN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nfiltrado inflamatorio mononuclear con desmielinización multisegmentaria mediada por macrófagos junto a infiltración perivascular y daño axonal variable ( CIDP) en raices, zonas de compresión y teminaciones nerviosas distales. En su composición hay linfocitos “T” (inicio) y Macrófagos (tar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c frecuentes Anti GQ1B (SMF) y GM1 en neuropatía ax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CLASIFICACIÓ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- Polineuropatía desmielinizante inflamatoria aguda (AID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- Neuropatia axonal motora agu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- Neuropatia axonal sensitivo-motora agu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- Sindrome de Miller-Fisc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CLÍNIC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Formas clín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d. Miller- Fis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.GB motor p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.GB sensitivo p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andisautonomía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.GB cran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1.- Debil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2.- Arreflex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3.- Do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4.- Transtornos autonóm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3T14:58:03Z</dcterms:created>
  <dc:creator>Dr. Daniel Alvarez</dc:creator>
  <dc:description/>
  <dc:language>en-US</dc:language>
  <cp:lastModifiedBy>Dr. Daniel Alvarez</cp:lastModifiedBy>
  <dcterms:modified xsi:type="dcterms:W3CDTF">2004-03-23T16:34:17Z</dcterms:modified>
  <cp:revision>3</cp:revision>
  <dc:subject/>
  <dc:title>Diapositiva 1</dc:title>
</cp:coreProperties>
</file>