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E103-CF9A-4B35-BCD6-8624D0085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E9B8-DCE5-4242-9DB7-9CFCA9E1F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1720-CBA6-4D2E-8F60-EAE061B6E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0BC4-5755-48F6-B9DC-D5297D311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69F10-7F11-4B6A-BC2B-BAD412625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9E61E-2998-440A-8690-E0FD9CCEA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AB4B9-424D-41C2-9814-60E993BCA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221AE-EDBE-48C7-AA5D-1F0567540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E7A28-DBF0-4BA1-8DFA-1525C730B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FAC90-567A-4B30-89CC-D599CEA31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DCD3A-88C7-45E0-A7A3-6A1D74A5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623D-C6A8-45C3-B5FC-9F4E8A992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52CB3-BE8D-403D-BF1C-C81A4A29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C5401-B283-40F9-9410-B4BBC2F7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6D21D-C936-4EBF-8320-8089B6451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0C856-ABB9-4BCE-895E-7350EC285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08E1B-53B9-4A0C-9710-9FE6C2A5E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8822-6A10-4B1F-9F32-CAD698856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4387-BD3A-4495-802D-316BC9A40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8549-C53A-450B-A6C0-4C3B23208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C400-53BA-413B-A351-D454EECD9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48DA-7EC2-4920-A62C-101803DA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B4B8-02F0-4C57-8DF0-115C629E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6F77-B489-443D-9B9F-E34F783F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DDDB2-6DF8-441F-B04F-C0A8905354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CFB87-D744-4125-B647-0C30C588C3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SINDROME DE GUILLAIN BARRÉ STRÖ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DR. ARTURO J. ARIAS CANTALAPIED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COMPLEMENTARIO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1.- electromiografía y VC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2.- LC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3.- Coprocultiv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4.- Fondo de oj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5.- Biopsis del nervi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DX DIFERENCIAL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Abseso epidu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Mielitis transver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Herniacion de amigdalas cerebelosas en mening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Neuropatía del enfermo críti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RITERIOS</a:t>
            </a: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DIAGNÓSTIC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1.-criterios para el dx (requerid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a.- Debilidad muscular progresiva en mas de una extrem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b.- Arreflex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2.- Criterios q apoyan el Dx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a.- Progresión de los sintomas hasta 4 s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b.- Simetria relativa de sintom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.- Sintomas o signos sensitivos lig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d.- Afección de pares craneales (7o pa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.- Comienzo de la recuperación en 2-4 s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f.- disfunción autonóm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g.- Ausencia de fiebre al inicio de la enf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h.- Aumento de concentración de proteínas en LCR &lt; 10 cel/mm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3.- Criterios dudosos para el DX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A.- Presencia de nivel sensitivo defini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B.-Marcada o percistente asimetría de sintomas o sign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C.- Disfunción esfinteriana percistente y grave o al inicio de la enfermed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D.- &gt; de 50 cel. Por mm3 o Leucocitos PM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4.- Criterios que excluyen el DX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A.- Dx de botulismo, Miastenia gravis, Poliomielitis o PNP tóx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B.- Transtornos en el metabolismo de la porfirin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C.- Difteria reci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D.- Sd. Sensitivo puro sin debilid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CRITERIOS DE ADMISION EN U.C.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62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1.- CV inferior a 12 ml/ k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2.- CV inferior a 18-20 ml/ kg con signos de fatiga diafragmática ( taquipnes, diaforesis y respiración paradójic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3.- Tos escasa, tendencia a acumular secreciones en las V.R. neumonia por aspir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4.- Debilidad progresiva asociadaq a transtornos de deglu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5.-transtornos autonómicos mayores (Arritmias, Bloqueo, edema pulmonar, Fluctuaciones de TA y FC, Ileo paralític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6.- Hipotensión por plasmafére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7.- Sepsis o Neumon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8.- Dolor Torax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PRONÓSTICO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85 a 90% favorable, del 2 al 4% fallecen y hasta un 30% requieren ventilación asistid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.F. y NC sin cambios sugieren que la enf. Dejara secuel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Debilidad residual en un 15% y hasta un 5% totalmente incapacit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Criterios pronóstico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Buen pronostico( BP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dad tempra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Cuadro agudo: de una a tres seman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Poca severidad y extens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Periodo de progresión bre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Recuperación rápi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Salud anter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Poca denerv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Signo de Mal pronostico (M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dad avanz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Cuadro hiper agudo de una a tres dí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Con trastornos respirato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Con mayor severidad y extens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Periodo de progresión prolongad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Mayor de cuatro seman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nfermedades graves asociad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Denervación severa PUM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Arial"/>
              </a:rPr>
              <a:t>CRITERIOS DE TELLE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Nivel de severidad del deficit mot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Rapidez de la progresión (sintomas graves menos de 7 dia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Daño axonal en EM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Tiempo prolongado entre maxima debilidad y el inicio de recuperación (mas de 1 mes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Apoyo ventilatori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SUMARIO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INTRODUC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DEFINI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PIDEMIOLOG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PATOLOGÍA Y FISIOPATOGENES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LASIFIC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MANIFESTACIONES CLÍNI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STUDIOS COMPLEMENTAR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DIAGNÓSTICO DIFEREN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PRONÓSTI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TRATAMIENTO (CUIDADOS DEL PACIENTE Y REHABILITACIÓ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TRATAMIENTO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CUIDADOS DEL PACIEN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REHABILITA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1.- Medidas genera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A.- Tto postu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B.-Anticoagulan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C.- Fisioterapia respirator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D.- Orte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.- Cuidados de los oj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2.- Disfunción respiratori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A.- Medir C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B.- Intub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3.- Disautonomí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A.- EKG consta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B.- Anticolinergicos (OJ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C.- Cateter en arteria pulmonar si arritmia o inestabilidad hemodinam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.- Si hipotensión reposicion de volu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E.- Tto H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4.- Infeccion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A.- Lavado de man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B.- Técnicas correctas de instrumentación (cateterismo urinari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C.- Desinfeccion y esterilización de equipos de ventila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5.- Nutrición y equilibrio hidrominer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6.- Tto del dol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7.- Apoyo psicolog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8.- Inmunomodul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A.- Plasmaféresis (RC) 40-50 ml/ kg por dia con albúmina o plasma fresco de 3 a 5 seciones distribuidas entre 7 y 14 dias, contraindicada si IMA, angina, sepsis activa o disautonomia cardiovasc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B.- Ig IV 0.4 gramos/kg/dia x 5 dias, aplicación rápida. Mejor efecto con Metilprednisolon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9.- Direcciones futur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A.- Neutralización del A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B.- Neutralización de células “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C.- Bloqueo de citocin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D.- Inhibición de la oxidonitrico sinteta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.- Empleo de interferones (beta 1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REHABILITA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OBJ. GRA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1.- tto postur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2.- Mejorar circul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3.- Mantener A.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4.- Concienzación del movimiento y potenciacion muscu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5.- Evitar daño en areas de anestec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STADOS FUNCIONALES DE HUG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5- Disautonomia, toma respiratoria con ventilador, transtornos de deglución y/o alimentación, cuadriplejí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4.- Estabilidad hemodinam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3.- Marcha hasta 5 mts con apoyo ext. Y dependiente en AV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2.- Marcha independiente hasta 50 mts con o sin muletas independiente AV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1.- Independencia total de la marcha y AV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En resume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1.- Prevenir complicaciones debida al estado critico del pacien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2.- Intervención dirigida a la reeducación y fortalecimiento muscular, recuperación funcional y la independencia a las AV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A.- Férul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B.- Intervencion de terapia fisica(agentes fisicos tto postural, movilizaciones, reeducacion diafragmatica y respiratori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C.- Tto por logofoniatría (alimentación y formas alternativas de comunicació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.- T.O. habilidades y autoesti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E.- Desde los estados 3 al 1 de Hughes fortalecimiento muscular, marcha, recre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F.- Talleres a familia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INTRODUCCIÓN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esde inicios del s. xix se recogieron casos sin prestarle la debida aten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1859, Jean Baptiste Octave Landry, describe parálisis aguda ascenden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1876, Westphal,utiliza el término anteri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1892, Ostler, introduce polineuritis febril agu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urante la primera guerra mundial, Georges Charles Guillain y Jean Alexandre Barré, describen 2 casos y en 1916 junto a Sthröl (electrofiosiología) publican un informe clásico y señalan la disociación albúmino-citológ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1949, Haymaker y Kernohan realizan correlación clinicopatológ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1955, Waksman y Adams, describen N.A.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1956, C. Miller Fisher, publica una variante atípica,Feasby, 1986, S.G.B axon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1963, Melnick,encuentra Ac contra el tejido nervioso en 19/38 pacientes.en 1976 se establece relación con vacunación porcina. En 1984 Kaldor y Speed, informan evidencia de C. Jejuni en el 38%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DEFINICIÓN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Polirradiculoneuropatía de inicio agudo y progresión rápida, de naturaleza autoinmune caracterizada por daño axonal en algunos casos y mas frecuentemente desmielinización  que afecta a las raices, nervios perifericos y pares craneales,  con  remisión espontanea vari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EPIDEMIOLOGÍA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Ocurre en cualquier región del mundo y a cualquier e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Mayor incidencia de 5ta – 8va decdas y tasa entre 0.4 y 2.4 por 100,000 habitan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Mas frecuente en hombres y raza blan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Aparición esporádica o brotes, no variación estacion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2/3 de los pacientes siguen a una infección y 1/3 en el curso de transtornos sistémic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Mortalidad entre 2-8%, si ventilación hasta el 3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PATOLOGÍA Y FISIOPATOGÉNE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Infiltrado inflamatorio mononuclear con desmielinización multisegmentaria mediada por macrófagos junto a infiltración perivascular y daño axonal variable ( CIDP) en raices, zonas de compresión y teminaciones nerviosas distales. En su composición hay linfocitos “T” (inicio) y Macrófagos (tardi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Ac frecuentes Anti GQ1B (SMF) y GM1 en neuropatía axon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CLASIFICACIÓN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1.- Polineuropatía desmielinizante inflamatoria aguda (AID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2.- Neuropatia axonal motora agud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3.- Neuropatia axonal sensitivo-motora agu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4.- Sindrome de Miller-Fisc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CLÍNICA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Formas clínic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Sd. Miller- Fisc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S.GB motor pu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S.GB sensitivo pu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Pandisautonomía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S.GB crane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1.- Debil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2.- Arreflex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3.- Dol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4.- Transtornos autonómic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3T14:58:03Z</dcterms:created>
  <dc:creator>Dr. Daniel Alvarez</dc:creator>
  <dc:description/>
  <dc:language>en-US</dc:language>
  <cp:lastModifiedBy>Dr. Daniel Alvarez</cp:lastModifiedBy>
  <dcterms:modified xsi:type="dcterms:W3CDTF">2004-03-23T16:34:17Z</dcterms:modified>
  <cp:revision>3</cp:revision>
  <dc:subject/>
  <dc:title>Diapositiva 1</dc:title>
</cp:coreProperties>
</file>