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795-A002-4C41-A511-4063812C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8A2-6D51-475D-BEC8-943B5C2A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8AF-46DF-4BA6-A4F1-4FB3A44D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B34-6357-4D90-93D3-86ADBD81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260-F2ED-4C6D-96C5-D4CF4E62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E6A-4A4D-44D4-91D9-75604186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2D6-5C31-4CD4-B496-A45EA8E2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ECF-74EC-4EA3-82AA-1DF1FB44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6D2-B663-4716-A00C-DA79078A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655-FF49-437F-BAD9-6E4CFFA4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D66B-93C0-4E16-A0F5-7B63613D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4DE-89B8-4431-BC94-1B7D9180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3329-E72D-4E4D-996E-4C157737C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85800"/>
            <a:ext cx="8305920" cy="3124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GENERALIDADES DEL  </a:t>
            </a:r>
            <a:br>
              <a:rPr sz="4400"/>
            </a:br>
            <a:br>
              <a:rPr sz="4400"/>
            </a:b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SISTEMA   NERVIOSO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0360" y="4876920"/>
            <a:ext cx="57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. Caridad Dovale Borj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1280" y="137160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stancia gr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286000"/>
            <a:ext cx="3962160" cy="32767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cuerp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9600" y="30492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úmul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195200">
            <a:off x="5257440" y="9907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6400" y="18288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590920"/>
            <a:ext cx="1828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úcl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0734800">
            <a:off x="7010280" y="99036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30480" y="182880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fé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1904760" cy="1295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ngl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2520" y="403848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pas o empaliza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5562720"/>
            <a:ext cx="259092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t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47242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04920"/>
            <a:ext cx="294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UERP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219320"/>
            <a:ext cx="8763120" cy="22860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on acúmulos fundament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 cuerpos neuronales situ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la porción periférica del sist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ervios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9240" y="25560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angl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733920"/>
            <a:ext cx="403848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6160" y="4038480"/>
            <a:ext cx="24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nsi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495680"/>
            <a:ext cx="307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los nerv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pinales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n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886200"/>
            <a:ext cx="4267080" cy="26668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396252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getativos o motores visce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938840"/>
            <a:ext cx="472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nervios craneal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ena simpática,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114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stancia blan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438280"/>
            <a:ext cx="3962520" cy="3657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damentalm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long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ielín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762120"/>
            <a:ext cx="25146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1676520"/>
            <a:ext cx="76212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960" y="25146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c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276720"/>
            <a:ext cx="2514600" cy="68580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fé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99800">
            <a:off x="5333760" y="411444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267080"/>
            <a:ext cx="381240" cy="1371600"/>
          </a:xfrm>
          <a:prstGeom prst="downArrow">
            <a:avLst>
              <a:gd name="adj1" fmla="val 50000"/>
              <a:gd name="adj2" fmla="val 89943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0834400">
            <a:off x="8153280" y="411480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6760" y="510552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í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3280" y="586728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rv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52880" y="50292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ex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0" y="0"/>
            <a:ext cx="55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LONG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49.1nEURONA%20LIMPIApg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340080" cy="4340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5240" y="380880"/>
            <a:ext cx="22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1600200"/>
            <a:ext cx="609480" cy="3429000"/>
          </a:xfrm>
          <a:custGeom>
            <a:avLst/>
            <a:gdLst>
              <a:gd name="textAreaLeft" fmla="*/ 0 w 609480"/>
              <a:gd name="textAreaRight" fmla="*/ 219960 w 6094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33"/>
                </a:lnTo>
                <a:cubicBezTo>
                  <a:pt x="10800" y="10133"/>
                  <a:pt x="16200" y="11033"/>
                  <a:pt x="21600" y="11033"/>
                </a:cubicBezTo>
                <a:cubicBezTo>
                  <a:pt x="16200" y="11033"/>
                  <a:pt x="10800" y="11933"/>
                  <a:pt x="10800" y="128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4520" y="297180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long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5760" y="167652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ndri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320" y="3733920"/>
            <a:ext cx="174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x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133720" y="1828440"/>
            <a:ext cx="2133360" cy="152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1981080"/>
            <a:ext cx="175248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905120" y="4343040"/>
            <a:ext cx="2514600" cy="228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1496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6720" y="43434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96680" y="1371600"/>
            <a:ext cx="30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Arco%20reflejomodificado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7672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80" y="3048120"/>
            <a:ext cx="3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67680" y="6523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cepto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1080" y="3808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rminación nerviosa que transforma el estímulo en impulso nervios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040" y="222552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eden s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280" y="4038480"/>
            <a:ext cx="3429000" cy="23623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rocep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16160" y="2057400"/>
            <a:ext cx="3581640" cy="19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ocep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02160" y="3276720"/>
            <a:ext cx="3733920" cy="3581280"/>
          </a:xfrm>
          <a:prstGeom prst="diamond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iocep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2916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656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40" y="44956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2120" y="1143000"/>
            <a:ext cx="30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Arco%20reflejomodificado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9092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" y="30481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4600" y="533520"/>
            <a:ext cx="64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bras sensitivas o afer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828800"/>
            <a:ext cx="6019560" cy="4191120"/>
          </a:xfrm>
          <a:prstGeom prst="hexagon">
            <a:avLst>
              <a:gd name="adj" fmla="val 35907"/>
              <a:gd name="vf" fmla="val 11547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 fibra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mit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ción haci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cent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1004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8744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40" y="43434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4956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649320" y="1447920"/>
            <a:ext cx="68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Arco%20reflejomodificado" descr=""/>
          <p:cNvPicPr/>
          <p:nvPr/>
        </p:nvPicPr>
        <p:blipFill>
          <a:blip r:embed="rId1"/>
          <a:stretch/>
        </p:blipFill>
        <p:spPr>
          <a:xfrm>
            <a:off x="350532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38680" y="1371600"/>
            <a:ext cx="152640" cy="2209680"/>
          </a:xfrm>
          <a:prstGeom prst="downArrow">
            <a:avLst>
              <a:gd name="adj1" fmla="val 50000"/>
              <a:gd name="adj2" fmla="val 3619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024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28800" y="457200"/>
            <a:ext cx="49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urona sensitiv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209680"/>
            <a:ext cx="5867640" cy="28958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 neuronas cuy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erpos se encuentra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 los gangl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nsiti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80880"/>
            <a:ext cx="8458200" cy="53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              </a:t>
            </a:r>
            <a:r>
              <a:rPr b="1" lang="es-MX" sz="4400" spc="-1" strike="noStrike">
                <a:solidFill>
                  <a:srgbClr val="ffff00"/>
                </a:solidFill>
                <a:latin typeface="Tahoma"/>
                <a:ea typeface="Times New Roman"/>
              </a:rPr>
              <a:t>SUMARIO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G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eneralidades del Sistema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N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ervioso (SN): Concepto, propiedades fundamentales y funciones, división, componentes, estructura.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co reflejo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componentes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tipos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 Aferencia y eferencia. 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76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16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1371600" y="4351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5392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720" y="304812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49320" y="1219320"/>
            <a:ext cx="60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Arco%20reflejomodificado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343400" y="1371600"/>
            <a:ext cx="152280" cy="2209680"/>
          </a:xfrm>
          <a:prstGeom prst="downArrow">
            <a:avLst>
              <a:gd name="adj1" fmla="val 50000"/>
              <a:gd name="adj2" fmla="val 362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505320"/>
            <a:ext cx="1447920" cy="15228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504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92000" y="38088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urona moto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371600"/>
            <a:ext cx="8153280" cy="45720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 neuronas que transmit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órdenes, se encuentran en 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ción central del sist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ioso o en gangl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el caso de la porció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get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98144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16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371600" y="4343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5392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72720" y="304812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7880" y="1447920"/>
            <a:ext cx="45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Arco%20reflejomodificado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754520" cy="4800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343400" y="1371600"/>
            <a:ext cx="152280" cy="2209680"/>
          </a:xfrm>
          <a:prstGeom prst="downArrow">
            <a:avLst>
              <a:gd name="adj1" fmla="val 50000"/>
              <a:gd name="adj2" fmla="val 362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3505320"/>
            <a:ext cx="1447920" cy="15228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04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516800">
            <a:off x="4800240" y="4419360"/>
            <a:ext cx="2743200" cy="152280"/>
          </a:xfrm>
          <a:prstGeom prst="leftArrow">
            <a:avLst>
              <a:gd name="adj1" fmla="val 50000"/>
              <a:gd name="adj2" fmla="val 45035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1200" y="4572000"/>
            <a:ext cx="1959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3880" y="1523880"/>
            <a:ext cx="6019920" cy="4648320"/>
          </a:xfrm>
          <a:prstGeom prst="hexagon">
            <a:avLst>
              <a:gd name="adj" fmla="val 32377"/>
              <a:gd name="vf" fmla="val 115470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 fibra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mit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ción des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 centro 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órgano efec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3200" y="53352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bras motoras o efer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05480" y="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b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800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320" y="4351320"/>
            <a:ext cx="17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f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976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88560" y="304812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9697320" y="1447920"/>
            <a:ext cx="60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Arco%20reflejomodificado" descr=""/>
          <p:cNvPicPr/>
          <p:nvPr/>
        </p:nvPicPr>
        <p:blipFill>
          <a:blip r:embed="rId1"/>
          <a:stretch/>
        </p:blipFill>
        <p:spPr>
          <a:xfrm>
            <a:off x="2225520" y="1676520"/>
            <a:ext cx="475488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359240" y="1371600"/>
            <a:ext cx="152280" cy="2209680"/>
          </a:xfrm>
          <a:prstGeom prst="downArrow">
            <a:avLst>
              <a:gd name="adj1" fmla="val 50000"/>
              <a:gd name="adj2" fmla="val 362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3120" y="3505320"/>
            <a:ext cx="1447920" cy="15228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236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63760" y="48006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80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2096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516800">
            <a:off x="4816080" y="4419360"/>
            <a:ext cx="2743200" cy="152280"/>
          </a:xfrm>
          <a:prstGeom prst="leftArrow">
            <a:avLst>
              <a:gd name="adj1" fmla="val 50000"/>
              <a:gd name="adj2" fmla="val 45035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77040" y="4572000"/>
            <a:ext cx="1959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380880"/>
            <a:ext cx="55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Órgano efec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9000" y="1703520"/>
            <a:ext cx="830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s la estructura que realiza la acc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 respues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657600"/>
            <a:ext cx="2971800" cy="16002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úscul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3276720"/>
            <a:ext cx="2819520" cy="2209680"/>
          </a:xfrm>
          <a:prstGeom prst="hexagon">
            <a:avLst>
              <a:gd name="adj" fmla="val 31900"/>
              <a:gd name="vf" fmla="val 11547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ándu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16680" y="0"/>
            <a:ext cx="55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rco reflejo trineur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8000" y="220968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320" y="4351320"/>
            <a:ext cx="17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f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9760" y="9144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88560" y="3048120"/>
            <a:ext cx="19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45240" y="1447920"/>
            <a:ext cx="30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rcal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Arco%20reflejomodificado" descr=""/>
          <p:cNvPicPr/>
          <p:nvPr/>
        </p:nvPicPr>
        <p:blipFill>
          <a:blip r:embed="rId1"/>
          <a:stretch/>
        </p:blipFill>
        <p:spPr>
          <a:xfrm>
            <a:off x="2225520" y="1676520"/>
            <a:ext cx="4754880" cy="4800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59240" y="1371600"/>
            <a:ext cx="152280" cy="2209680"/>
          </a:xfrm>
          <a:prstGeom prst="downArrow">
            <a:avLst>
              <a:gd name="adj1" fmla="val 50000"/>
              <a:gd name="adj2" fmla="val 362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433400">
            <a:off x="5502240" y="251424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4520" y="3048120"/>
            <a:ext cx="76320" cy="75960"/>
          </a:xfrm>
          <a:prstGeom prst="octagon">
            <a:avLst>
              <a:gd name="adj" fmla="val 2928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83120" y="3505320"/>
            <a:ext cx="1447920" cy="152280"/>
          </a:xfrm>
          <a:prstGeom prst="leftArrow">
            <a:avLst>
              <a:gd name="adj1" fmla="val 50000"/>
              <a:gd name="adj2" fmla="val 23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74320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63760" y="4800600"/>
            <a:ext cx="1828800" cy="152280"/>
          </a:xfrm>
          <a:prstGeom prst="rightArrow">
            <a:avLst>
              <a:gd name="adj1" fmla="val 50000"/>
              <a:gd name="adj2" fmla="val 30023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00" y="2979720"/>
            <a:ext cx="23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s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0960" y="35053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516800">
            <a:off x="4816080" y="4419360"/>
            <a:ext cx="2743200" cy="152280"/>
          </a:xfrm>
          <a:prstGeom prst="leftArrow">
            <a:avLst>
              <a:gd name="adj1" fmla="val 50000"/>
              <a:gd name="adj2" fmla="val 45035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77040" y="4572000"/>
            <a:ext cx="1959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b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18760" y="423720"/>
            <a:ext cx="45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urona intercala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219320"/>
            <a:ext cx="7391520" cy="297180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eden ser una o var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  neuronas que se encuentr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la porción central del sist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ioso, interpuesta entre 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as sensitiva y motor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572000"/>
            <a:ext cx="8076960" cy="1600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os arcos reflejos con mas de u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eurona intercalada son polineur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Arco%20reflejo%20completo%20peq.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594320" cy="4647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53560" y="304920"/>
            <a:ext cx="51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rco reflejo veget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809520" y="5181480"/>
            <a:ext cx="1143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4440" y="4876920"/>
            <a:ext cx="282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p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interocep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2514600"/>
            <a:ext cx="0" cy="9907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81080"/>
            <a:ext cx="37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na sensi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885840" y="2590920"/>
            <a:ext cx="11430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10200" y="2057400"/>
            <a:ext cx="31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urona e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504960" y="4191120"/>
            <a:ext cx="1523880" cy="6094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88600" y="3597120"/>
            <a:ext cx="35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rona e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fé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729sin%20letras" descr=""/>
          <p:cNvPicPr/>
          <p:nvPr/>
        </p:nvPicPr>
        <p:blipFill>
          <a:blip r:embed="rId1"/>
          <a:stretch/>
        </p:blipFill>
        <p:spPr>
          <a:xfrm>
            <a:off x="5451480" y="1523880"/>
            <a:ext cx="3692520" cy="4008600"/>
          </a:xfrm>
          <a:prstGeom prst="rect">
            <a:avLst/>
          </a:prstGeom>
          <a:ln w="0">
            <a:noFill/>
          </a:ln>
        </p:spPr>
      </p:pic>
      <p:pic>
        <p:nvPicPr>
          <p:cNvPr id="248" name="Vesículas%205" descr=""/>
          <p:cNvPicPr/>
          <p:nvPr/>
        </p:nvPicPr>
        <p:blipFill>
          <a:blip r:embed="rId2"/>
          <a:stretch/>
        </p:blipFill>
        <p:spPr>
          <a:xfrm>
            <a:off x="0" y="1523880"/>
            <a:ext cx="3209760" cy="3907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04000" y="14479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64120" y="227484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64840" y="303696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88520" y="372276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2320" y="1752480"/>
            <a:ext cx="914400" cy="76212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1752480"/>
            <a:ext cx="2057400" cy="76212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1981080" y="2490840"/>
            <a:ext cx="1294920" cy="396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2590920"/>
            <a:ext cx="2210040" cy="60948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371240" y="2285640"/>
            <a:ext cx="2057400" cy="106668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3429000"/>
            <a:ext cx="2209680" cy="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1371600" y="2819520"/>
            <a:ext cx="1905120" cy="121896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334120" y="3505320"/>
            <a:ext cx="2895480" cy="4572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008400">
            <a:off x="5334120" y="342900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eb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410080" y="3809520"/>
            <a:ext cx="2438640" cy="3812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0926800">
            <a:off x="5641920" y="39621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4495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elencéf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371600" y="3352680"/>
            <a:ext cx="1828800" cy="13716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410080" y="4038120"/>
            <a:ext cx="2590920" cy="685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4637160"/>
            <a:ext cx="35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dula oblon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bulbo raquíd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0" y="5562720"/>
            <a:ext cx="56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e no dilatada del tubo ne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1294920" y="4191120"/>
            <a:ext cx="304920" cy="13716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11240" y="556272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édula esp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8200440" y="4325760"/>
            <a:ext cx="819720" cy="133128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2680" y="271440"/>
            <a:ext cx="88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NTOGENIA DEL SISTEMA NERVIO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3000" y="0"/>
            <a:ext cx="8893080" cy="6727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                    </a:t>
            </a:r>
            <a:r>
              <a:rPr b="1" lang="es-MX" sz="4000" spc="-1" strike="noStrike">
                <a:solidFill>
                  <a:srgbClr val="ffff00"/>
                </a:solidFill>
                <a:latin typeface="Tahoma"/>
              </a:rPr>
              <a:t>Objetivo:</a:t>
            </a:r>
            <a:br>
              <a:rPr sz="4000"/>
            </a:b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E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xplicar: 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Las caracter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í</a:t>
            </a:r>
            <a:r>
              <a:rPr b="1" lang="es-ES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sticas 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morfofuncionales</a:t>
            </a:r>
            <a:br>
              <a:rPr sz="3200"/>
            </a:br>
            <a:r>
              <a:rPr b="1" lang="es-MX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generales del SN teniendo en cuenta sus propiedades, funciones, división, estructura, unidad morfofuncional, utilizando imágenes y modelos en función de su actuación como médico general básico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906920" y="68580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guración exter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2438280"/>
            <a:ext cx="5867280" cy="2971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lles que pued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irse en la superfici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cualquier segmento 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ción del sistema nervi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su parte central o 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alquier órg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Dibujo" descr=""/>
          <p:cNvPicPr/>
          <p:nvPr/>
        </p:nvPicPr>
        <p:blipFill>
          <a:blip r:embed="rId1"/>
          <a:stretch/>
        </p:blipFill>
        <p:spPr>
          <a:xfrm>
            <a:off x="990720" y="846000"/>
            <a:ext cx="7238880" cy="56692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819520" y="3665520"/>
            <a:ext cx="1523880" cy="152280"/>
          </a:xfrm>
          <a:prstGeom prst="rightArrow">
            <a:avLst>
              <a:gd name="adj1" fmla="val 50000"/>
              <a:gd name="adj2" fmla="val 2501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54943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864200">
            <a:off x="4114800" y="1302840"/>
            <a:ext cx="990720" cy="152640"/>
          </a:xfrm>
          <a:prstGeom prst="rightArrow">
            <a:avLst>
              <a:gd name="adj1" fmla="val 50000"/>
              <a:gd name="adj2" fmla="val 1622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797600">
            <a:off x="5638320" y="2446200"/>
            <a:ext cx="1676520" cy="152640"/>
          </a:xfrm>
          <a:prstGeom prst="leftArrow">
            <a:avLst>
              <a:gd name="adj1" fmla="val 50000"/>
              <a:gd name="adj2" fmla="val 2745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140840" y="17604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54440" y="3197160"/>
            <a:ext cx="278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sura medi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24360" y="69372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co mediano pos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3240" y="5189400"/>
            <a:ext cx="231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r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terolat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8240" y="2370240"/>
            <a:ext cx="253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r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sterolat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04560" y="693720"/>
            <a:ext cx="35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r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mediopos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20843400">
            <a:off x="5412960" y="1563480"/>
            <a:ext cx="762120" cy="15228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4000" y="153180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ervic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00720" y="-10944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ejemp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441160" y="533520"/>
            <a:ext cx="49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guración inter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1447920"/>
            <a:ext cx="6553080" cy="48765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ción de 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ncia blanca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ncia gr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los segm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la porción c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 Sistema Nervi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Dibujo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553080" cy="5668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447200" y="9144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ncia blan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1447920"/>
            <a:ext cx="457200" cy="457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360" y="1219320"/>
            <a:ext cx="221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nc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343400" y="1905120"/>
            <a:ext cx="1752480" cy="152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05640" y="-10944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r ejempl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735000" y="3049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1219320"/>
            <a:ext cx="777240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nto de fibras, dentro de la par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del sistema nervioso 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ucen un mismo t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in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3809880"/>
            <a:ext cx="7924680" cy="2667240"/>
          </a:xfrm>
          <a:prstGeom prst="ellipse">
            <a:avLst/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ando los tractos tienen s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gen en el tronco encefálic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 llaman lemnis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onf.%20interna%20coloreada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96080" cy="5427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914400" y="190512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5280" indent="-66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inocerebe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5400" y="22096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á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04760" y="297180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neifor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6920" y="274320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22860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20" y="0"/>
            <a:ext cx="55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os tractos pueden 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666880" y="2666880"/>
            <a:ext cx="1295640" cy="1371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396252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órticoesp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2590920"/>
            <a:ext cx="10666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514600" y="2895480"/>
            <a:ext cx="914400" cy="1526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4876560" y="2514600"/>
            <a:ext cx="1904760" cy="763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571640" y="2514600"/>
            <a:ext cx="1676520" cy="5335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838080"/>
            <a:ext cx="25146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er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838080"/>
            <a:ext cx="29718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er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Arco%20reflejo%20completo%20peq.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594320" cy="4648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419720" y="1981080"/>
            <a:ext cx="7596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152388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íz dor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56240" y="236232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íz v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2819520"/>
            <a:ext cx="1143000" cy="457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6360" y="20574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r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962520"/>
            <a:ext cx="10666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600" y="3429000"/>
            <a:ext cx="151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352680" y="3962520"/>
            <a:ext cx="304920" cy="1371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4400" y="533412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mo comunicante gr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723920" y="2819520"/>
            <a:ext cx="1600200" cy="9903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3885840" y="3885840"/>
            <a:ext cx="25146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21600" y="3809880"/>
            <a:ext cx="312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unic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an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2040" y="380880"/>
            <a:ext cx="69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titución del nervio espi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4240" y="0"/>
            <a:ext cx="79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ONCEPTO DE SISTEMA NERVIO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6880" y="1143000"/>
            <a:ext cx="5029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 el conjunto de estructuras  que rigen la coordinación y control de todas las funciones del cuerpo, asegurando así la integridad del organismo como un todo único y su relación con el medi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hombre%20nervio" descr=""/>
          <p:cNvPicPr/>
          <p:nvPr/>
        </p:nvPicPr>
        <p:blipFill>
          <a:blip r:embed="rId1"/>
          <a:stretch/>
        </p:blipFill>
        <p:spPr>
          <a:xfrm>
            <a:off x="372960" y="1219320"/>
            <a:ext cx="335304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68760" indent="-276876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MX" sz="4400" spc="-1" strike="noStrike">
                <a:solidFill>
                  <a:srgbClr val="ffff00"/>
                </a:solidFill>
                <a:latin typeface="Arial"/>
              </a:rPr>
              <a:t>PROPIEDADES DEL TEJIDO                               NERVIOS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0968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MX" sz="4000" spc="-1" strike="noStrike">
                <a:solidFill>
                  <a:srgbClr val="ffff00"/>
                </a:solidFill>
                <a:latin typeface="Arial"/>
              </a:rPr>
              <a:t>Excitabilida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5960" y="22096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ductividad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72800" y="411480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24080"/>
            <a:ext cx="4191120" cy="3200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Capacidad par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responder a l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stímul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3200400"/>
            <a:ext cx="3962160" cy="3048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apacidad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nducir l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mpuls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DIVISION DEL SISTEMA NERVIOS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907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topográfico</a:t>
            </a: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209680"/>
            <a:ext cx="4495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Porción cen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886200"/>
            <a:ext cx="480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Porción periférica (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ervios, raíces, troncos, ramos, ganglios, plexos nerviosos, termin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hombre%20nervio" descr=""/>
          <p:cNvPicPr/>
          <p:nvPr/>
        </p:nvPicPr>
        <p:blipFill>
          <a:blip r:embed="rId1"/>
          <a:stretch/>
        </p:blipFill>
        <p:spPr>
          <a:xfrm>
            <a:off x="762120" y="1822320"/>
            <a:ext cx="3352680" cy="503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03520" y="2798640"/>
            <a:ext cx="32500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céfalo 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édula espinal</a:t>
            </a: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514600" y="3429000"/>
            <a:ext cx="1905120" cy="763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590920" y="2057040"/>
            <a:ext cx="1828800" cy="10666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VISION DEL SISTEMA NERVIO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0578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topográfico</a:t>
            </a:r>
            <a:r>
              <a:rPr b="0" lang="es-MX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0"/>
            <a:ext cx="84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funciona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971800"/>
            <a:ext cx="80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 la vida de relación y veget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733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ontogenétic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343400"/>
            <a:ext cx="843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ático y visceral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81480"/>
            <a:ext cx="85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Desde el punto de vista filogenétic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867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ntral y perifér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LCR.%20CirculaciÃ³nlimpia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4111920" cy="518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96560" y="2754720"/>
            <a:ext cx="2512800" cy="89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15320" y="5093640"/>
            <a:ext cx="2237040" cy="404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0" y="3733920"/>
            <a:ext cx="31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egmenta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64520" y="1247040"/>
            <a:ext cx="1660680" cy="477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74280" y="920160"/>
            <a:ext cx="185400" cy="170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" y="380880"/>
            <a:ext cx="41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Suprasegmentar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2400" y="4664160"/>
            <a:ext cx="309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édula esp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7040" y="2286000"/>
            <a:ext cx="21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nc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cefá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040" y="930240"/>
            <a:ext cx="24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encéfa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5720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encéfa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324480" y="3428640"/>
            <a:ext cx="9907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3760" y="327672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eb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9.1nEURONA%20LIMPIApg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3340080" cy="4340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2960" y="380880"/>
            <a:ext cx="22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EU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2133720"/>
            <a:ext cx="2057400" cy="15228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520" y="190512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er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00200"/>
            <a:ext cx="609480" cy="3429000"/>
          </a:xfrm>
          <a:custGeom>
            <a:avLst/>
            <a:gdLst>
              <a:gd name="textAreaLeft" fmla="*/ 0 w 609480"/>
              <a:gd name="textAreaRight" fmla="*/ 219960 w 60948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33"/>
                </a:lnTo>
                <a:cubicBezTo>
                  <a:pt x="10800" y="10133"/>
                  <a:pt x="16200" y="11033"/>
                  <a:pt x="21600" y="11033"/>
                </a:cubicBezTo>
                <a:cubicBezTo>
                  <a:pt x="16200" y="11033"/>
                  <a:pt x="10800" y="11933"/>
                  <a:pt x="10800" y="1283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6720" y="3048120"/>
            <a:ext cx="33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long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23:47:04Z</dcterms:created>
  <dc:creator>roly</dc:creator>
  <dc:description/>
  <dc:language>en-US</dc:language>
  <cp:lastModifiedBy>roly</cp:lastModifiedBy>
  <dcterms:modified xsi:type="dcterms:W3CDTF">2005-01-08T01:56:26Z</dcterms:modified>
  <cp:revision>6</cp:revision>
  <dc:subject/>
  <dc:title>Sin título de diapositiva</dc:title>
</cp:coreProperties>
</file>