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98B9-432F-4CE6-9B23-3CC60A371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3F63-1BF1-4709-851A-FA1FB3E5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7D3E-DF3A-4B6F-81F9-F04AEC74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3575-BD25-4026-BCB6-83D86C5E9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710F-034A-46FE-A5C1-9FCD7A67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15FA-3B03-45EC-87E7-227E8C3B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60C6-FD3C-4DAE-BB8F-0D8D1786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8DC0-BDD9-43AE-A247-BD27891C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D9AD-852F-4CC2-9EF0-ABF0D271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63DC-0D3E-40DB-9D19-1488CB25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D8AA-3FCD-4EC4-BA84-6FD6EE54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F55F-4988-43CF-9968-5C3B0427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B475-85CC-4A64-8CB2-EC0A5B9E32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685800"/>
            <a:ext cx="8305920" cy="3124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MX" sz="4400" spc="-1" strike="noStrike">
                <a:solidFill>
                  <a:srgbClr val="ffff00"/>
                </a:solidFill>
                <a:latin typeface="Arial"/>
              </a:rPr>
              <a:t>GENERALIDADES DEL  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ffff00"/>
                </a:solidFill>
                <a:latin typeface="Arial"/>
              </a:rPr>
              <a:t>SISTEMA   NERVIOSO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0360" y="4876920"/>
            <a:ext cx="57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a. Caridad Dovale Borj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11280" y="1371600"/>
            <a:ext cx="330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stancia gr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2286000"/>
            <a:ext cx="3962160" cy="327672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jun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damentalmen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 cuerp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ro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59600" y="304920"/>
            <a:ext cx="23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úmul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195200">
            <a:off x="5257440" y="99072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96400" y="182880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n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2590920"/>
            <a:ext cx="1828800" cy="685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úcle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20734800">
            <a:off x="7010280" y="99036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30480" y="1828800"/>
            <a:ext cx="205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ifér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34320" y="2514600"/>
            <a:ext cx="1904760" cy="12952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ngl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2520" y="4038480"/>
            <a:ext cx="45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pas o empaliza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38680" y="5562720"/>
            <a:ext cx="2590920" cy="838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te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29400" y="4724280"/>
            <a:ext cx="533520" cy="609840"/>
          </a:xfrm>
          <a:prstGeom prst="downArrow">
            <a:avLst>
              <a:gd name="adj1" fmla="val 50000"/>
              <a:gd name="adj2" fmla="val 2857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04920"/>
            <a:ext cx="294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UERP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219320"/>
            <a:ext cx="8763120" cy="228600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Son acúmulos fundamentalm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 cuerpos neuronales situad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n la porción periférica del sistem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nervios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9240" y="255600"/>
            <a:ext cx="213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angli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733920"/>
            <a:ext cx="4038480" cy="25146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6160" y="4038480"/>
            <a:ext cx="243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ensitiv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4495680"/>
            <a:ext cx="307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 los nervi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pinales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ane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3886200"/>
            <a:ext cx="4267080" cy="26668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3962520"/>
            <a:ext cx="403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egetativos o motores viscer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52880" y="4938840"/>
            <a:ext cx="4724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 nervios craneale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dena simpática,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r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2680" y="1143000"/>
            <a:ext cx="39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stancia blan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438280"/>
            <a:ext cx="3962520" cy="365760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nju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undamentalmen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long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ielín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762120"/>
            <a:ext cx="2514600" cy="685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24480" y="1676520"/>
            <a:ext cx="76212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3960" y="2514600"/>
            <a:ext cx="16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c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15000" y="3276720"/>
            <a:ext cx="2514600" cy="68580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ifér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99800">
            <a:off x="5333760" y="4114440"/>
            <a:ext cx="457200" cy="838080"/>
          </a:xfrm>
          <a:prstGeom prst="downArrow">
            <a:avLst>
              <a:gd name="adj1" fmla="val 50000"/>
              <a:gd name="adj2" fmla="val 45827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4267080"/>
            <a:ext cx="381240" cy="1371600"/>
          </a:xfrm>
          <a:prstGeom prst="downArrow">
            <a:avLst>
              <a:gd name="adj1" fmla="val 50000"/>
              <a:gd name="adj2" fmla="val 89943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20834400">
            <a:off x="8153280" y="4114800"/>
            <a:ext cx="457200" cy="838080"/>
          </a:xfrm>
          <a:prstGeom prst="downArrow">
            <a:avLst>
              <a:gd name="adj1" fmla="val 50000"/>
              <a:gd name="adj2" fmla="val 45827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6760" y="5105520"/>
            <a:ext cx="14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73280" y="586728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rv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52880" y="5029200"/>
            <a:ext cx="14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ex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0" y="0"/>
            <a:ext cx="555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LONGACION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49.1nEURONA%20LIMPIApg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3340080" cy="4340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5240" y="380880"/>
            <a:ext cx="225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NEURO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4120" y="1600200"/>
            <a:ext cx="609480" cy="3429000"/>
          </a:xfrm>
          <a:custGeom>
            <a:avLst/>
            <a:gdLst>
              <a:gd name="textAreaLeft" fmla="*/ 0 w 609480"/>
              <a:gd name="textAreaRight" fmla="*/ 219960 w 60948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233"/>
                </a:lnTo>
                <a:cubicBezTo>
                  <a:pt x="10800" y="10133"/>
                  <a:pt x="16200" y="11033"/>
                  <a:pt x="21600" y="11033"/>
                </a:cubicBezTo>
                <a:cubicBezTo>
                  <a:pt x="16200" y="11033"/>
                  <a:pt x="10800" y="11933"/>
                  <a:pt x="10800" y="1283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34520" y="2971800"/>
            <a:ext cx="331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long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5760" y="1676520"/>
            <a:ext cx="218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ndri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9320" y="3733920"/>
            <a:ext cx="174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euri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x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133720" y="1828440"/>
            <a:ext cx="2133360" cy="15228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1981080"/>
            <a:ext cx="175248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905120" y="4343040"/>
            <a:ext cx="2514600" cy="2286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514960" y="0"/>
            <a:ext cx="54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Arco reflejo bineur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92360" y="2209680"/>
            <a:ext cx="21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cep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46720" y="434340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496680" y="1371600"/>
            <a:ext cx="30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Arco%20reflejomodificado" descr=""/>
          <p:cNvPicPr/>
          <p:nvPr/>
        </p:nvPicPr>
        <p:blipFill>
          <a:blip r:embed="rId1"/>
          <a:stretch/>
        </p:blipFill>
        <p:spPr>
          <a:xfrm>
            <a:off x="3809880" y="1676520"/>
            <a:ext cx="4754520" cy="4800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276720" y="2743200"/>
            <a:ext cx="2057400" cy="152280"/>
          </a:xfrm>
          <a:prstGeom prst="rightArrow">
            <a:avLst>
              <a:gd name="adj1" fmla="val 50000"/>
              <a:gd name="adj2" fmla="val 33776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480" y="3048120"/>
            <a:ext cx="3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67680" y="652320"/>
            <a:ext cx="23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ceptor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1080" y="38088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rminación nerviosa que transforma el estímulo en impulso nervios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2040" y="2225520"/>
            <a:ext cx="250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ueden s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9280" y="4038480"/>
            <a:ext cx="3429000" cy="23623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nterocept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16160" y="2057400"/>
            <a:ext cx="3581640" cy="1981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rocept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02160" y="3276720"/>
            <a:ext cx="3733920" cy="3581280"/>
          </a:xfrm>
          <a:prstGeom prst="diamond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piocept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829160" y="0"/>
            <a:ext cx="54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Arco reflejo bineur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06560" y="2209680"/>
            <a:ext cx="21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cep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640" y="44956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2120" y="1143000"/>
            <a:ext cx="304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Arco%20reflejomodificado" descr=""/>
          <p:cNvPicPr/>
          <p:nvPr/>
        </p:nvPicPr>
        <p:blipFill>
          <a:blip r:embed="rId1"/>
          <a:stretch/>
        </p:blipFill>
        <p:spPr>
          <a:xfrm>
            <a:off x="3124080" y="1676520"/>
            <a:ext cx="4754520" cy="48006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590920" y="2743200"/>
            <a:ext cx="2057400" cy="152280"/>
          </a:xfrm>
          <a:prstGeom prst="rightArrow">
            <a:avLst>
              <a:gd name="adj1" fmla="val 50000"/>
              <a:gd name="adj2" fmla="val 33776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6600" y="3048120"/>
            <a:ext cx="230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b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nsiti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19520" y="3505320"/>
            <a:ext cx="1523880" cy="152280"/>
          </a:xfrm>
          <a:prstGeom prst="rightArrow">
            <a:avLst>
              <a:gd name="adj1" fmla="val 50000"/>
              <a:gd name="adj2" fmla="val 25017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24600" y="533520"/>
            <a:ext cx="645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ibras sensitivas o afere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1828800"/>
            <a:ext cx="6019560" cy="4191120"/>
          </a:xfrm>
          <a:prstGeom prst="hexagon">
            <a:avLst>
              <a:gd name="adj" fmla="val 35907"/>
              <a:gd name="vf" fmla="val 115470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n fibra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mite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formación haci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 centr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210040" y="0"/>
            <a:ext cx="54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Arco reflejo bineur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87440" y="2209680"/>
            <a:ext cx="21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cep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640" y="434340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49560" y="914400"/>
            <a:ext cx="388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eurona sensi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649320" y="1447920"/>
            <a:ext cx="68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Arco%20reflejomodificado" descr=""/>
          <p:cNvPicPr/>
          <p:nvPr/>
        </p:nvPicPr>
        <p:blipFill>
          <a:blip r:embed="rId1"/>
          <a:stretch/>
        </p:blipFill>
        <p:spPr>
          <a:xfrm>
            <a:off x="3505320" y="1676520"/>
            <a:ext cx="4754520" cy="48006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638680" y="1371600"/>
            <a:ext cx="152640" cy="2209680"/>
          </a:xfrm>
          <a:prstGeom prst="downArrow">
            <a:avLst>
              <a:gd name="adj1" fmla="val 50000"/>
              <a:gd name="adj2" fmla="val 36191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71800" y="2743200"/>
            <a:ext cx="2057400" cy="152280"/>
          </a:xfrm>
          <a:prstGeom prst="rightArrow">
            <a:avLst>
              <a:gd name="adj1" fmla="val 50000"/>
              <a:gd name="adj2" fmla="val 33776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90240" y="2979720"/>
            <a:ext cx="230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b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nsiti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00400" y="3505320"/>
            <a:ext cx="1523880" cy="152280"/>
          </a:xfrm>
          <a:prstGeom prst="rightArrow">
            <a:avLst>
              <a:gd name="adj1" fmla="val 50000"/>
              <a:gd name="adj2" fmla="val 25017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828800" y="457200"/>
            <a:ext cx="493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eurona sensitiva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2209680"/>
            <a:ext cx="5867640" cy="28958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n neuronas cuy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erpos se encuentra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  los gangli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nsitiv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380880"/>
            <a:ext cx="8458200" cy="53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              </a:t>
            </a:r>
            <a:r>
              <a:rPr b="1" lang="es-MX" sz="4400" spc="-1" strike="noStrike">
                <a:solidFill>
                  <a:srgbClr val="ffff00"/>
                </a:solidFill>
                <a:latin typeface="Tahoma"/>
                <a:ea typeface="Times New Roman"/>
              </a:rPr>
              <a:t>SUMARIO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MX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G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eneralidades del Sistema </a:t>
            </a:r>
            <a:r>
              <a:rPr b="1" lang="es-MX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N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ervioso (SN): Concepto, propiedades fundamentales y funciones, división, componentes, estructura. </a:t>
            </a:r>
            <a:r>
              <a:rPr b="1" lang="es-MX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A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rco reflejo</a:t>
            </a:r>
            <a:r>
              <a:rPr b="1" lang="es-MX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,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componentes </a:t>
            </a:r>
            <a:r>
              <a:rPr b="1" lang="es-MX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y tipos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. Aferencia y eferencia. 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14760" y="0"/>
            <a:ext cx="54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Arco reflejo bineur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2160" y="2209680"/>
            <a:ext cx="21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cep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1371600" y="4351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53920" y="914400"/>
            <a:ext cx="388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eurona sensi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72720" y="3048120"/>
            <a:ext cx="196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euro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ot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649320" y="1219320"/>
            <a:ext cx="609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Arco%20reflejomodificado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754520" cy="48006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343400" y="1371600"/>
            <a:ext cx="152280" cy="2209680"/>
          </a:xfrm>
          <a:prstGeom prst="downArrow">
            <a:avLst>
              <a:gd name="adj1" fmla="val 50000"/>
              <a:gd name="adj2" fmla="val 36276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3505320"/>
            <a:ext cx="1447920" cy="152280"/>
          </a:xfrm>
          <a:prstGeom prst="leftArrow">
            <a:avLst>
              <a:gd name="adj1" fmla="val 50000"/>
              <a:gd name="adj2" fmla="val 23770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2743200"/>
            <a:ext cx="2057400" cy="152280"/>
          </a:xfrm>
          <a:prstGeom prst="rightArrow">
            <a:avLst>
              <a:gd name="adj1" fmla="val 50000"/>
              <a:gd name="adj2" fmla="val 33776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5040" y="2979720"/>
            <a:ext cx="230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b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nsiti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3505320"/>
            <a:ext cx="1523880" cy="152280"/>
          </a:xfrm>
          <a:prstGeom prst="rightArrow">
            <a:avLst>
              <a:gd name="adj1" fmla="val 50000"/>
              <a:gd name="adj2" fmla="val 25017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92000" y="380880"/>
            <a:ext cx="371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eurona motor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371600"/>
            <a:ext cx="8153280" cy="4572000"/>
          </a:xfrm>
          <a:prstGeom prst="ellipse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n neuronas que transmit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s órdenes, se encuentran en l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rción central del sistem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rvioso o en gangl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 el caso de la porció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geta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981440" y="0"/>
            <a:ext cx="54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Arco reflejo bineur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2160" y="2209680"/>
            <a:ext cx="21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cep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-1371600" y="43434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53920" y="914400"/>
            <a:ext cx="388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eurona sensi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72720" y="3048120"/>
            <a:ext cx="196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euro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ot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7880" y="1447920"/>
            <a:ext cx="457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Arco%20reflejomodificado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754520" cy="48006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343400" y="1371600"/>
            <a:ext cx="152280" cy="2209680"/>
          </a:xfrm>
          <a:prstGeom prst="downArrow">
            <a:avLst>
              <a:gd name="adj1" fmla="val 50000"/>
              <a:gd name="adj2" fmla="val 36276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67280" y="3505320"/>
            <a:ext cx="1447920" cy="152280"/>
          </a:xfrm>
          <a:prstGeom prst="leftArrow">
            <a:avLst>
              <a:gd name="adj1" fmla="val 50000"/>
              <a:gd name="adj2" fmla="val 23770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76520" y="2743200"/>
            <a:ext cx="2057400" cy="152280"/>
          </a:xfrm>
          <a:prstGeom prst="rightArrow">
            <a:avLst>
              <a:gd name="adj1" fmla="val 50000"/>
              <a:gd name="adj2" fmla="val 33776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5040" y="2979720"/>
            <a:ext cx="230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b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nsiti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05120" y="3505320"/>
            <a:ext cx="1523880" cy="152280"/>
          </a:xfrm>
          <a:prstGeom prst="rightArrow">
            <a:avLst>
              <a:gd name="adj1" fmla="val 50000"/>
              <a:gd name="adj2" fmla="val 25017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516800">
            <a:off x="4800240" y="4419360"/>
            <a:ext cx="2743200" cy="152280"/>
          </a:xfrm>
          <a:prstGeom prst="leftArrow">
            <a:avLst>
              <a:gd name="adj1" fmla="val 50000"/>
              <a:gd name="adj2" fmla="val 45035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61200" y="4572000"/>
            <a:ext cx="1959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b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oto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23880" y="1523880"/>
            <a:ext cx="6019920" cy="4648320"/>
          </a:xfrm>
          <a:prstGeom prst="hexagon">
            <a:avLst>
              <a:gd name="adj" fmla="val 32377"/>
              <a:gd name="vf" fmla="val 115470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n fibra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mite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formación des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 centro 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órgano efec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53200" y="533520"/>
            <a:ext cx="60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ibras motoras o efere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905480" y="0"/>
            <a:ext cx="54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Arco reflejo bineur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8000" y="2209680"/>
            <a:ext cx="21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cep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320" y="4351320"/>
            <a:ext cx="17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Ef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9760" y="914400"/>
            <a:ext cx="388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eurona sensi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88560" y="3048120"/>
            <a:ext cx="196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euro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ot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9697320" y="1447920"/>
            <a:ext cx="60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Arco%20reflejomodificado" descr=""/>
          <p:cNvPicPr/>
          <p:nvPr/>
        </p:nvPicPr>
        <p:blipFill>
          <a:blip r:embed="rId1"/>
          <a:stretch/>
        </p:blipFill>
        <p:spPr>
          <a:xfrm>
            <a:off x="2225520" y="1676520"/>
            <a:ext cx="4754880" cy="48006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359240" y="1371600"/>
            <a:ext cx="152280" cy="2209680"/>
          </a:xfrm>
          <a:prstGeom prst="downArrow">
            <a:avLst>
              <a:gd name="adj1" fmla="val 50000"/>
              <a:gd name="adj2" fmla="val 36276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83120" y="3505320"/>
            <a:ext cx="1447920" cy="152280"/>
          </a:xfrm>
          <a:prstGeom prst="leftArrow">
            <a:avLst>
              <a:gd name="adj1" fmla="val 50000"/>
              <a:gd name="adj2" fmla="val 23770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92360" y="2743200"/>
            <a:ext cx="2057400" cy="152280"/>
          </a:xfrm>
          <a:prstGeom prst="rightArrow">
            <a:avLst>
              <a:gd name="adj1" fmla="val 50000"/>
              <a:gd name="adj2" fmla="val 33776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63760" y="4800600"/>
            <a:ext cx="1828800" cy="152280"/>
          </a:xfrm>
          <a:prstGeom prst="rightArrow">
            <a:avLst>
              <a:gd name="adj1" fmla="val 50000"/>
              <a:gd name="adj2" fmla="val 30023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800" y="2979720"/>
            <a:ext cx="230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b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nsiti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20960" y="3505320"/>
            <a:ext cx="1523880" cy="152280"/>
          </a:xfrm>
          <a:prstGeom prst="rightArrow">
            <a:avLst>
              <a:gd name="adj1" fmla="val 50000"/>
              <a:gd name="adj2" fmla="val 25017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516800">
            <a:off x="4816080" y="4419360"/>
            <a:ext cx="2743200" cy="152280"/>
          </a:xfrm>
          <a:prstGeom prst="leftArrow">
            <a:avLst>
              <a:gd name="adj1" fmla="val 50000"/>
              <a:gd name="adj2" fmla="val 45035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277040" y="4572000"/>
            <a:ext cx="1959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b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oto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0880" y="380880"/>
            <a:ext cx="554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Órgano efec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9000" y="1703520"/>
            <a:ext cx="830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s la estructura que realiza la acció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  respues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3657600"/>
            <a:ext cx="2971800" cy="16002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úscul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81480" y="3276720"/>
            <a:ext cx="2819520" cy="2209680"/>
          </a:xfrm>
          <a:prstGeom prst="hexagon">
            <a:avLst>
              <a:gd name="adj" fmla="val 31900"/>
              <a:gd name="vf" fmla="val 115470"/>
            </a:avLst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ándul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516680" y="0"/>
            <a:ext cx="556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Arco reflejo trineur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8000" y="2209680"/>
            <a:ext cx="21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cep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320" y="4351320"/>
            <a:ext cx="17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Ef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69760" y="914400"/>
            <a:ext cx="388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eurona sensi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88560" y="3048120"/>
            <a:ext cx="196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euro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ot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45240" y="1447920"/>
            <a:ext cx="304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euro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tercal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Arco%20reflejomodificado" descr=""/>
          <p:cNvPicPr/>
          <p:nvPr/>
        </p:nvPicPr>
        <p:blipFill>
          <a:blip r:embed="rId1"/>
          <a:stretch/>
        </p:blipFill>
        <p:spPr>
          <a:xfrm>
            <a:off x="2225520" y="1676520"/>
            <a:ext cx="4754880" cy="48006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359240" y="1371600"/>
            <a:ext cx="152280" cy="2209680"/>
          </a:xfrm>
          <a:prstGeom prst="downArrow">
            <a:avLst>
              <a:gd name="adj1" fmla="val 50000"/>
              <a:gd name="adj2" fmla="val 36276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9433400">
            <a:off x="5502240" y="2514240"/>
            <a:ext cx="1600200" cy="152280"/>
          </a:xfrm>
          <a:prstGeom prst="leftArrow">
            <a:avLst>
              <a:gd name="adj1" fmla="val 50000"/>
              <a:gd name="adj2" fmla="val 26270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54520" y="3048120"/>
            <a:ext cx="76320" cy="75960"/>
          </a:xfrm>
          <a:prstGeom prst="octagon">
            <a:avLst>
              <a:gd name="adj" fmla="val 2928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83120" y="3505320"/>
            <a:ext cx="1447920" cy="152280"/>
          </a:xfrm>
          <a:prstGeom prst="leftArrow">
            <a:avLst>
              <a:gd name="adj1" fmla="val 50000"/>
              <a:gd name="adj2" fmla="val 23770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743200"/>
            <a:ext cx="2057400" cy="152280"/>
          </a:xfrm>
          <a:prstGeom prst="rightArrow">
            <a:avLst>
              <a:gd name="adj1" fmla="val 50000"/>
              <a:gd name="adj2" fmla="val 33776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63760" y="4800600"/>
            <a:ext cx="1828800" cy="152280"/>
          </a:xfrm>
          <a:prstGeom prst="rightArrow">
            <a:avLst>
              <a:gd name="adj1" fmla="val 50000"/>
              <a:gd name="adj2" fmla="val 30023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00" y="2979720"/>
            <a:ext cx="230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b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nsiti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20960" y="3505320"/>
            <a:ext cx="1523880" cy="152280"/>
          </a:xfrm>
          <a:prstGeom prst="rightArrow">
            <a:avLst>
              <a:gd name="adj1" fmla="val 50000"/>
              <a:gd name="adj2" fmla="val 25017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516800">
            <a:off x="4816080" y="4419360"/>
            <a:ext cx="2743200" cy="152280"/>
          </a:xfrm>
          <a:prstGeom prst="leftArrow">
            <a:avLst>
              <a:gd name="adj1" fmla="val 50000"/>
              <a:gd name="adj2" fmla="val 45035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277040" y="4572000"/>
            <a:ext cx="1959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b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oto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18760" y="423720"/>
            <a:ext cx="45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eurona intercala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1219320"/>
            <a:ext cx="7391520" cy="2971800"/>
          </a:xfrm>
          <a:prstGeom prst="rect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eden ser una o vari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n  neuronas que se encuentra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 la porción central del sistem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rvioso, interpuesta entre 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ronas sensitiva y motor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4572000"/>
            <a:ext cx="8076960" cy="1600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os arcos reflejos con mas de un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neurona intercalada son polineuro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Arco%20reflejo%20completo%20peq.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594320" cy="46479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753560" y="304920"/>
            <a:ext cx="51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rco reflejo vegetativ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809520" y="5181480"/>
            <a:ext cx="11430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4440" y="4876920"/>
            <a:ext cx="282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ep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interocepto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2514600"/>
            <a:ext cx="0" cy="99072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1981080"/>
            <a:ext cx="37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rona sensi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885840" y="2590920"/>
            <a:ext cx="1143000" cy="6858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10200" y="2057400"/>
            <a:ext cx="31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urona efe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ent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3504960" y="4191120"/>
            <a:ext cx="1523880" cy="60948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88600" y="3597120"/>
            <a:ext cx="352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urona efer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ifér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729sin%20letras" descr=""/>
          <p:cNvPicPr/>
          <p:nvPr/>
        </p:nvPicPr>
        <p:blipFill>
          <a:blip r:embed="rId1"/>
          <a:stretch/>
        </p:blipFill>
        <p:spPr>
          <a:xfrm>
            <a:off x="5451480" y="1523880"/>
            <a:ext cx="3692520" cy="4008600"/>
          </a:xfrm>
          <a:prstGeom prst="rect">
            <a:avLst/>
          </a:prstGeom>
          <a:ln w="0">
            <a:noFill/>
          </a:ln>
        </p:spPr>
      </p:pic>
      <p:pic>
        <p:nvPicPr>
          <p:cNvPr id="248" name="Vesículas%205" descr=""/>
          <p:cNvPicPr/>
          <p:nvPr/>
        </p:nvPicPr>
        <p:blipFill>
          <a:blip r:embed="rId2"/>
          <a:stretch/>
        </p:blipFill>
        <p:spPr>
          <a:xfrm>
            <a:off x="0" y="1523880"/>
            <a:ext cx="3209760" cy="39070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204000" y="14479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lencéfa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64120" y="2274840"/>
            <a:ext cx="19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encéfa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64840" y="3036960"/>
            <a:ext cx="23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sencéfa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88520" y="372276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encéfa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362320" y="1752480"/>
            <a:ext cx="914400" cy="76212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57800" y="1752480"/>
            <a:ext cx="2057400" cy="76212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1981080" y="2490840"/>
            <a:ext cx="1294920" cy="3960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81480" y="2590920"/>
            <a:ext cx="2210040" cy="60948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1371240" y="2285640"/>
            <a:ext cx="2057400" cy="106668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3429000"/>
            <a:ext cx="2209680" cy="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1371600" y="2819520"/>
            <a:ext cx="1905120" cy="121896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5334120" y="3505320"/>
            <a:ext cx="2895480" cy="45720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21008400">
            <a:off x="5334120" y="3429000"/>
            <a:ext cx="17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rebe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5410080" y="3809520"/>
            <a:ext cx="2438640" cy="38124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20926800">
            <a:off x="5641920" y="396216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44956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elencéfa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1371600" y="3352680"/>
            <a:ext cx="1828800" cy="137160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5410080" y="4038120"/>
            <a:ext cx="2590920" cy="68580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57800" y="4637160"/>
            <a:ext cx="352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édula oblon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bulbo raquíde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00" y="5562720"/>
            <a:ext cx="56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te no dilatada del tubo neu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1294920" y="4191120"/>
            <a:ext cx="304920" cy="137160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411240" y="5562720"/>
            <a:ext cx="27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édula espi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8200440" y="4325760"/>
            <a:ext cx="819720" cy="133128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92680" y="271440"/>
            <a:ext cx="88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ONTOGENIA DEL SISTEMA NERVIOS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43000" y="0"/>
            <a:ext cx="8893080" cy="67276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ahoma"/>
              </a:rPr>
              <a:t>                    </a:t>
            </a:r>
            <a:r>
              <a:rPr b="1" lang="es-MX" sz="4000" spc="-1" strike="noStrike">
                <a:solidFill>
                  <a:srgbClr val="ffff00"/>
                </a:solidFill>
                <a:latin typeface="Tahoma"/>
              </a:rPr>
              <a:t>Objetivo:</a:t>
            </a:r>
            <a:br>
              <a:rPr sz="4000"/>
            </a:br>
            <a:br>
              <a:rPr sz="3200"/>
            </a:br>
            <a:r>
              <a:rPr b="1" lang="es-ES_tradn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E</a:t>
            </a:r>
            <a:r>
              <a:rPr b="1" lang="es-ES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xplicar: 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Las caracter</a:t>
            </a:r>
            <a:r>
              <a:rPr b="1" lang="es-MX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í</a:t>
            </a:r>
            <a:r>
              <a:rPr b="1" lang="es-ES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sticas </a:t>
            </a:r>
            <a:r>
              <a:rPr b="1" lang="es-MX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morfofuncionale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generales del SN teniendo en cuenta sus propiedades, funciones, división, estructura, unidad morfofuncional, utilizando imágenes y modelos en función de su actuación como médico general básico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906920" y="685800"/>
            <a:ext cx="503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figuración exter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76520" y="2438280"/>
            <a:ext cx="5867280" cy="29718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alles que pued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ribirse en la superfici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 cualquier segmento 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rción del sistema nervio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 su parte central o 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alquier órg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Dibujo" descr=""/>
          <p:cNvPicPr/>
          <p:nvPr/>
        </p:nvPicPr>
        <p:blipFill>
          <a:blip r:embed="rId1"/>
          <a:stretch/>
        </p:blipFill>
        <p:spPr>
          <a:xfrm>
            <a:off x="990720" y="846000"/>
            <a:ext cx="7238880" cy="56692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819520" y="3665520"/>
            <a:ext cx="1523880" cy="152280"/>
          </a:xfrm>
          <a:prstGeom prst="rightArrow">
            <a:avLst>
              <a:gd name="adj1" fmla="val 50000"/>
              <a:gd name="adj2" fmla="val 25017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438280" y="5494320"/>
            <a:ext cx="1143000" cy="152280"/>
          </a:xfrm>
          <a:prstGeom prst="rightArrow">
            <a:avLst>
              <a:gd name="adj1" fmla="val 50000"/>
              <a:gd name="adj2" fmla="val 18764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1864200">
            <a:off x="4114800" y="1302840"/>
            <a:ext cx="990720" cy="152640"/>
          </a:xfrm>
          <a:prstGeom prst="rightArrow">
            <a:avLst>
              <a:gd name="adj1" fmla="val 50000"/>
              <a:gd name="adj2" fmla="val 16226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1797600">
            <a:off x="5638320" y="2446200"/>
            <a:ext cx="1676520" cy="152640"/>
          </a:xfrm>
          <a:prstGeom prst="leftArrow">
            <a:avLst>
              <a:gd name="adj1" fmla="val 50000"/>
              <a:gd name="adj2" fmla="val 27458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140840" y="176040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54440" y="3197160"/>
            <a:ext cx="278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sura media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te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24360" y="693720"/>
            <a:ext cx="43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rco mediano poste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93240" y="5189400"/>
            <a:ext cx="231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ur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nterolat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18240" y="2370240"/>
            <a:ext cx="253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urc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osterolat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04560" y="693720"/>
            <a:ext cx="353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urc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termedioposte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20843400">
            <a:off x="5412960" y="1563480"/>
            <a:ext cx="762120" cy="152280"/>
          </a:xfrm>
          <a:prstGeom prst="leftArrow">
            <a:avLst>
              <a:gd name="adj1" fmla="val 50000"/>
              <a:gd name="adj2" fmla="val 12511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74000" y="1531800"/>
            <a:ext cx="17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cervic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00720" y="-109440"/>
            <a:ext cx="279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r ejempl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441160" y="533520"/>
            <a:ext cx="492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figuración inter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371600" y="1447920"/>
            <a:ext cx="6553080" cy="4876560"/>
          </a:xfrm>
          <a:prstGeom prst="hexagon">
            <a:avLst>
              <a:gd name="adj" fmla="val 33595"/>
              <a:gd name="vf" fmla="val 11547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ribución de l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tancia blanca 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tancia gr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 los segmen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 la porción cen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 Sistema Nervio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Dibujo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6553080" cy="56689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447200" y="914400"/>
            <a:ext cx="34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tancia blan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1447920"/>
            <a:ext cx="457200" cy="4572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15360" y="1219320"/>
            <a:ext cx="221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tanci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4343400" y="1905120"/>
            <a:ext cx="1752480" cy="15228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05640" y="-109440"/>
            <a:ext cx="29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r ejemplo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735000" y="30492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ra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62120" y="1219320"/>
            <a:ext cx="7772400" cy="19810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junto de fibras, dentro de la par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ntral del sistema nervioso qu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ucen un mismo tip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 inform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14400" y="3809880"/>
            <a:ext cx="7924680" cy="2667240"/>
          </a:xfrm>
          <a:prstGeom prst="ellipse">
            <a:avLst/>
          </a:pr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ando los tractos tienen s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gen en el tronco encefálic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 llaman lemnis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conf.%20interna%20coloreada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696080" cy="54277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914400" y="1905120"/>
            <a:ext cx="41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pinocerebela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35400" y="220968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ác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04760" y="297180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neifor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16920" y="2743200"/>
            <a:ext cx="15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te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8080" y="2286000"/>
            <a:ext cx="20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e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20" y="0"/>
            <a:ext cx="558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os tractos pueden s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2666880" y="2666880"/>
            <a:ext cx="1295640" cy="13716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14400" y="3962520"/>
            <a:ext cx="23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órticoespi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t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90920" y="2590920"/>
            <a:ext cx="106668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2514600" y="2895480"/>
            <a:ext cx="914400" cy="1526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4876560" y="2514600"/>
            <a:ext cx="1904760" cy="7632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4571640" y="2514600"/>
            <a:ext cx="1676520" cy="53352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838080"/>
            <a:ext cx="251460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ere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876920" y="838080"/>
            <a:ext cx="29718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ere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Arco%20reflejo%20completo%20peq.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4594320" cy="46483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4419720" y="1981080"/>
            <a:ext cx="75960" cy="10670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29000" y="152388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íz dors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456240" y="2362320"/>
            <a:ext cx="268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íz ven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05120" y="2819520"/>
            <a:ext cx="1143000" cy="4572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6360" y="2057400"/>
            <a:ext cx="140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m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rs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962520"/>
            <a:ext cx="106668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1600" y="3429000"/>
            <a:ext cx="151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m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n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3352680" y="3962520"/>
            <a:ext cx="304920" cy="13716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04400" y="533412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mo comunicante gr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723920" y="2819520"/>
            <a:ext cx="1600200" cy="99036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3885840" y="3885840"/>
            <a:ext cx="2514600" cy="6858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21600" y="3809880"/>
            <a:ext cx="312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unica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an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42040" y="380880"/>
            <a:ext cx="69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stitución del nervio espi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24240" y="0"/>
            <a:ext cx="79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CONCEPTO DE SISTEMA NERVIOS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06880" y="1143000"/>
            <a:ext cx="5029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s el conjunto de estructuras  que rigen la coordinación y control de todas las funciones del cuerpo, asegurando así la integridad del organismo como un todo único y su relación con el medi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hombre%20nervio" descr=""/>
          <p:cNvPicPr/>
          <p:nvPr/>
        </p:nvPicPr>
        <p:blipFill>
          <a:blip r:embed="rId1"/>
          <a:stretch/>
        </p:blipFill>
        <p:spPr>
          <a:xfrm>
            <a:off x="372960" y="1219320"/>
            <a:ext cx="335304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6094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68760" indent="-276876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MX" sz="4400" spc="-1" strike="noStrike">
                <a:solidFill>
                  <a:srgbClr val="ffff00"/>
                </a:solidFill>
                <a:latin typeface="Arial"/>
              </a:rPr>
              <a:t>PROPIEDADES DEL TEJIDO                               NERVIOS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2209680"/>
            <a:ext cx="3886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MX" sz="4000" spc="-1" strike="noStrike">
                <a:solidFill>
                  <a:srgbClr val="ffff00"/>
                </a:solidFill>
                <a:latin typeface="Arial"/>
              </a:rPr>
              <a:t>Excitabilida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5960" y="2209680"/>
            <a:ext cx="387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ductividad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972800" y="4114800"/>
            <a:ext cx="79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124080"/>
            <a:ext cx="4191120" cy="3200400"/>
          </a:xfrm>
          <a:prstGeom prst="rect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Capacidad par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responder a l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estímulo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3200400"/>
            <a:ext cx="3962160" cy="3048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apacidad d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onducir l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impulso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s-ES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DIVISION DEL SISTEMA NERVIOS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99072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Arial"/>
              </a:rPr>
              <a:t>Desde el punto de vista topográfico</a:t>
            </a:r>
            <a:r>
              <a:rPr b="0" lang="es-MX" sz="36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2209680"/>
            <a:ext cx="4495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Porción cen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886200"/>
            <a:ext cx="4800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Porción periférica (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nervios, raíces, troncos, ramos, ganglios, plexos nerviosos, terminacion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hombre%20nervio" descr=""/>
          <p:cNvPicPr/>
          <p:nvPr/>
        </p:nvPicPr>
        <p:blipFill>
          <a:blip r:embed="rId1"/>
          <a:stretch/>
        </p:blipFill>
        <p:spPr>
          <a:xfrm>
            <a:off x="762120" y="1822320"/>
            <a:ext cx="3352680" cy="5035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403520" y="2798640"/>
            <a:ext cx="325008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ncéfalo  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médula espinal</a:t>
            </a: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514600" y="3429000"/>
            <a:ext cx="1905120" cy="7632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2590920" y="2057040"/>
            <a:ext cx="1828800" cy="106668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38080" y="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DIVISION DEL SISTEMA NERVIOS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066680"/>
            <a:ext cx="80578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Arial"/>
              </a:rPr>
              <a:t>Desde el punto de vista topográfico</a:t>
            </a:r>
            <a:r>
              <a:rPr b="0" lang="es-MX" sz="36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286000"/>
            <a:ext cx="84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s-MX" sz="3600" spc="-1" strike="noStrike">
                <a:solidFill>
                  <a:srgbClr val="ffff00"/>
                </a:solidFill>
                <a:latin typeface="Arial"/>
              </a:rPr>
              <a:t>Desde el punto de vista funcional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971800"/>
            <a:ext cx="808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 la vida de relación y vegetativ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73392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s-MX" sz="3600" spc="-1" strike="noStrike">
                <a:solidFill>
                  <a:srgbClr val="ffff00"/>
                </a:solidFill>
                <a:latin typeface="Arial"/>
              </a:rPr>
              <a:t>Desde el punto de vista ontogenético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343400"/>
            <a:ext cx="843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mático y visceral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181480"/>
            <a:ext cx="85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s-MX" sz="3600" spc="-1" strike="noStrike">
                <a:solidFill>
                  <a:srgbClr val="ffff00"/>
                </a:solidFill>
                <a:latin typeface="Arial"/>
              </a:rPr>
              <a:t>Desde el punto de vista filogenético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867280"/>
            <a:ext cx="79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676520"/>
            <a:ext cx="48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entral y perifér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LCR.%20CirculaciÃ³nlimpia" descr=""/>
          <p:cNvPicPr/>
          <p:nvPr/>
        </p:nvPicPr>
        <p:blipFill>
          <a:blip r:embed="rId1"/>
          <a:stretch/>
        </p:blipFill>
        <p:spPr>
          <a:xfrm>
            <a:off x="3352680" y="1143000"/>
            <a:ext cx="4111920" cy="5181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896560" y="2754720"/>
            <a:ext cx="2512800" cy="892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15320" y="5093640"/>
            <a:ext cx="2237040" cy="404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0" y="3733920"/>
            <a:ext cx="31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Segmentari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64520" y="1247040"/>
            <a:ext cx="1660680" cy="477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74280" y="920160"/>
            <a:ext cx="185400" cy="1704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80" y="380880"/>
            <a:ext cx="419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Suprasegmentari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2400" y="4664160"/>
            <a:ext cx="309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édula esp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7040" y="2286000"/>
            <a:ext cx="216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onc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cefá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040" y="930240"/>
            <a:ext cx="24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lencéfa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45720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encéfa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6324480" y="3428640"/>
            <a:ext cx="99072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23760" y="3276720"/>
            <a:ext cx="203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reb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49.1nEURONA%20LIMPIApg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3340080" cy="4340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892960" y="380880"/>
            <a:ext cx="225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NEURO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2133720"/>
            <a:ext cx="2057400" cy="152280"/>
          </a:xfrm>
          <a:prstGeom prst="rightArrow">
            <a:avLst>
              <a:gd name="adj1" fmla="val 50000"/>
              <a:gd name="adj2" fmla="val 33776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520" y="1905120"/>
            <a:ext cx="164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uerp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1600200"/>
            <a:ext cx="609480" cy="3429000"/>
          </a:xfrm>
          <a:custGeom>
            <a:avLst/>
            <a:gdLst>
              <a:gd name="textAreaLeft" fmla="*/ 0 w 609480"/>
              <a:gd name="textAreaRight" fmla="*/ 219960 w 60948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233"/>
                </a:lnTo>
                <a:cubicBezTo>
                  <a:pt x="10800" y="10133"/>
                  <a:pt x="16200" y="11033"/>
                  <a:pt x="21600" y="11033"/>
                </a:cubicBezTo>
                <a:cubicBezTo>
                  <a:pt x="16200" y="11033"/>
                  <a:pt x="10800" y="11933"/>
                  <a:pt x="10800" y="1283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56720" y="3048120"/>
            <a:ext cx="331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long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23:47:04Z</dcterms:created>
  <dc:creator>roly</dc:creator>
  <dc:description/>
  <dc:language>en-US</dc:language>
  <cp:lastModifiedBy>roly</cp:lastModifiedBy>
  <dcterms:modified xsi:type="dcterms:W3CDTF">2005-01-08T01:56:26Z</dcterms:modified>
  <cp:revision>6</cp:revision>
  <dc:subject/>
  <dc:title>Sin título de diapositiva</dc:title>
</cp:coreProperties>
</file>