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27080" y="122400"/>
            <a:ext cx="8912160" cy="662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4200" y="30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051640" y="1197000"/>
            <a:ext cx="485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DEFORMIDADES DE 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MIEMBROS INF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763640" y="2997360"/>
            <a:ext cx="561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JOSÉ M. GÓMEZ CR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PROF. INSTRUCTOR DE TERAPIA FÍSICA Y REHABILI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Grados de Afectació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1er Grado.- afectado el tejido muscula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2do Grado.- afectado el tejido muscular y el          tejido ligamentoso-articula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3er Grado.- afectado el tejido muscular, el tejido ligamentoso-articular y también el tejido óseo y nervios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692280"/>
            <a:ext cx="82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Causas de las deformidades de los p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628640"/>
            <a:ext cx="79214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génitas: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Cavidades cotiloideas muy unidas o separadas que conllevan a rotaciones interna o externas de los p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Adquiridas: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Por parálisis o lesión de los músculos de las extremidades, debilitamiento de los ligamentos, mal hábito al dormir y el estar arrodillado o sentado, calzado defectuoso, por sobrepeso, por lesiones o sobrecargas en el deporte o la actividad laboral y  por continuar forzando los miembros después de una le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765000"/>
            <a:ext cx="823284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Pie plano: 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e produce por la caída de los arcos plantares que conlleva el hundimiento de la cúpula plantar, se encuentran atrofiados los músculos tibial posterior y perone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Black"/>
              </a:rPr>
              <a:t>Pie cavo:</a:t>
            </a: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 L</a:t>
            </a:r>
            <a:r>
              <a:rPr b="0" lang="es-ES_tradnl" sz="2800" spc="-1" strike="noStrike">
                <a:solidFill>
                  <a:srgbClr val="000000"/>
                </a:solidFill>
                <a:latin typeface="Arial Black"/>
              </a:rPr>
              <a:t>os arcos longitudinales están elevados, ocurre un estiramiento del tríceps sural y se acortan los extensores comunes de los dedos y la aponeurosis plantar se contra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4200" y="10126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ie varo: Los pies están en rotación interna, hay un estiramiento de los peroneos y acortamiento del tibial, se relaciona con las rodillas var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13704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Pie valgo: El pie se encuentra en rotación externa, ocurre un debilitamiento del tibial posterior y acortamiento de los peroneos (largo, corto y anterior) que producen la eversión del pie. Se debilitan los ligamentos comunes del pie. Tiene relación con las rodillas val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6206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ie calcáneo: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l pie esta en dorsiflexión, el peso del    cuerpo recae sobre el talón, se observa debilidad del tríceps sural, de los peroneos (largo, corto y  medio), elongación del tendón de Aquiles y los músculos plantares están distend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7339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328464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ie equino: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l pie está en extensión, solo se apoya la región anterior del pie. Ocurre un debilitamiento del tibial anterior, del extensor común de los dedos y acortamiento y contractura del tríceps sural ( tibial posterior, sóleo y gemelos). Se relaciona con las rodillas semiflexionad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54120" y="798480"/>
            <a:ext cx="41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natomía de la rod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32040"/>
            <a:ext cx="784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La articulación de la rodilla (femorotibialrotuliana) es una de las más grandes y complejas del organismo humano, presenta una gran cantidad de componentes articulares que contribuyen a su protección y funcionalidad. En ella convergen las dos palancas más largas del sistema humano (fémur – tibia – peroné) con una significativa participación en toda la actividad física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sto trae consigo que un problema en uno de estos componentes articulares puede provocar deformidades o lesiones en la rodilla con facilidad. Estos trastornos pueden ocurrir por diferentes cau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7351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ausas de las deformidades de rod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9640" y="1125360"/>
            <a:ext cx="8076960" cy="5448240"/>
            <a:chOff x="539640" y="1125360"/>
            <a:chExt cx="8076960" cy="5448240"/>
          </a:xfrm>
        </p:grpSpPr>
        <p:grpSp>
          <p:nvGrpSpPr>
            <p:cNvPr id="81" name=""/>
            <p:cNvGrpSpPr/>
            <p:nvPr/>
          </p:nvGrpSpPr>
          <p:grpSpPr>
            <a:xfrm>
              <a:off x="539640" y="1125360"/>
              <a:ext cx="8076960" cy="2780280"/>
              <a:chOff x="539640" y="1125360"/>
              <a:chExt cx="8076960" cy="2780280"/>
            </a:xfrm>
          </p:grpSpPr>
          <p:sp>
            <p:nvSpPr>
              <p:cNvPr id="82" name=""/>
              <p:cNvSpPr/>
              <p:nvPr/>
            </p:nvSpPr>
            <p:spPr>
              <a:xfrm>
                <a:off x="3358800" y="1125360"/>
                <a:ext cx="2438640" cy="3988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 Black"/>
                  </a:rPr>
                  <a:t>Congéni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543400">
                <a:off x="2663280" y="1620360"/>
                <a:ext cx="380880" cy="1322280"/>
              </a:xfrm>
              <a:prstGeom prst="downArrow">
                <a:avLst>
                  <a:gd name="adj1" fmla="val 50000"/>
                  <a:gd name="adj2" fmla="val 86791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9640" y="2877840"/>
                <a:ext cx="3733560" cy="1008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 Black"/>
                  </a:rPr>
                  <a:t>Rodillas valgas: Por presentar las cavidades cotiloideas muy cerca una de la otra.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806720" y="2896920"/>
                <a:ext cx="3809880" cy="1008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 Black"/>
                  </a:rPr>
                  <a:t>Rodillas varas: por presentar las cavidades cotiloideas muy alejadas una de la otra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8927600">
                <a:off x="6045120" y="1666800"/>
                <a:ext cx="380880" cy="1230120"/>
              </a:xfrm>
              <a:prstGeom prst="downArrow">
                <a:avLst>
                  <a:gd name="adj1" fmla="val 50000"/>
                  <a:gd name="adj2" fmla="val 80742"/>
                </a:avLst>
              </a:prstGeom>
              <a:solidFill>
                <a:srgbClr val="ff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7" name=""/>
            <p:cNvGraphicFramePr/>
            <p:nvPr/>
          </p:nvGraphicFramePr>
          <p:xfrm>
            <a:off x="3625560" y="4706640"/>
            <a:ext cx="1905120" cy="186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25560" y="4706640"/>
                      <a:ext cx="1905120" cy="186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" name=""/>
          <p:cNvSpPr/>
          <p:nvPr/>
        </p:nvSpPr>
        <p:spPr>
          <a:xfrm>
            <a:off x="3124080" y="6373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76560" y="6373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71800" y="2438280"/>
            <a:ext cx="3200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DQUIR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620640"/>
            <a:ext cx="36576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royección de la pe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4005360"/>
            <a:ext cx="24112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alzado inadecu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20640"/>
            <a:ext cx="2971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Falta de ejerc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2000" y="4149720"/>
            <a:ext cx="25272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Bipedestación inadec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773360"/>
            <a:ext cx="22255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Malnutr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557360"/>
            <a:ext cx="2133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aquit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5257800"/>
            <a:ext cx="35290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bilidad del aparato ósteo-articular, muscular y ligament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5300640"/>
            <a:ext cx="33847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menzar la bipedestación y la locomoción prem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048120" y="1066320"/>
            <a:ext cx="1295280" cy="129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286000" y="3200400"/>
            <a:ext cx="18288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248520" y="2057040"/>
            <a:ext cx="7617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24280" y="1066320"/>
            <a:ext cx="1447920" cy="129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057400" y="2286000"/>
            <a:ext cx="83808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429000"/>
            <a:ext cx="60948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657240" y="3429000"/>
            <a:ext cx="68580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3200400"/>
            <a:ext cx="1752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08000" y="765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nsecuencias de las deformidades de rod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442880"/>
            <a:ext cx="79214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imetría de todo el aparato locomotor, que de ser unilateral puede producir una escoliosis de 2º ó 3er 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Variaciones en la posición de la pelvis, produciendo deformidades de la columna vertebral en plano sag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Fatiga durante la biped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lteración y debilitamiento en los componentes articulares de la rodilla (meniscos, ligamentos, etc.), facilitando las lesiones de la articulación cuando se realizan actividades físi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bilitamiento de la musculatura cercana a la articu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928800"/>
            <a:ext cx="7775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os miembros inferiores, fundamentalmente los pies, son los encargados de soportar todo el peso del cuerpo y contribuyen a la propulsión (locomoción) y amortiguación durante la marcha, carrera, saltos y todo tipo de actividad física huma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s por ello que debemos preocuparnos desde las edades tempranas por velar  que se mantenga la normalidad en las estructuras que los componen, debido a que un trastorno a este nivel puede acarrear problemas estructurales y funcionales en la anatomía e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836640"/>
            <a:ext cx="2133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Val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83664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Va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5300640"/>
            <a:ext cx="335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Hiper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5300640"/>
            <a:ext cx="3429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Semiflex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69200" y="71280"/>
            <a:ext cx="6702480" cy="6702480"/>
            <a:chOff x="1069200" y="71280"/>
            <a:chExt cx="6702480" cy="6702480"/>
          </a:xfrm>
        </p:grpSpPr>
        <p:sp>
          <p:nvSpPr>
            <p:cNvPr id="115" name=""/>
            <p:cNvSpPr/>
            <p:nvPr/>
          </p:nvSpPr>
          <p:spPr>
            <a:xfrm rot="18873600">
              <a:off x="2050200" y="1053000"/>
              <a:ext cx="4740120" cy="4738680"/>
            </a:xfrm>
            <a:custGeom>
              <a:avLst/>
              <a:gdLst>
                <a:gd name="textAreaLeft" fmla="*/ 1185120 w 4740120"/>
                <a:gd name="textAreaRight" fmla="*/ 3555360 w 4740120"/>
                <a:gd name="textAreaTop" fmla="*/ 1184760 h 4738680"/>
                <a:gd name="textAreaBottom" fmla="*/ 3554280 h 47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00" y="5400"/>
                  </a:lnTo>
                  <a:lnTo>
                    <a:pt x="940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200" y="2700"/>
                  </a:lnTo>
                  <a:lnTo>
                    <a:pt x="12200" y="5400"/>
                  </a:lnTo>
                  <a:lnTo>
                    <a:pt x="16200" y="5400"/>
                  </a:lnTo>
                  <a:lnTo>
                    <a:pt x="16200" y="9400"/>
                  </a:lnTo>
                  <a:lnTo>
                    <a:pt x="18900" y="940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200"/>
                  </a:lnTo>
                  <a:lnTo>
                    <a:pt x="16200" y="12200"/>
                  </a:lnTo>
                  <a:lnTo>
                    <a:pt x="16200" y="16200"/>
                  </a:lnTo>
                  <a:lnTo>
                    <a:pt x="12200" y="16200"/>
                  </a:lnTo>
                  <a:lnTo>
                    <a:pt x="1220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00" y="18900"/>
                  </a:lnTo>
                  <a:lnTo>
                    <a:pt x="9400" y="16200"/>
                  </a:lnTo>
                  <a:lnTo>
                    <a:pt x="5400" y="16200"/>
                  </a:lnTo>
                  <a:lnTo>
                    <a:pt x="5400" y="12200"/>
                  </a:lnTo>
                  <a:lnTo>
                    <a:pt x="2700" y="1220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00"/>
                  </a:lnTo>
                  <a:lnTo>
                    <a:pt x="5400" y="940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2800">
              <a:off x="3043080" y="2820600"/>
              <a:ext cx="312408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Deformidades de  Rodil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700200"/>
            <a:ext cx="77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Valgas o en “X”: Se presenta una sobrecarga en los meniscos externos, los músculos adductores están distendidos y los abductores (bíceps femoral y tensor de la fascia lata) están acortados. La línea de sustentación pasa por fuera de las rodillas y los ligamentos colaterales internos se encuentran distendidos y debilitados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3795840"/>
            <a:ext cx="77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Varas o en “( )”: hay una sobrecarga sobre los meniscos internos, los músculos adductores se acortan(semitendinoso y semimembranoso, recto interno, sartorio y poplíteo) y los abductores se distienden al igual que los ligamentos colaterales externos, la línea de sustentación pasa por dentro de las rodilla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47640" y="836640"/>
            <a:ext cx="6324840" cy="5229360"/>
            <a:chOff x="1547640" y="836640"/>
            <a:chExt cx="6324840" cy="5229360"/>
          </a:xfrm>
        </p:grpSpPr>
        <p:graphicFrame>
          <p:nvGraphicFramePr>
            <p:cNvPr id="120" name=""/>
            <p:cNvGraphicFramePr/>
            <p:nvPr/>
          </p:nvGraphicFramePr>
          <p:xfrm>
            <a:off x="2309760" y="836640"/>
            <a:ext cx="5410080" cy="499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09760" y="836640"/>
                      <a:ext cx="5410080" cy="499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547640" y="563724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Rodillas Valg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76640" y="5667120"/>
              <a:ext cx="289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Rodillas Va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00000" y="1166760"/>
            <a:ext cx="75596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0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Hiperextendidas o en s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e producen po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4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umento de la tonicidad de los músculos extensores de la pierna (cuádriceps) y debilidad de los flexores (bíceps femoral, semitendinoso, semimembrano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4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ebilidad de ambos grupos muscula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4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nstitución laxa gene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0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xiste una sobrecarga sobre ambos meniscos, los ligamentos cruzados anterior y posterior, el poplíteo, etc. están distend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652320"/>
            <a:ext cx="7704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semiflexiona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e produce por acortamiento de los músculos flexores de las piernas (bíceps femoral, recto interno, sartorio y poplíteo, etc.) y distensión de los extensores de las piernas y el tendón rotulian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0960" y="2708280"/>
            <a:ext cx="8663040" cy="4061160"/>
            <a:chOff x="480960" y="2708280"/>
            <a:chExt cx="8663040" cy="4061160"/>
          </a:xfrm>
        </p:grpSpPr>
        <p:graphicFrame>
          <p:nvGraphicFramePr>
            <p:cNvPr id="127" name=""/>
            <p:cNvGraphicFramePr/>
            <p:nvPr/>
          </p:nvGraphicFramePr>
          <p:xfrm>
            <a:off x="1333800" y="2708280"/>
            <a:ext cx="6972120" cy="397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3800" y="2708280"/>
                      <a:ext cx="6972120" cy="397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480960" y="6370560"/>
              <a:ext cx="416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Rodillas hipertextendi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29200" y="637056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Rodillas semiflexio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1040" y="957240"/>
            <a:ext cx="55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Tratamientos para las rod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02392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os tratamientos van encamin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longar los ligamentos que están distend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fortalecer los músculos afectad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ograr el equilibrio de las cargas sobre los menis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0600"/>
            <a:ext cx="798984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Los tratamientos más indicad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93600"/>
            <a:ext cx="7989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Tratamiento realizado con aparatos ortopédico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Tratamiento quirúrgico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jercicios Físico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Son precisamente los Ejercicios Físicos los que nos conciernen directamente, los cuales tienen diferentes objetivos, tanto generales como específicos en cada deformida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14480" y="752400"/>
            <a:ext cx="541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Objetivos generales del tratamiento para las rod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048040"/>
            <a:ext cx="78483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Mejorar la estética, la simetría o cinergia de todo el aparato locomo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revenir posibles escoliosis o deformidades de la columna vertebral en el plano sagital o frontal (simetría de hombros y cade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umento de la resistencia en la posición bíp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Disminuir la sobrecarga sobre los meniscos y el resto de los componentes de la articul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Evitar le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eeducar la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16000" y="811080"/>
            <a:ext cx="7292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76480" y="582480"/>
            <a:ext cx="50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Objetivos específicos de los tratamientos para las rod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878120"/>
            <a:ext cx="7561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valg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Fortalecer los músculos adductores y estirar los abductores, fortalecer el ligamentos colateral interno y tendones, equilibrar la carga sobre los men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773600"/>
            <a:ext cx="7640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va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Fortalecer los músculos abductores, elongar los adductores, fortalecer el ligamento colateral externo y equilibra las cargas sobre los men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35280" y="561960"/>
            <a:ext cx="53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Objetivos específicos  de los tratamientos para las rod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781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hiperextendi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Fortalecer los músculos flexores de las piernas (sartorio, bíceps femoral, semitendinoso, semimembranoso), disminuir la sobrecarga sobre los meniscos, fortalecer los ligamentos cruzados anterior y posterior y el poplíte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4676760"/>
            <a:ext cx="75088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odillas semiflexion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Fortalecer los músculos extensores de las piernas (cuádriceps, recto interno, tensor de la fascia lata, etc.), fortalecer el tendón rotulian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2276640"/>
            <a:ext cx="6248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FORMIDA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 LOS P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52720" y="2708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X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Deformidades del pie que reciben sus nombres según se presenten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9185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Atendiendo al Arco Plantar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 Black"/>
              </a:rPr>
              <a:t>Pie Plano</a:t>
            </a:r>
            <a:r>
              <a:rPr b="1" lang="es-ES" sz="2800" spc="-1" strike="noStrike">
                <a:solidFill>
                  <a:srgbClr val="000000"/>
                </a:solidFill>
                <a:latin typeface="Arial Black"/>
              </a:rPr>
              <a:t>.-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Desciende el arco longitudinal tanto el interno como el externo y puede haber un descenso del transversal. También pueden estar los tobillos pronados donde se unen estos y las puntas se abren 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 Black"/>
              </a:rPr>
              <a:t>Pie Cavo</a:t>
            </a:r>
            <a:r>
              <a:rPr b="1" lang="es-ES" sz="2800" spc="-1" strike="noStrike">
                <a:solidFill>
                  <a:srgbClr val="000000"/>
                </a:solidFill>
                <a:latin typeface="Arial Black"/>
              </a:rPr>
              <a:t>.-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Aumento del arco longitudinal interno y externo. (huella casi invisible, el apoyo se realiza con el calcáneo y cabeza de los metatarsianos). También puede haber metatarso caíd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84360" y="404640"/>
            <a:ext cx="7991280" cy="5981760"/>
            <a:chOff x="684360" y="404640"/>
            <a:chExt cx="7991280" cy="5981760"/>
          </a:xfrm>
        </p:grpSpPr>
        <p:graphicFrame>
          <p:nvGraphicFramePr>
            <p:cNvPr id="48" name=""/>
            <p:cNvGraphicFramePr/>
            <p:nvPr/>
          </p:nvGraphicFramePr>
          <p:xfrm>
            <a:off x="684360" y="404640"/>
            <a:ext cx="7991280" cy="513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404640"/>
                      <a:ext cx="7991280" cy="5134320"/>
                    </a:xfrm>
                    <a:prstGeom prst="rect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3188880" y="404640"/>
              <a:ext cx="35888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ARCO PLANT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6880" y="4354560"/>
              <a:ext cx="16916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Arco anteri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2783520" y="3530880"/>
              <a:ext cx="609480" cy="90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8880" y="4518720"/>
              <a:ext cx="196488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Arco longitudinal exter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89480" y="5012640"/>
              <a:ext cx="223452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Arco longitudinal inter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 flipV="1">
            <a:off x="4572000" y="396216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312372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611280" y="981000"/>
            <a:ext cx="7921440" cy="5234400"/>
            <a:chOff x="611280" y="981000"/>
            <a:chExt cx="7921440" cy="5234400"/>
          </a:xfrm>
        </p:grpSpPr>
        <p:graphicFrame>
          <p:nvGraphicFramePr>
            <p:cNvPr id="58" name=""/>
            <p:cNvGraphicFramePr/>
            <p:nvPr/>
          </p:nvGraphicFramePr>
          <p:xfrm>
            <a:off x="611280" y="981000"/>
            <a:ext cx="7921440" cy="447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981000"/>
                      <a:ext cx="7921440" cy="447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1242000" y="5268240"/>
              <a:ext cx="140184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ie ca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95400" y="5268240"/>
              <a:ext cx="1752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ie plan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78960" y="5223600"/>
              <a:ext cx="19623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ie norm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Atendiendo al Punto de Apoyo sobre el suelo pueden ser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 Black"/>
              </a:rPr>
              <a:t>Pies Valgo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- Las puntas de los pies se alejan de la línea media del cuerpo y se apoya el borde interno del pi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 Black"/>
              </a:rPr>
              <a:t>Pies Varo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- Las puntas de los pies se unen a la línea media del cuerpo y se apoya el borde externo del pi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 Black"/>
              </a:rPr>
              <a:t>Pie Equino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 - Apoyo de las puntas de los pies (metatarso) y el talón se levanta. Puede haber un acortamiento del  tendón de Aquil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 Black"/>
              </a:rPr>
              <a:t>Pie Talo o Calcáneo</a:t>
            </a:r>
            <a:r>
              <a:rPr b="0" i="1" lang="es-E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- Se apoya el talón o parte posterior del pie y la parte delantera del pie se levant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5:19:19Z</dcterms:created>
  <dc:creator>l8</dc:creator>
  <dc:description/>
  <cp:keywords/>
  <dc:language>en-US</dc:language>
  <cp:lastModifiedBy>usuario</cp:lastModifiedBy>
  <dcterms:modified xsi:type="dcterms:W3CDTF">2007-03-06T12:29:05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043082</vt:lpwstr>
  </property>
</Properties>
</file>