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6.png" ContentType="image/png"/>
  <Override PartName="/ppt/media/image58.jpeg" ContentType="image/jpeg"/>
  <Override PartName="/ppt/media/image59.jpeg" ContentType="image/jpeg"/>
  <Override PartName="/ppt/media/image43.jpeg" ContentType="image/jpeg"/>
  <Override PartName="/ppt/media/image36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7E6-3435-48F8-AB04-97CC412E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9ED-72B1-42C8-9560-CADB0FF2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AF2-538E-4843-82AF-3A0591A21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4254-0934-4CDD-9185-28034765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E36-CD8C-45AC-98B3-4D43C96B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643-ED49-4933-A47A-A5526B54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8AC-0A6A-46E2-A23D-29A2081F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172-68CA-40D9-AB79-0E6A7490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BD3-0153-4103-A509-22B313B4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8B83-1F48-4CD7-9F57-A5DF55F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FC4-03FE-477C-94D1-4A0DD5B4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43F4-592B-409D-9A3E-DD28A57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EC59-F907-460F-831C-CC7CA2DB0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Black"/>
              </a:rPr>
              <a:t>Tema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Columna verteb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méd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04760" y="0"/>
            <a:ext cx="39988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76720" y="2886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STEOMIELIT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C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1520"/>
            <a:ext cx="7777080" cy="669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48000" y="4149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STOEMIEL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CIT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SCESO EPI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9957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29080" y="300348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SCESO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200720" cy="6845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29080" y="538020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, T1 GD (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SCESOS EPIDURALES MEJOR VISIVBLES EN LA UL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6360" y="127080"/>
            <a:ext cx="7416720" cy="673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264360" y="90792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 Y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STEOMIEL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S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VERT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2360" y="503244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8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SCESO PREVERT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9640" y="34920"/>
            <a:ext cx="7561440" cy="6778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530856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 , 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STEOMIELITIS TUBERCULOSA CON EXTENSIÓN A LOS 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95440" y="0"/>
            <a:ext cx="57672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88000" y="558972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 , 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RCINO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PRÓS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134136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NINGIT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UBERC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3967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79640" y="6014880"/>
            <a:ext cx="51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,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PENDIM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256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89440" y="2971800"/>
            <a:ext cx="32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GE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PENDIMO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I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R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-27000"/>
            <a:ext cx="5375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133800"/>
            <a:ext cx="914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RESIÓN MEDULAR AGUDA POR PROCESO INFECC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6000" y="1125360"/>
            <a:ext cx="197964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4745160"/>
            <a:ext cx="1979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0160" y="0"/>
            <a:ext cx="58845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32360" y="155736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TROCITOMA EN NEUROFIBROMATOOSIS TIP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05440" y="514980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ANGIOBLASTOMA QUÍSTICO CON NÓDULO HIPERCAP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359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280" y="60865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LFORMACIÓN CHIARI TIP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5734080"/>
            <a:ext cx="3780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GRAFIA CON CONTRASTE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NINGIOMA INTRA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95400"/>
            <a:ext cx="9144000" cy="441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95640" y="573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NINGIOMA INTRA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40129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7080" y="3213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 SCHWA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36360"/>
            <a:ext cx="7345440" cy="6864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92720" y="270828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, IRM T1 NEUROFIBROMA EN RELOJ DE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6093000"/>
            <a:ext cx="76327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UROFIBROMATOSIS CON ECTASIA DUC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449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94160" y="3206880"/>
            <a:ext cx="367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GRAFIA NEUROFIBROMATOSIS CON ECTASIA DUC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359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869080" y="2781360"/>
            <a:ext cx="302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ÁGRIMA DE UN ASTROCITOMA PILOCÍTICO JUVENIL SUPRAS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43228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9080" y="2924280"/>
            <a:ext cx="23032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TRATE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R CA DEL PUL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3528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867280" y="2924280"/>
            <a:ext cx="28083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PTOMENINGEA POR CA DE M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6224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6021360"/>
            <a:ext cx="4321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POR CARCINOMA DE PRÓS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15920"/>
            <a:ext cx="45007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STIR,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POR CARCINOMA DE M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3111480" cy="602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003640" y="692280"/>
            <a:ext cx="3294360" cy="543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UMOR EXTRAMEDULAR CON COMPRESIÓN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61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920" y="6165720"/>
            <a:ext cx="9109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, IRM 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RACTURA VERTEBRAL TRAU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2320" y="0"/>
            <a:ext cx="51530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8000" y="3213000"/>
            <a:ext cx="89647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VERTEBRAL CON EXTENSIÓN EPIDURAL POR CA DEL PUL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86372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3213000"/>
            <a:ext cx="921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MA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24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82520"/>
            <a:ext cx="921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UROBLASTOMA PARAESPINAL CON COMPRESIÓN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8628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2920" y="3213000"/>
            <a:ext cx="37083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ANGLIONEUROBLASTOMA CON CRECIMIENTO EN RELOJ DE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429000"/>
            <a:ext cx="521964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65120"/>
            <a:ext cx="9144000" cy="6276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54160"/>
            <a:ext cx="4572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STIR, 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UC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0000" y="5583240"/>
            <a:ext cx="4213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SPLANTE DE MÉDULA Ó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6920" y="85680"/>
            <a:ext cx="6913800" cy="6792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33360"/>
            <a:ext cx="921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FIB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08480" y="0"/>
            <a:ext cx="57355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3280" y="3213000"/>
            <a:ext cx="25560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SA MEDIASTINAL CON INFILTRACIÓN ÓSEA Y COMPRESIÓN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149720"/>
            <a:ext cx="720720" cy="270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59640" y="4105440"/>
            <a:ext cx="720720" cy="275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436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04000" y="3213000"/>
            <a:ext cx="255564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AC, 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INFOMA CON INFILTRACIÓN RENAL, DEL SOAS Y CANAL E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1320" y="0"/>
            <a:ext cx="49006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92720" y="3213000"/>
            <a:ext cx="2556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2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FARTO MEDULAR CON LESIÓN DE LA SUSTANCIA G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33000" cy="516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98520"/>
            <a:ext cx="914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ESCLEROSIS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1052640"/>
            <a:ext cx="216000" cy="540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574560"/>
            <a:ext cx="9144000" cy="5015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8000" y="5883120"/>
            <a:ext cx="8893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DP, T2 Y A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LFORMACIÓN ARTERIOVENOSA INTRAMEDULAR A LA ALTURA DE 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6360" y="74520"/>
            <a:ext cx="9144000" cy="6667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20" y="6165720"/>
            <a:ext cx="5473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LFORMACIÓN AV OCULTA INTRA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00720" y="4941720"/>
            <a:ext cx="356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NATOMÍA DE LAS FÍSTULAS AV ESPINALES D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55912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48360" y="2924280"/>
            <a:ext cx="255600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NAS ESPIN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LAT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ALSA IMAGEN DE 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86120" y="0"/>
            <a:ext cx="51786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3280" y="1557360"/>
            <a:ext cx="349236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2, MIELOGRAFÍA Y A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ÍSTULA AV E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922400"/>
            <a:ext cx="9144000" cy="3667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1247760"/>
            <a:ext cx="8389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 Y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IPOMA INTRAE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7052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48360" y="3213000"/>
            <a:ext cx="2556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LASIFIC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RAF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24360" y="4516560"/>
            <a:ext cx="4967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ÉDULA FIJA CON LIP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829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IBROLIPOMA DEL FILUM TER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4240" y="0"/>
            <a:ext cx="51181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19640" y="3213000"/>
            <a:ext cx="2556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2 Y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IP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TRATE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1640" y="133200"/>
            <a:ext cx="8244000" cy="6759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 , 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ÍNDROME DE REGRESIÓN CAUDAL GR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46520" y="0"/>
            <a:ext cx="2157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34000" y="2944800"/>
            <a:ext cx="32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2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U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RITEMAT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3984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ISTES LEPTOMENÍNGEOS DEL S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09904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03280" y="3213000"/>
            <a:ext cx="2556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I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RAGNO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597120" y="0"/>
            <a:ext cx="41436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92000" y="2924280"/>
            <a:ext cx="2556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COLI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GÉNITA POR HEMIVÉRT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7280" y="109440"/>
            <a:ext cx="6985080" cy="681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91280" y="4732200"/>
            <a:ext cx="255564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ASTEMATOMI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06640" y="0"/>
            <a:ext cx="64944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09300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RACTURA VERTEBRAL CON EDEMA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47760"/>
            <a:ext cx="9144000" cy="6033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-216000" y="5950080"/>
            <a:ext cx="9468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2 (2 E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ATOMA EXPONTÁNEO EN UNA LEUC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42339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3640" y="2852640"/>
            <a:ext cx="2556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VUL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176040"/>
            <a:ext cx="9144000" cy="6566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32544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,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ATOMA E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47636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119640" y="3213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ATO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PIDURAL (METAHEMOGLOB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1428840"/>
            <a:ext cx="9144000" cy="35416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507852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MIELO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VULSIÓN DE UNA RAÍZ NERVI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335480" y="0"/>
            <a:ext cx="4484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252360" y="263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SION DEL LIGAMENTO TRANSVE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P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RTRITIS REUMAT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33920" y="552564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76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15494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ITIS POR RA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5006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INTRA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994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37080" y="15494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SRADIACIÓN E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TROCIT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34160" y="4718160"/>
            <a:ext cx="305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UROSARCOIDOSIS CON LESIÓN LEPTOMENINGEA Y EL EL T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4720" y="31338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AC Y IRM T1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STEOMIELITIS CON ABSCESO DEL 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4:59:53Z</dcterms:created>
  <dc:creator>MP</dc:creator>
  <dc:description/>
  <dc:language>en-US</dc:language>
  <cp:lastModifiedBy>MP</cp:lastModifiedBy>
  <dcterms:modified xsi:type="dcterms:W3CDTF">2005-10-11T03:19:54Z</dcterms:modified>
  <cp:revision>38</cp:revision>
  <dc:subject/>
  <dc:title>Diapositiva 1</dc:title>
</cp:coreProperties>
</file>