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6.png" ContentType="image/png"/>
  <Override PartName="/ppt/media/image58.jpeg" ContentType="image/jpeg"/>
  <Override PartName="/ppt/media/image59.jpeg" ContentType="image/jpeg"/>
  <Override PartName="/ppt/media/image43.jpeg" ContentType="image/jpeg"/>
  <Override PartName="/ppt/media/image36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ADD5-833C-4727-A5CF-AD56A745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758-8A26-46DC-8026-D7E7C681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5AA4-6538-4C5E-AF9A-7B8B7C23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3D8-425F-42CC-B94D-607B4F3C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3A8-D0F9-4517-83B0-F75E2A2F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F5E-5822-44E6-A688-DE367ECB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432-6637-4FB8-97DF-DCF99168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DA5-46CD-4234-8DBD-4DF3559C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B99-B830-44F5-9B7B-B60DE347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A02-4E04-45C4-95E6-11B6E0BF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D08-1DCE-4222-8419-5AE16122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224-60AE-4014-A7BE-5E2A7C27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847F-ADA7-4636-9730-4DE28606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 Black"/>
              </a:rPr>
              <a:t>Tema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Columna verteb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méd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04760" y="0"/>
            <a:ext cx="39988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176720" y="2886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C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01520"/>
            <a:ext cx="7777080" cy="6694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248000" y="4149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OEMIEL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CIT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99572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29080" y="300348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200720" cy="6845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29080" y="538020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, T1 GD (S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S EPIDURALES MEJOR VISIVBLES EN LA ULT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36360" y="127080"/>
            <a:ext cx="7416720" cy="67356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264360" y="907920"/>
            <a:ext cx="320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O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52360" y="5032440"/>
            <a:ext cx="173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180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6021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BSCESO PREVERTEB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39640" y="34920"/>
            <a:ext cx="7561440" cy="6778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5280" y="530856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, 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 TUBERCULOSA CON EXTENSIÓN A LOS 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95440" y="0"/>
            <a:ext cx="57672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88000" y="558972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, 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RCIN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 PRÓS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134136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T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BERCUL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396720"/>
            <a:ext cx="9144000" cy="55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979640" y="6014880"/>
            <a:ext cx="51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,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PENDIM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2560" y="0"/>
            <a:ext cx="51847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689440" y="2971800"/>
            <a:ext cx="32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GE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PENDIM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L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R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627280" y="-2700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3133800"/>
            <a:ext cx="914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MPRESIÓN MEDULAR AGUDA POR PROCESO INFECCI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6000" y="1125360"/>
            <a:ext cx="197964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8000" y="4745160"/>
            <a:ext cx="1979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0160" y="0"/>
            <a:ext cx="588456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32360" y="155736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TROCITOMA EN NEUROFIBROMATOOSIS TIP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05440" y="514980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NGIOBLASTOMA QUÍSTICO CON NÓDULO HIPERCAP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359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11280" y="60865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FORMACIÓN CHIARI TIP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5734080"/>
            <a:ext cx="3780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IA CON CONTRASTE NEG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OMA INTRA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95400"/>
            <a:ext cx="9144000" cy="4410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95640" y="573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OMA INTRA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140360" y="0"/>
            <a:ext cx="40129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297080" y="3213000"/>
            <a:ext cx="32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 SCHWAN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36360"/>
            <a:ext cx="7345440" cy="68644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92720" y="2708280"/>
            <a:ext cx="32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, IRM T1 NEUROFIBROMA EN RELOJ DE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6093000"/>
            <a:ext cx="7632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UROFIBROMATOSIS CON ECTASIA DUC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94496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94160" y="3206880"/>
            <a:ext cx="367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IA NEUROFIBROMATOSIS CON ECTASIA DUC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3593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869080" y="2781360"/>
            <a:ext cx="302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ÁGRIMA DE UN ASTROCITOMA PILOCÍTICO JUVENIL SUPRAS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432288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89080" y="2924280"/>
            <a:ext cx="23032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GRAF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TRATE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R CA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3528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867280" y="2924280"/>
            <a:ext cx="28083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NINGIT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PTOMENINGEA POR CA DE M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62244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8000" y="6021360"/>
            <a:ext cx="4321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POR CARCINOMA DE PRÓS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5920"/>
            <a:ext cx="450072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STIR,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POR CARCINOMA DE M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03280" y="476280"/>
            <a:ext cx="3111480" cy="6021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003640" y="692280"/>
            <a:ext cx="3294360" cy="543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UMOR EXTRAMEDULAR CON COMPRESIÓN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611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4920" y="6165720"/>
            <a:ext cx="9109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, 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RACTURA VERTEBRAL TRAU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2320" y="0"/>
            <a:ext cx="51530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08000" y="3213000"/>
            <a:ext cx="8964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VERTEBRAL CON EXTENSIÓN EPIDURAL POR CA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63720" y="0"/>
            <a:ext cx="507672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3213000"/>
            <a:ext cx="921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MA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624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182520"/>
            <a:ext cx="921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UROBLASTOMA PARAESPINAL CON COMPRESIÓN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98628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2920" y="3213000"/>
            <a:ext cx="370836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GANGLIONEUROBLASTOMA CON CRECIMIENTO EN RELOJ DE AR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24360" y="3429000"/>
            <a:ext cx="5219640" cy="647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465120"/>
            <a:ext cx="9144000" cy="6276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254160"/>
            <a:ext cx="4572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STIR, 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U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80000" y="5583240"/>
            <a:ext cx="4213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SPLANTE DE MÉDULA Ó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6920" y="85680"/>
            <a:ext cx="6913800" cy="6792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33360"/>
            <a:ext cx="9215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FIBR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08480" y="0"/>
            <a:ext cx="573552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3280" y="3213000"/>
            <a:ext cx="255600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SA MEDIASTINAL CON INFILTRACIÓN ÓSEA Y COMPRESIÓN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149720"/>
            <a:ext cx="720720" cy="270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459640" y="4105440"/>
            <a:ext cx="720720" cy="275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684360" y="0"/>
            <a:ext cx="48402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904000" y="3213000"/>
            <a:ext cx="255564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C, 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NFOMA CON INFILTRACIÓN RENAL, DEL SOAS Y CANAL 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11320" y="0"/>
            <a:ext cx="4900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192720" y="3213000"/>
            <a:ext cx="2556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FARTO MEDULAR CON LESIÓN DE LA SUSTANCIA G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1125360"/>
            <a:ext cx="7533000" cy="5161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98520"/>
            <a:ext cx="9144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ESCLEROSIS MÚLTI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11640" y="1052640"/>
            <a:ext cx="216000" cy="540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574560"/>
            <a:ext cx="9144000" cy="501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8000" y="5883120"/>
            <a:ext cx="88930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DP, T2 Y A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FORMACIÓN ARTERIOVENOSA INTRAMEDULAR A LA ALTURA DE T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6360" y="74520"/>
            <a:ext cx="9144000" cy="66675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4920" y="6165720"/>
            <a:ext cx="5473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LFORMACIÓN AV OCULTA INTRA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00720" y="4941720"/>
            <a:ext cx="356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ATOMÍA DE LAS FÍSTULAS AV ESPINALES DU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55912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048360" y="2924280"/>
            <a:ext cx="255600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ENAS ESPINA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LAT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ALSA IMAGEN DE M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86120" y="0"/>
            <a:ext cx="51786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03280" y="1557360"/>
            <a:ext cx="349236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, MIELOGRAFÍA Y A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ÍSTULA AV 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3667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5280" y="1247760"/>
            <a:ext cx="83898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 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POMA INTRA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570528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48360" y="3213000"/>
            <a:ext cx="255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LASIFICACIÓN 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RAF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65040"/>
            <a:ext cx="9144000" cy="56689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924360" y="4516560"/>
            <a:ext cx="49672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ÉDULA FIJA CON LIP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695160"/>
            <a:ext cx="9144000" cy="58294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IBROLIPOMA DEL FILUM TER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4240" y="0"/>
            <a:ext cx="511812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9640" y="3213000"/>
            <a:ext cx="2556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2 Y 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P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TRATE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31640" y="133200"/>
            <a:ext cx="8244000" cy="6759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616572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 , 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ÍNDROME DE REGRESIÓN CAUDAL GR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846520" y="0"/>
            <a:ext cx="215712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34000" y="2944800"/>
            <a:ext cx="322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2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UP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RITEMAT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61596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33984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ISTES LEPTOMENÍNGEOS DEL S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09904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03280" y="3213000"/>
            <a:ext cx="255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QUI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AGNO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597120" y="0"/>
            <a:ext cx="41436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92000" y="2924280"/>
            <a:ext cx="2556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COLI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GÉNITA POR HEMIVÉRT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109440"/>
            <a:ext cx="6985080" cy="681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1280" y="4732200"/>
            <a:ext cx="255564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ASTEMATOMIE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06640" y="0"/>
            <a:ext cx="64944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09300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RACTURA VERTEBRAL CON EDEMA 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347760"/>
            <a:ext cx="9144000" cy="6033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-216000" y="5950080"/>
            <a:ext cx="946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2 (2 E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TOMA EXPONTÁNEO EN UNA LEUCE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42339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863640" y="2852640"/>
            <a:ext cx="25560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VULS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176040"/>
            <a:ext cx="9144000" cy="6566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32544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, 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TOMA ESP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47636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119640" y="321300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MATO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PIDURAL (METAHEMOGLOB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1428840"/>
            <a:ext cx="9144000" cy="35416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0" y="5078520"/>
            <a:ext cx="9144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MIELOT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VULSIÓN DE UNA RAÍZ NERVI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335480" y="0"/>
            <a:ext cx="4484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252360" y="2637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SION DEL LIGAMENTO TRANSVER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OPA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RTRITIS REUMATO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33920" y="552564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Black"/>
              </a:rPr>
              <a:t>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176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1549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IELITIS POR RA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5006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 Y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ETÁSTASIS INTRAMED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9943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37080" y="15494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SRADIACIÓN EN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STROCIT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834160" y="4718160"/>
            <a:ext cx="3058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UROSARCOIDOSIS CON LESIÓN LEPTOMENINGEA Y EL EL T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99428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184720" y="3133800"/>
            <a:ext cx="39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C Y IRM T1, T1 G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STEOMIELITIS CON ABSCESO DEL SO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2T04:59:53Z</dcterms:created>
  <dc:creator>MP</dc:creator>
  <dc:description/>
  <dc:language>en-US</dc:language>
  <cp:lastModifiedBy>MP</cp:lastModifiedBy>
  <dcterms:modified xsi:type="dcterms:W3CDTF">2005-10-11T03:19:54Z</dcterms:modified>
  <cp:revision>38</cp:revision>
  <dc:subject/>
  <dc:title>Diapositiva 1</dc:title>
</cp:coreProperties>
</file>