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4679950" cy="39592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03280" y="685440"/>
            <a:ext cx="40514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2C2A-2F21-45A8-A956-67144BF8D4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www.bvs.sld.cu/libros_texto/salud_mentalinfantojuvenil/indice_p.htm" TargetMode="External"/><Relationship Id="rId2" Type="http://schemas.openxmlformats.org/officeDocument/2006/relationships/hyperlink" Target="http://www.bvs.sld.cu/libros_texto/salud_mentalinfantojuvenil/indice_p.htm" TargetMode="External"/><Relationship Id="rId3" Type="http://schemas.openxmlformats.org/officeDocument/2006/relationships/hyperlink" Target="http://www.bvs.sld.cu/libros_texto/salud_mentalinfantojuvenil/indice_p.htm" TargetMode="External"/><Relationship Id="rId4" Type="http://schemas.openxmlformats.org/officeDocument/2006/relationships/hyperlink" Target="http://www.bvs.sld.cu/libros_texto/salud_mentalinfantojuvenil/indice_p.htm" TargetMode="External"/><Relationship Id="rId5" Type="http://schemas.openxmlformats.org/officeDocument/2006/relationships/hyperlink" Target="http://www.bvs.sld.cu/libros_texto/salud_mentalinfantojuvenil/indice_p.htm" TargetMode="External"/><Relationship Id="rId6" Type="http://schemas.openxmlformats.org/officeDocument/2006/relationships/hyperlink" Target="http://www.bvs.sld.cu/libros_texto/salud_mentalinfantojuvenil/indice_p.htm" TargetMode="External"/><Relationship Id="rId7" Type="http://schemas.openxmlformats.org/officeDocument/2006/relationships/hyperlink" Target="http://www.bvs.sld.cu/libros_texto/salud_mentalinfantojuvenil/indice_p.htm" TargetMode="External"/><Relationship Id="rId8" Type="http://schemas.openxmlformats.org/officeDocument/2006/relationships/hyperlink" Target="http://www.bvs.sld.cu/libros_texto/salud_mentalinfantojuvenil/indice_p.htm" TargetMode="External"/><Relationship Id="rId9" Type="http://schemas.openxmlformats.org/officeDocument/2006/relationships/hyperlink" Target="http://www.bvs.sld.cu/libros_texto/salud_mentalinfantojuvenil/indice_p.htm" TargetMode="External"/><Relationship Id="rId10" Type="http://schemas.openxmlformats.org/officeDocument/2006/relationships/hyperlink" Target="http://www.ilustrados.com/publicaciones/EEykkuAFuyTekBnAYJ.php#superior" TargetMode="External"/><Relationship Id="rId11" Type="http://schemas.openxmlformats.org/officeDocument/2006/relationships/hyperlink" Target="http://www.ilustrados.com/publicaciones/EEykkuAFuyTekBnAYJ.php#superior" TargetMode="External"/><Relationship Id="rId12" Type="http://schemas.openxmlformats.org/officeDocument/2006/relationships/hyperlink" Target="http://www.ilustrados.com/publicaciones/EEykkuAFuyTekBnAYJ.php#superior" TargetMode="External"/><Relationship Id="rId13" Type="http://schemas.openxmlformats.org/officeDocument/2006/relationships/hyperlink" Target="http://www.ilustrados.com/publicaciones/EEykkuAFuyTekBnAYJ.php#superior" TargetMode="External"/><Relationship Id="rId14" Type="http://schemas.openxmlformats.org/officeDocument/2006/relationships/hyperlink" Target="http://www.ilustrados.com/publicaciones/EEykkuAFuyTekBnAYJ.php#superior" TargetMode="External"/><Relationship Id="rId15" Type="http://schemas.openxmlformats.org/officeDocument/2006/relationships/hyperlink" Target="http://www.zonapediatrica.com/" TargetMode="External"/><Relationship Id="rId16" Type="http://schemas.openxmlformats.org/officeDocument/2006/relationships/hyperlink" Target="http://www.zonapediatrica.com/" TargetMode="External"/><Relationship Id="rId17" Type="http://schemas.openxmlformats.org/officeDocument/2006/relationships/hyperlink" Target="http://www.zonapediatrica.com/" TargetMode="External"/><Relationship Id="rId18" Type="http://schemas.openxmlformats.org/officeDocument/2006/relationships/slide" Target="../slides/slide24.xml"/><Relationship Id="rId19"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403280" y="685800"/>
            <a:ext cx="405144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Autores: Dra. Silvia María Pozo Abr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Especialista en Medicina General Integ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Asistente</a:t>
            </a:r>
            <a:br>
              <a:rPr sz="1200"/>
            </a:br>
            <a:r>
              <a:rPr b="0" lang="es-ES" sz="1200" spc="-1" strike="noStrike">
                <a:solidFill>
                  <a:srgbClr val="ffff00"/>
                </a:solidFill>
                <a:latin typeface="Arial"/>
              </a:rPr>
              <a:t>             MSc. Atención integral al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iplomada en Prevención del maltrato infan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Correo: spozo@infomed.sld.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ra. Mónica C. Arbelo Figuere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Especialista en medicina General Integ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Asis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MSc. Psiquiatría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iplomada en Prevención del maltrato infan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Correo: monicarb@infomed.sld.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conferencia tenemos como objetivo identificar las distintas formas de violencia. Veremos diferentes conceptos de violencia, los enfoques teóricos, sus elementos esenciales,  los factores que influyen en la violencia,  sus efectos, diferentes tipos de violencia y el tratamieno de forma gener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403280" y="685800"/>
            <a:ext cx="405144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íntima relación de la violencia con la salud, permite abordarla mediante el enfoque de riesgo. En éste se encuentran factores determinantes, los propios de riesgo y el efecto que causa. Es posible añadir los factores que condicionan su reproducción. Todos estos elementos se encuentran en lo que, de modo genérico, se definen como factores psicosociales. Entre éstos se encuentran los factores de protección, a los que se dedica un espacio particular por su valor para proteger y promover salud mental, en contra de la violencia y su cultu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actores determinantes:  </a:t>
            </a:r>
            <a:r>
              <a:rPr b="0" lang="en-US" sz="800" spc="-1" strike="noStrike">
                <a:solidFill>
                  <a:srgbClr val="000000"/>
                </a:solidFill>
                <a:latin typeface="Arial"/>
              </a:rPr>
              <a:t>Se encuentran en los aspectos macrosociales, en las condiciones económicas de la colectividad o país, en su organización social. Influyen en el modo, estilo y calidad de vidas, que a su vez determinan la escala de valores y el nivel de aspiraciones, casi siempre desfasados por las posibilidades reales de lograrl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e una pérdida de los derechos humanos básicos a la alimentación, al trabajo, a la salud, a la educación y a la vivienda. Todo ello es capaz de generar  violencia de los más variados tipos, lo que provoca la ruptura del orden social establecido, y a la violación de los derechos jurídicos y civiles de esas poblacio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cronicidad de las situaciones descritas conduce a la cultura de la violencia que es concebida como la única posible entre los marginados y excluidos sociales.</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403280" y="685800"/>
            <a:ext cx="405144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Factores de riesgo: </a:t>
            </a:r>
            <a:r>
              <a:rPr b="0" lang="es-ES" sz="1000" spc="-1" strike="noStrike">
                <a:solidFill>
                  <a:srgbClr val="000000"/>
                </a:solidFill>
                <a:latin typeface="Arial"/>
              </a:rPr>
              <a:t>relacionados con los condicionantes y entre ellos aparece el desempleo, con tiempo libre sin posibilidades de practicar actividades útiles para lograr estilos de vida saludables; el hacinamiento en la vivienda, con la consecuente intensa intercomunicación entre los que así viven, incluyendo la promiscuidad, lo cual puede generar conflictos que se pretenden resolver de modo violento; la frustración para realizar proyectos de vida, que conduce a estilos de vida no saludables; falta de redes de apoyo social, que permite la subsistencia de conductas violentas sin limitación algun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situaciones determinan grupos de individuos sometidos a mayor riesgo por su menor capacidad de afrontamiento a las exigencias de un medio hostil, que los convierte la mayor parte de las veces en víctimas de la violencia, pero en ocasiones los llevan al papel de victimarios. Estos individuos en mayor riesgo se agrupan según su edad (en niños y jóvenes, y adultos mayores), por género femenino, por minusvalía o discapacidad física o psíquica (en retrasados y enfermos mentales de todo tipo), sordos e hipoacúsicos, ciegos y débiles visuales, limitados físicos y motores, y enfermos crónicos con enfermedades incapacitan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ertenencia a una etnia o raza determinada (excluida del proceso social por tal condición) unido a las condiciones dadas por culturas no asimiladas por la dominante, aun cuando sean las autóctonas, es otro riesgo. Aquí se incluyen los emigrantes, ya sean internos o procedentes de otros países en los que hay que añadir usos y costumbres distintos del conglomerado que los recibe e, incluso, otro idiom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factores de riesgo descritos hasta aquí se corresponden con los más comunes en los grupos sociales marginados, lo que añade un componente de clase en relación con la violencia, pero que no es exclusiva de estas clases sociales y se extiende a las dominan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toman como modalidad para resolver los conflictos propios de sus niveles de aspiraciones y pérdida de valores, la violencia. Así, entre los riesgos de la violencia se incluye la ideología ejercida por unos para perpetuar la situación, y por otros para modificarla y favorecer la equidad ante la oposición de los primer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03280" y="685800"/>
            <a:ext cx="405144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 países viven en una verdadera cultura de la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lcohol provoca muertes violentas  (accidentes de tránsito y laborales, homicidios y suicidios);  principal en la violencia intrafamiliar (daños físicos y psíquicos); se encuentra frecuentemente en las alteraciones del orden en las com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drogas desencadenan la violencia organizada que incluye no sólo a los narcotraficantes, sino también a poblaciones enteras que dependen de ellas y llegan en algunos países a ser factor determinante en una verdadera cultura de la violencia, que implica a las estructuras estatales y a todos los habi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iolencia delincuencial proporciona beneficio inmediato para el delincuente (convertido en  victimario); produce alteraciones psíquicas afectando la salud mental de las vícti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rginación facilita que se  emplee la violencia  como medio de subsistencia, ya sea la delincuencia individual u organizada, ligado a la drogadicción o al narcotráfico. La  incorporan a su forma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iseminación de las armas de fuego provee un instrumento para ejercerla; su representación en los medios masivos de comunicación (televisión, cine) demuestra cómo practicarlas. Esto lleva a solucionar los problemas con la violencia, desde la más banal hasta la más grave como algo propio de la vida cotidiana, que es insegura e impide a los ciudadanos vivir con tranquilida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403280" y="685800"/>
            <a:ext cx="405144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factores en el medio social que se consideran como protectores de la salud mental, que también ejercen su acción sobre la violencia, están incluidos entre los determinantes y entre los psicosociales. Estos factores no actúan por generación espontánea, son condicionados por los más generales de la organización política del Estado, su proyecto social, la base económica y la cultura histórica predominante. Lograr que sean los prevalecientes en un medio determinado, crea las condiciones para erradicar la violencia y promover la salud mental. Es posible, además, ejercer acciones preventivas en contextos más limitados, en poblaciones determinadas, con proyectos de alcance a mediano y largo plazos. También se puede actuar sobre las víctimas de la violencia, si se disminuyen sus secuelas y se evita que se conviertan en elemento reproductor de ell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403280" y="685800"/>
            <a:ext cx="405144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fectos de la violencia repercuten en el contexto social y sus resultados más evidentes son las muertes violentas y las lesiones. Las consecuencias psíquicas se manifiestan por la aparición de variados  trastornos que se presentan en el individuo y también en los grupos sociales, así como en la familia que se torna disfuncional y es capaz de convertirse en factor promotor de actos violentos contra la comunidad y sus miembros. Los colectivos que viven en la violencia se caracterizan por la gran inestabilidad de sus integrantes y la aparición de frecuentes actos violentos que forman un círculo vicio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403280" y="685800"/>
            <a:ext cx="405144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estos efectos necesita servicios de salud mental capaces de afrontarlos en los momentos críticos y de seguirlos. La aparición de estos trastornos tienen como denominador común la situación de tensión o estrés mantenido, o haber estado sometido a situación de máxima tensión con peligro para la vida y/o la integración física o psíqu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lantea una situación a la que no se le encuentra salida y desborda los mecanismos habituales de afrontamiento, lo cual deriva en una conducta inicial de evitación y retraimiento con aceptación de los hechos violentos como inevitables, se produce aturdimiento y poca comprensión de lo que sucede y baja capacidad de reacción, que puede llevar a la impulsividad y a la búsqueda de soluciones del conflicto por métodos violentos, las que a su vez inician un nuevo ciclo conductual con gran toma afectiva. Es por ello que son frecuentes los trastornos de estrés postraumáticos, las reacciones ante grandes estrés, las depresiones, la aparición o desencadenamiento de cuadros psicóticos y otros de estas categorí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403280" y="685800"/>
            <a:ext cx="405144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ámbito familiar lo común es la disfunción familiar, que obedece a múltiples causas desde el estrés mantenido por causa externa hasta la pérdida de familiares en situaciones catastróficas. Estas familias, además de tornarse incapaces de contener a los que padecen las consecuencias individuales del acto violento, lo sufren y se convierten en elemento estresante para los demá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violencia en el medio familiar ha llevado a que se considere una definición propia de ésta, que si bien contiene los elementos esenciales de la definición general tiene otros que la justifican. </a:t>
            </a:r>
            <a:br>
              <a:rPr sz="1000"/>
            </a:br>
            <a:r>
              <a:rPr b="0" lang="en-US" sz="1000" spc="-1" strike="noStrike">
                <a:solidFill>
                  <a:srgbClr val="000000"/>
                </a:solidFill>
                <a:latin typeface="Arial"/>
              </a:rPr>
              <a:t>En la familia la violencia se dirige hacia las mujeres, los niños y los ancianos, que son los grupos más vulnerables. Las consecuencias principales están dadas por la pérdida de la dignidad, seguridad, y confianza en sí mismo y en los demás. Se pierde la capacidad de controlar el miedo y de rebelarse, con pérdida del sentido de pertenencia y compet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utoestima está muy disminuida o falta por completo. Existe impotencia y desesperación, al comprobar lo inútil de los esfuerzos por solucionar la situación y salir de la violencia. Puede llevar a la resignación y aceptación de esa conducta, así como a crear mitos que la faciliten, como: madre o mujer resignada, hijo obediente y tranquilo, y anciano indiferente y sin preocupación por la familia.</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403280" y="685800"/>
            <a:ext cx="405144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ganización Mundial de la Salud lo define como “</a:t>
            </a:r>
            <a:r>
              <a:rPr b="0" lang="es-ES" sz="2200" spc="-1" strike="noStrike">
                <a:solidFill>
                  <a:srgbClr val="0000ff"/>
                </a:solidFill>
                <a:latin typeface="Arial"/>
              </a:rPr>
              <a:t>Toda forma de maltrato físico, emocional o ambos, abuso sexual, abandono </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rPr>
              <a:t>o trato negligente, del que resulte un daño real o potencial para la salud, la supervivencia, el desarrollo o la dignidad del niño en el contexto de una relación de responsabilidad, confianza o poder(O.M.S. 1999)” ;</a:t>
            </a:r>
            <a:r>
              <a:rPr b="0" lang="es-ES" sz="1200" spc="-1" strike="noStrike">
                <a:solidFill>
                  <a:srgbClr val="000000"/>
                </a:solidFill>
                <a:latin typeface="Arial"/>
              </a:rPr>
              <a:t> estima que 40 millones de niños/as sufren violencia en el mundo. En ALC 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n todas las formas de violencia contra los/las niños/as, en los diversos escenarios en que se pres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gresión física contra menores es más común entre los padres o los responsables jóvenes, de menor educación que consideran que el castigo físico es una medida válida para lograr un comportamiento discipli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xposición a ambientes violentos se refleja en conductas agresivas en los menores. Además de la agresión física en el hogar, la violencia contra los menores en la calle también es un problema de grandes proporciones. La violencia contra men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petúa el ciclo de violencia y lleva al aprendizaje de conductas y actitudes agres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03280" y="685800"/>
            <a:ext cx="405144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blación de menor edad, se ha visto afectada principalmente por el abuso o descuido infantil, el cual se asocia con embarazos en adolescentes (&lt;19 años), presencia de un solo padre y bajo nivel socioeconómico. Los adolescentes son la población más afectada por todo tipo de violencia. Ésta no sólo se limita a la agresión física, sino que también incluye el abuso sexual, verbal y emocional y el abandono. Se ve a menudo influenciada por mensajes agresivos y violentos producidos por los medios de comunicación masiva. Además de ser las víctimas más usuales, los jóvenes son quienes con mayor frecuencia ejecutan actos violentos. Las características individuales, experiencias familiares, el acceso a armas de fuego, alcohol, drogas, violencia política y social afectan con más frecuencia a este grupo de edad, principalmente a los varones. Estas conductas son aprendidas y con frecuencia se originan en un ambiente familiar violento como ya había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403280" y="685800"/>
            <a:ext cx="405144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or concepto es “Cualquier acción o conducta, basada en su género, que cause muerte, daño o sufrimiento físico, sexual o psicológico a la mujer, tanto en el ámbito público como el privado”. (Convención de Belem do Pará, 199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ye acciones contra la mujer dentro o fuera de su hogar, independientemente que el agresor sea o no su cónyuge o compañero en el momento de la agresión, o sea un desconocido. Similar concepto se tiene en la OPS al definir violencia conyugal como “Todo acto u omisión que tiene la intención de controlar y/o someter y que resulta en daño a la integridad física, emocional, sexual o económica, utilizado contra las mujeres adolescentes o adultas, por su pareja actual o anterior”. Grupos de mujeres y redes nacionales o internacionales contra el maltrato a la mujer y los niños, hacen esfuerzos para lograr mayor conciencia sobre la equidad de gé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03280" y="685800"/>
            <a:ext cx="405144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Organización Mundial de la Salud  define la violencia  como “El uso intencional de la fuerza o el poder físico, de hecho o como amenaza, contra uno mismo, otra persona o un grupo o comunidad, que cause o tenga muchas probabilidades de causar lesión, muerte, daño psicológico, trastornos del desarrollo o priv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incluyen los incidentes no intencionales, como son la mayor parte de los accidentes de tráfico y las quemadur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403280" y="685800"/>
            <a:ext cx="405144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respuestas lógicas son las acciones destinadas a modificar los condicionantes descritos y a fomentar la equidad, la distribución justa de la riqueza, garantía de empleo, eliminación de la pobreza, respeto a los derechos humanos básico y civiles, así como posibilidades de su ejercicio, nivel de aspiraciones en relación armónica con las posibilidades reales y consecuentes con la escala de valores de esa sociedad y fomento de estilos de vida salud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olencia desborda el sector Salud, pero reclama de éste la atención al daño y sus secuelas en el individuo, la familia y la comunidad. En primera instancia, la atención se dirige a los daños físicos, a las lesiones y sus secuel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gnitud que adquiere en los últimos tiempos hace que los daños psíquicos adquieran cada vez mayor prioridad y se equiparen con los daños físicos señalados. La salud pública se prepara para la verdadera epidemia de heridos y otros lesionados que demandan atención en los servicios de urgencia, atención que se prolonga en la hospitalización, en el tratamiento ambulatorio y la rehabilit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alteraciones mentales, con iguales características de epidemia, necesitan atención continuada, no pocas veces de hospitalización, y un enfoque de terapia de familia y de grupos homogéneos por su vulnerabilidad en la comunidad. Su tratamiento requiere técnicas especializadas que van desde el enfoque del individuo hasta la familia y los grupos de pertenencia en la comun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técnicas suelen responder a variados criterios teóricos. Los trastornos a los que se enfrenta son tan complejos como las reacciones a situaciones de gran estrés o el trastorno de estrés postraumático y su cronicidad, el desencadenamiento de cuadros psicóticos o la disfunción familiar aguda y crónica con sus secuelas irreversibles en sus integrantes más jóven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03280" y="685800"/>
            <a:ext cx="405144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posible caracterizar los efectos más comunes en la salud mental, derivados de la exposición a la violencia, entre los cuales se encuent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íntomas de reacción postraumá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edo a la recur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ul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Reacciones por pérdida y de du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reocupación por la seguridad de efectos cercanos y remembranzas de las  experiencias vi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403280" y="685800"/>
            <a:ext cx="405144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anera de resúmen estos son los aspectos fundamentales de la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fecta individuos, familias, diversos grupos sociales, comunidades y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fectos: salud física y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Posibilidades desarrollarse en grupos sociales y 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ctor salud: acciones dirigidas a paliar las consecuencias sobre la salud, prevenir que se extiendan y proteger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Coordinar con otros s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cciones locales con participación de la 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ebe olvidarse que es fundamental la coordinación con otros sectores y en particular con la misma población afectada para llevar a cabo las acciones de salud. Ante la imposibilidad de lograr erradicar las causas y actuar sobre los determinantes, es preciso ejercer acciones locales y favorecer el fomento de comunidades libres de violencia con la participación de la propi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403280" y="685800"/>
            <a:ext cx="405144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íguez Méndez O. Salud Mental Infanto-Juvenil. Capítulo 5: Factores psicosociales, violencia y salud mental. Disponible en </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vs.sld.cu</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libros_texto</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salud_mentalinfantojuvenil</a:t>
            </a:r>
            <a:r>
              <a:rPr b="0" lang="es-ES" sz="1200" spc="-1" strike="noStrike" u="sng">
                <a:solidFill>
                  <a:srgbClr val="009999"/>
                </a:solidFill>
                <a:uFillTx/>
                <a:latin typeface="Arial"/>
                <a:hlinkClick r:id="rId8"/>
              </a:rPr>
              <a:t>/</a:t>
            </a:r>
            <a:r>
              <a:rPr b="0" lang="es-ES" sz="1200" spc="-1" strike="noStrike" u="sng">
                <a:solidFill>
                  <a:srgbClr val="009999"/>
                </a:solidFill>
                <a:uFillTx/>
                <a:latin typeface="Arial"/>
                <a:hlinkClick r:id="rId9"/>
              </a:rPr>
              <a:t>indice_p.ht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osta Tieles N. Maltrato infantil. Un reto para el próximo mileno. Ciudad de La Habana: Editorial Científico Técnica; 199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tiles de León I, Pérez González E. Maltrato infantil. En: Violencia y sexualidad. La Habana. Editorial Científico-Técnica; 1998. p. 35-5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cía T. La violencia: un virus que debemos detener. Rev Avances Médicos de Cuba. Año IX No.30, 2002.p:32-35.</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osta Tieles N. Maltrato infantil.  2da. Edición. Ciudad de La Habana: Editorial Científico-Técnica; 200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e mundial sobre la violencia y la salud. Publicación científica y técnica. No. 588. OPS, Oficina Sanitaria Panamericana, Oficina Regional de la OMS. 525 Twenty-thirdst., NW. Washington, DC. 20037, EUA. 200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eguez Reyes  MM. Maltrato Infantil. Revisión Bibliográfica. [Monografías.com]. 2006 oct [citado 19 de febrero] Disponible en </a:t>
            </a:r>
            <a:r>
              <a:rPr b="0" lang="es-ES" sz="1200" spc="-1" strike="noStrike" u="sng">
                <a:solidFill>
                  <a:srgbClr val="009999"/>
                </a:solidFill>
                <a:uFillTx/>
                <a:latin typeface="Arial"/>
                <a:hlinkClick r:id="rId10"/>
              </a:rPr>
              <a:t>http</a:t>
            </a:r>
            <a:r>
              <a:rPr b="0" lang="es-ES" sz="1200" spc="-1" strike="noStrike" u="sng">
                <a:solidFill>
                  <a:srgbClr val="009999"/>
                </a:solidFill>
                <a:uFillTx/>
                <a:latin typeface="Arial"/>
                <a:hlinkClick r:id="rId11"/>
              </a:rPr>
              <a:t>://</a:t>
            </a:r>
            <a:r>
              <a:rPr b="0" lang="es-ES" sz="1200" spc="-1" strike="noStrike" u="sng">
                <a:solidFill>
                  <a:srgbClr val="009999"/>
                </a:solidFill>
                <a:uFillTx/>
                <a:latin typeface="Arial"/>
                <a:hlinkClick r:id="rId12"/>
              </a:rPr>
              <a:t>www.ilustrados.com</a:t>
            </a:r>
            <a:r>
              <a:rPr b="0" lang="es-ES" sz="1200" spc="-1" strike="noStrike" u="sng">
                <a:solidFill>
                  <a:srgbClr val="009999"/>
                </a:solidFill>
                <a:uFillTx/>
                <a:latin typeface="Arial"/>
                <a:hlinkClick r:id="rId13"/>
              </a:rPr>
              <a:t>/publicaciones/</a:t>
            </a:r>
            <a:r>
              <a:rPr b="0" lang="es-ES" sz="1200" spc="-1" strike="noStrike" u="sng">
                <a:solidFill>
                  <a:srgbClr val="009999"/>
                </a:solidFill>
                <a:uFillTx/>
                <a:latin typeface="Arial"/>
                <a:hlinkClick r:id="rId14"/>
              </a:rPr>
              <a:t>EEykkuAFuyTekBnAYJ.php#superi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yva A, Medrano J. ¿Qué es el maltrato o la violencia infantil? [Zonapediátrica.com]. 2005 [citado 19 de febrero] Disponible 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9999"/>
                </a:solidFill>
                <a:uFillTx/>
                <a:latin typeface="Arial"/>
                <a:hlinkClick r:id="rId15"/>
              </a:rPr>
              <a:t>http</a:t>
            </a:r>
            <a:r>
              <a:rPr b="0" lang="es-ES" sz="1200" spc="-1" strike="noStrike" u="sng">
                <a:solidFill>
                  <a:srgbClr val="009999"/>
                </a:solidFill>
                <a:uFillTx/>
                <a:latin typeface="Arial"/>
                <a:hlinkClick r:id="rId16"/>
              </a:rPr>
              <a:t>://</a:t>
            </a:r>
            <a:r>
              <a:rPr b="0" lang="es-ES" sz="1200" spc="-1" strike="noStrike" u="sng">
                <a:solidFill>
                  <a:srgbClr val="009999"/>
                </a:solidFill>
                <a:uFillTx/>
                <a:latin typeface="Arial"/>
                <a:hlinkClick r:id="rId17"/>
              </a:rPr>
              <a:t>www.zonapediatrica.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Guías para la vigilancia epidemiológica  de violencia y lesiones. Organización Panamericana de la Salud. Listado de temas. Violencia: prevención. [on-line]   [citado el 1 de abril del 2007]. Disponible en http://www.paho.org/Spanish/AD/DPC/NC/guidelines.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Prevention of child maltreatment. World Health Organization. [on-line] [citado el 1 de mayo del 2007]. Disponible 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who.int/violence_injury_prevention/violence/activities/child_maltreatment/en/index.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a:t>
            </a:r>
            <a:r>
              <a:rPr b="0" lang="es-ES" sz="1200" spc="-1" strike="noStrike">
                <a:solidFill>
                  <a:srgbClr val="ffff00"/>
                </a:solidFill>
                <a:latin typeface="Arial"/>
              </a:rPr>
              <a:t>Iglesias Duquesne M. </a:t>
            </a:r>
            <a:r>
              <a:rPr b="0" lang="es-MX" sz="1200" spc="-1" strike="noStrike">
                <a:solidFill>
                  <a:srgbClr val="ffff00"/>
                </a:solidFill>
                <a:latin typeface="Arial"/>
              </a:rPr>
              <a:t>Prevención al maltrato infantil  a nivel de la asistencia primaria  de salud. Conferencia. Bibliografía complementaria. Curso 5 Tema 7. Maestría Atención integral al niño. 200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03280" y="685800"/>
            <a:ext cx="405144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enfoques teóricos sobre la violencia, que resultan opues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mero parte de posiciones biologicistas: la violencia es natural en el ser humano por lo que tiene un origen instintivo, se da también en los animales y garantiza su supervivencia en la lucha por l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teoría está apoyada por las corrientes psicologistas, fundamentalmente las freudianas, a partir de la concepción de las tendencias y pulsiones instintivas, del principio del placer, de los impulsos del Ello,  justificando la violencia del hombre en su vida cotidiana y  la ejercida entre las clases sociales y  naciones. Considera la violencia como inevitable a lo cual hay que resign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gundo enfoque plantea: la violencia es un producto propiamente humano (tiene un origen social). Se manifiesta en las relaciones entre las personas, los grupos sociales y las naciones. Obedece a las leyes propias de cada nivel de organización de la materia, especialmente las psicológicas y las sociales en una interrelación; logra diferenciar la agresión de los animales para defenderse y atacar para superar el peligro a que se expone su supervivencia de la violencia en el hombre, donde su supervivencia es moldeada por la organización social y la cultura de ella derivad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03280" y="685800"/>
            <a:ext cx="405144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ser humano, la conducta es regulada, tanto por los elementos biológicos (plasticidad cerebral, genética, nutrición, enfermedades no transmisibles, etc.), como por los sociales (contextos económicos, culturales, comunidades, demografía, y otros). Estos últimos poseen un papel predominante para determinar la conducta y regular la expresión de esa conducta, en el individuo aislado y en el grupo social. Determinan la aparición de un conflicto y su solución. Ésta puede ser por concertación, por relaciones armónicas entre las partes o violenta con el dominio de uno sobre otro e imponiendo sus puntos de vis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03280" y="685800"/>
            <a:ext cx="405144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s más fácil comprender esta afirmación cuando se hace referencia a guerras o conflictos entre clases sociales. Se pretende con la conducta violenta ejercer el dominio sobre el otro grupo humano. </a:t>
            </a:r>
            <a:r>
              <a:rPr b="0" lang="en-US" sz="1200" spc="-1" strike="noStrike">
                <a:solidFill>
                  <a:srgbClr val="000000"/>
                </a:solidFill>
                <a:latin typeface="Arial"/>
              </a:rPr>
              <a:t>En algunos casos, la intención es mantener el status quo; en otros, es modificar la situación social. Esta violencia es repudiada por unos y justificada por otros; esto se relaciona con el poder polít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03280" y="685800"/>
            <a:ext cx="405144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bla, entonces, de violencia de Estado, de violencia revolucionaria. Las guerras pretenden mantener la hegemonía de un Estado sobre otro, no importa que en su interior exista la segregación económica o política de diversos grupos y se llegue a la violación de los derechos humanos, básicos, civiles y polí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cotidiana se dan iguales desencadenantes socioeconómicos, aunque no tan evidentes y subyacen en el trasfondo, ocultos por las relaciones de poder. En la violencia contra la mujer, los niños y los discapacitados se expresa una relación de poder, al pretenderse controlar las determinaciones del grupo violentado y en su base existen factores de índole económico. Otro tanto sucede en la violencia por razón étnica, de clase social o religi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de carácter delincuencial se encuentran similares determinantes, en la distribución de recursos, oportunidades de desarrollo individual o familiar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por drogas esta relación es más evidente, así sea entre los narcotraficantes como entre los adictos. Una mirada a la violencia intrafamiliar permite ver cómo es reflejo de las contradicciones sociales y cómo puede ser ella misma determinante de la violencia en la comunida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403280" y="685800"/>
            <a:ext cx="405144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iolencia no puede concebirse como enfermedad ni aplicarle en su estudio los parámetros de la medicina; en el sector Salud se la concibe como factor de riesgo, capaz de producir alteraciones a la salud y enfermedades diagnosticables, también puede ser la consecuencia de algunos procesos morbosos. Su esencia está en el comportamiento (conducta). Si la conducta del hombre está determinada por sus relaciones sociales, cualquier alteración de ésta es susceptible de ser modificada, aun aquella de carácter individual y que en su causa se encuentren elementos biológicos. Es posible realizar acciones dirigidas a su prevención, protección y promoción de conductas saludables, y reducir las secuelas limitan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403280" y="685800"/>
            <a:ext cx="405144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í aparecen los elementos esenciales de la violencia, con los cuales coinciden la mayor parte de los conceptos que hoy se conocen sobre violencia. Además hay l</a:t>
            </a:r>
            <a:r>
              <a:rPr b="0" lang="en-US" sz="1700" spc="-1" strike="noStrike">
                <a:solidFill>
                  <a:srgbClr val="0000ff"/>
                </a:solidFill>
                <a:latin typeface="Arial"/>
              </a:rPr>
              <a:t>imitación de autonomía de la víctima así como la posibilidad de crear situaciones en la cual se reproduzcan las acciones violentas </a:t>
            </a:r>
            <a:endParaRPr b="0" lang="en-US" sz="1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403280" y="685800"/>
            <a:ext cx="40514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s multifactorial, pues responde a diversos y diferentes factores: individuales, biológicos, comunitarios y sociales; es poliexpresiva, tanto en lo que se refiere a su modo de aparecer y actuar como por sus consecuencias, así se tiene violencia implícita, explícita, verbal, simbólica, física, impulsiva con solución inmediata de un conflicto y meditada que responde a propósitos a largo o corto plaz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095E-D368-46FB-BA19-9D57F11BC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27" name="PlaceHolder 2"/>
          <p:cNvSpPr>
            <a:spLocks noGrp="1"/>
          </p:cNvSpPr>
          <p:nvPr>
            <p:ph/>
          </p:nvPr>
        </p:nvSpPr>
        <p:spPr>
          <a:xfrm>
            <a:off x="233280" y="92340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8" name="PlaceHolder 3"/>
          <p:cNvSpPr>
            <a:spLocks noGrp="1"/>
          </p:cNvSpPr>
          <p:nvPr>
            <p:ph/>
          </p:nvPr>
        </p:nvSpPr>
        <p:spPr>
          <a:xfrm>
            <a:off x="233280" y="228924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E3E2-7DC8-4CEA-9895-B1C2381B6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0"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1"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2" name="PlaceHolder 4"/>
          <p:cNvSpPr>
            <a:spLocks noGrp="1"/>
          </p:cNvSpPr>
          <p:nvPr>
            <p:ph/>
          </p:nvPr>
        </p:nvSpPr>
        <p:spPr>
          <a:xfrm>
            <a:off x="23328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3" name="PlaceHolder 5"/>
          <p:cNvSpPr>
            <a:spLocks noGrp="1"/>
          </p:cNvSpPr>
          <p:nvPr>
            <p:ph/>
          </p:nvPr>
        </p:nvSpPr>
        <p:spPr>
          <a:xfrm>
            <a:off x="239256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5103D-78D0-4E0F-8219-94F56E2DE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5" name="PlaceHolder 2"/>
          <p:cNvSpPr>
            <a:spLocks noGrp="1"/>
          </p:cNvSpPr>
          <p:nvPr>
            <p:ph/>
          </p:nvPr>
        </p:nvSpPr>
        <p:spPr>
          <a:xfrm>
            <a:off x="23328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6" name="PlaceHolder 3"/>
          <p:cNvSpPr>
            <a:spLocks noGrp="1"/>
          </p:cNvSpPr>
          <p:nvPr>
            <p:ph/>
          </p:nvPr>
        </p:nvSpPr>
        <p:spPr>
          <a:xfrm>
            <a:off x="165780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7" name="PlaceHolder 4"/>
          <p:cNvSpPr>
            <a:spLocks noGrp="1"/>
          </p:cNvSpPr>
          <p:nvPr>
            <p:ph/>
          </p:nvPr>
        </p:nvSpPr>
        <p:spPr>
          <a:xfrm>
            <a:off x="308268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8" name="PlaceHolder 5"/>
          <p:cNvSpPr>
            <a:spLocks noGrp="1"/>
          </p:cNvSpPr>
          <p:nvPr>
            <p:ph/>
          </p:nvPr>
        </p:nvSpPr>
        <p:spPr>
          <a:xfrm>
            <a:off x="23328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9" name="PlaceHolder 6"/>
          <p:cNvSpPr>
            <a:spLocks noGrp="1"/>
          </p:cNvSpPr>
          <p:nvPr>
            <p:ph/>
          </p:nvPr>
        </p:nvSpPr>
        <p:spPr>
          <a:xfrm>
            <a:off x="165780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0" name="PlaceHolder 7"/>
          <p:cNvSpPr>
            <a:spLocks noGrp="1"/>
          </p:cNvSpPr>
          <p:nvPr>
            <p:ph/>
          </p:nvPr>
        </p:nvSpPr>
        <p:spPr>
          <a:xfrm>
            <a:off x="308268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13680-6352-407E-90B1-AB5DB7AF0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233280" y="923400"/>
            <a:ext cx="4213440" cy="2614680"/>
          </a:xfrm>
          <a:prstGeom prst="rect">
            <a:avLst/>
          </a:prstGeom>
          <a:noFill/>
          <a:ln w="0">
            <a:noFill/>
          </a:ln>
        </p:spPr>
        <p:txBody>
          <a:bodyPr lIns="0" rIns="0" tIns="0" bIns="0" anchor="ctr">
            <a:noAutofit/>
          </a:bodyPr>
          <a:p>
            <a:pPr indent="0" algn="ctr">
              <a:spcBef>
                <a:spcPts val="425"/>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98609-67C8-4887-8431-F200D5BA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8" name="PlaceHolder 2"/>
          <p:cNvSpPr>
            <a:spLocks noGrp="1"/>
          </p:cNvSpPr>
          <p:nvPr>
            <p:ph/>
          </p:nvPr>
        </p:nvSpPr>
        <p:spPr>
          <a:xfrm>
            <a:off x="233280" y="923400"/>
            <a:ext cx="421344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6465-83CE-4E50-B47D-028FB98C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0" name="PlaceHolder 2"/>
          <p:cNvSpPr>
            <a:spLocks noGrp="1"/>
          </p:cNvSpPr>
          <p:nvPr>
            <p:ph/>
          </p:nvPr>
        </p:nvSpPr>
        <p:spPr>
          <a:xfrm>
            <a:off x="23328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1" name="PlaceHolder 3"/>
          <p:cNvSpPr>
            <a:spLocks noGrp="1"/>
          </p:cNvSpPr>
          <p:nvPr>
            <p:ph/>
          </p:nvPr>
        </p:nvSpPr>
        <p:spPr>
          <a:xfrm>
            <a:off x="239256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C6C2-04D3-4DC6-BCCB-DE5F30C5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09FE-D173-4CD2-992B-456BAB512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80" y="158760"/>
            <a:ext cx="4213440" cy="3061800"/>
          </a:xfrm>
          <a:prstGeom prst="rect">
            <a:avLst/>
          </a:prstGeom>
          <a:noFill/>
          <a:ln w="0">
            <a:noFill/>
          </a:ln>
        </p:spPr>
        <p:txBody>
          <a:bodyPr lIns="0" rIns="0" tIns="0" bIns="0" anchor="ctr">
            <a:noAutofit/>
          </a:bodyPr>
          <a:p>
            <a:pPr algn="ctr">
              <a:spcBef>
                <a:spcPts val="4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B8E19-BF4A-4B67-BAD7-40518F70E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5"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6" name="PlaceHolder 3"/>
          <p:cNvSpPr>
            <a:spLocks noGrp="1"/>
          </p:cNvSpPr>
          <p:nvPr>
            <p:ph/>
          </p:nvPr>
        </p:nvSpPr>
        <p:spPr>
          <a:xfrm>
            <a:off x="239256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7" name="PlaceHolder 4"/>
          <p:cNvSpPr>
            <a:spLocks noGrp="1"/>
          </p:cNvSpPr>
          <p:nvPr>
            <p:ph/>
          </p:nvPr>
        </p:nvSpPr>
        <p:spPr>
          <a:xfrm>
            <a:off x="23328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1B1D-BDCB-4A74-8125-9A563268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9" name="PlaceHolder 2"/>
          <p:cNvSpPr>
            <a:spLocks noGrp="1"/>
          </p:cNvSpPr>
          <p:nvPr>
            <p:ph/>
          </p:nvPr>
        </p:nvSpPr>
        <p:spPr>
          <a:xfrm>
            <a:off x="23328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0"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1" name="PlaceHolder 4"/>
          <p:cNvSpPr>
            <a:spLocks noGrp="1"/>
          </p:cNvSpPr>
          <p:nvPr>
            <p:ph/>
          </p:nvPr>
        </p:nvSpPr>
        <p:spPr>
          <a:xfrm>
            <a:off x="239256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47D4-6FDC-406C-8000-2502C16B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23"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4"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5" name="PlaceHolder 4"/>
          <p:cNvSpPr>
            <a:spLocks noGrp="1"/>
          </p:cNvSpPr>
          <p:nvPr>
            <p:ph/>
          </p:nvPr>
        </p:nvSpPr>
        <p:spPr>
          <a:xfrm>
            <a:off x="233280" y="228924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6238-1C28-4909-83E7-7A182471C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233280" y="923400"/>
            <a:ext cx="4213440" cy="2614680"/>
          </a:xfrm>
          <a:prstGeom prst="rect">
            <a:avLst/>
          </a:prstGeom>
          <a:noFill/>
          <a:ln w="0">
            <a:noFill/>
          </a:ln>
        </p:spPr>
        <p:txBody>
          <a:bodyPr lIns="49320" rIns="49320" tIns="24840" bIns="24840" anchor="t">
            <a:normAutofit/>
          </a:bodyPr>
          <a:p>
            <a:pPr marL="185760" indent="-18576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401760" indent="-15552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61740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86364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
        <p:nvSpPr>
          <p:cNvPr id="2" name="PlaceHolder 3"/>
          <p:cNvSpPr>
            <a:spLocks noGrp="1"/>
          </p:cNvSpPr>
          <p:nvPr>
            <p:ph type="dt" idx="1"/>
          </p:nvPr>
        </p:nvSpPr>
        <p:spPr>
          <a:xfrm>
            <a:off x="233280" y="3606480"/>
            <a:ext cx="1092240" cy="274680"/>
          </a:xfrm>
          <a:prstGeom prst="rect">
            <a:avLst/>
          </a:prstGeom>
          <a:noFill/>
          <a:ln w="0">
            <a:noFill/>
          </a:ln>
        </p:spPr>
        <p:txBody>
          <a:bodyPr lIns="49320" rIns="49320" tIns="24840" bIns="24840" anchor="t">
            <a:noAutofit/>
          </a:bodyPr>
          <a:lstStyle>
            <a:lvl1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3" name="PlaceHolder 4"/>
          <p:cNvSpPr>
            <a:spLocks noGrp="1"/>
          </p:cNvSpPr>
          <p:nvPr>
            <p:ph type="ftr" idx="2"/>
          </p:nvPr>
        </p:nvSpPr>
        <p:spPr>
          <a:xfrm>
            <a:off x="1598760" y="3606480"/>
            <a:ext cx="1482480" cy="274680"/>
          </a:xfrm>
          <a:prstGeom prst="rect">
            <a:avLst/>
          </a:prstGeom>
          <a:noFill/>
          <a:ln w="0">
            <a:noFill/>
          </a:ln>
        </p:spPr>
        <p:txBody>
          <a:bodyPr lIns="49320" rIns="49320" tIns="24840" bIns="24840" anchor="t">
            <a:noAutofit/>
          </a:bodyPr>
          <a:lstStyle>
            <a:lvl1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800" spc="-1" strike="noStrike">
                <a:solidFill>
                  <a:srgbClr val="000000"/>
                </a:solidFill>
                <a:latin typeface="Arial"/>
              </a:rPr>
              <a:t>&lt;footer&gt;</a:t>
            </a:r>
            <a:endParaRPr b="0" lang="en-US" sz="800" spc="-1" strike="noStrike">
              <a:solidFill>
                <a:srgbClr val="000000"/>
              </a:solidFill>
              <a:latin typeface="Arial"/>
            </a:endParaRPr>
          </a:p>
        </p:txBody>
      </p:sp>
      <p:sp>
        <p:nvSpPr>
          <p:cNvPr id="4" name="PlaceHolder 5"/>
          <p:cNvSpPr>
            <a:spLocks noGrp="1"/>
          </p:cNvSpPr>
          <p:nvPr>
            <p:ph type="sldNum" idx="3"/>
          </p:nvPr>
        </p:nvSpPr>
        <p:spPr>
          <a:xfrm>
            <a:off x="3354480" y="3606480"/>
            <a:ext cx="1092240" cy="274680"/>
          </a:xfrm>
          <a:prstGeom prst="rect">
            <a:avLst/>
          </a:prstGeom>
          <a:noFill/>
          <a:ln w="0">
            <a:noFill/>
          </a:ln>
        </p:spPr>
        <p:txBody>
          <a:bodyPr lIns="49320" rIns="49320" tIns="24840" bIns="24840" anchor="t">
            <a:noAutofit/>
          </a:bodyPr>
          <a:lstStyle>
            <a:lvl1pPr indent="0" algn="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lgn="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fld id="{DE45B954-7B1C-4517-8A54-020E9779B0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482760"/>
            <a:ext cx="4500720" cy="11397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y    salud mental</a:t>
            </a:r>
            <a:endParaRPr b="0" lang="en-US" sz="4400" spc="-1" strike="noStrike">
              <a:solidFill>
                <a:srgbClr val="000000"/>
              </a:solidFill>
              <a:latin typeface="Arial"/>
            </a:endParaRPr>
          </a:p>
        </p:txBody>
      </p:sp>
      <p:pic>
        <p:nvPicPr>
          <p:cNvPr id="49" name="" descr=""/>
          <p:cNvPicPr/>
          <p:nvPr/>
        </p:nvPicPr>
        <p:blipFill>
          <a:blip r:embed="rId1"/>
          <a:stretch/>
        </p:blipFill>
        <p:spPr>
          <a:xfrm>
            <a:off x="817560" y="1763640"/>
            <a:ext cx="1235160" cy="1368360"/>
          </a:xfrm>
          <a:prstGeom prst="rect">
            <a:avLst/>
          </a:prstGeom>
          <a:ln w="0">
            <a:noFill/>
          </a:ln>
        </p:spPr>
      </p:pic>
      <p:sp>
        <p:nvSpPr>
          <p:cNvPr id="5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
        <p:nvSpPr>
          <p:cNvPr id="52" name=""/>
          <p:cNvSpPr/>
          <p:nvPr/>
        </p:nvSpPr>
        <p:spPr>
          <a:xfrm>
            <a:off x="324000" y="3132000"/>
            <a:ext cx="2136600" cy="741600"/>
          </a:xfrm>
          <a:prstGeom prst="rect">
            <a:avLst/>
          </a:prstGeom>
          <a:noFill/>
          <a:ln w="0">
            <a:noFill/>
          </a:ln>
        </p:spPr>
        <p:style>
          <a:lnRef idx="0"/>
          <a:fillRef idx="0"/>
          <a:effectRef idx="0"/>
          <a:fontRef idx="minor"/>
        </p:style>
        <p:txBody>
          <a:bodyPr lIns="49320" rIns="49320" tIns="24840" bIns="24840" anchor="t">
            <a:spAutoFit/>
          </a:bodyPr>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800" spc="-1" strike="noStrike">
                <a:solidFill>
                  <a:srgbClr val="0000ff"/>
                </a:solidFill>
                <a:latin typeface="Arial"/>
              </a:rPr>
              <a:t>Dra. Silvia María</a:t>
            </a:r>
            <a:endParaRPr b="0" lang="en-US" sz="1800" spc="-1" strike="noStrike">
              <a:solidFill>
                <a:srgbClr val="000000"/>
              </a:solidFill>
              <a:latin typeface="Arial"/>
            </a:endParaRPr>
          </a:p>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800" spc="-1" strike="noStrike">
                <a:solidFill>
                  <a:srgbClr val="0000ff"/>
                </a:solidFill>
                <a:latin typeface="Arial"/>
              </a:rPr>
              <a:t>Pozo Abreu</a:t>
            </a:r>
            <a:endParaRPr b="0" lang="en-US" sz="1800" spc="-1" strike="noStrike">
              <a:solidFill>
                <a:srgbClr val="000000"/>
              </a:solidFill>
              <a:latin typeface="Arial"/>
            </a:endParaRPr>
          </a:p>
        </p:txBody>
      </p:sp>
      <p:sp>
        <p:nvSpPr>
          <p:cNvPr id="53" name=""/>
          <p:cNvSpPr/>
          <p:nvPr/>
        </p:nvSpPr>
        <p:spPr>
          <a:xfrm>
            <a:off x="2303640" y="3132000"/>
            <a:ext cx="2228760" cy="741600"/>
          </a:xfrm>
          <a:prstGeom prst="rect">
            <a:avLst/>
          </a:prstGeom>
          <a:noFill/>
          <a:ln w="0">
            <a:noFill/>
          </a:ln>
        </p:spPr>
        <p:style>
          <a:lnRef idx="0"/>
          <a:fillRef idx="0"/>
          <a:effectRef idx="0"/>
          <a:fontRef idx="minor"/>
        </p:style>
        <p:txBody>
          <a:bodyPr lIns="49320" rIns="49320" tIns="24840" bIns="24840" anchor="t">
            <a:spAutoFit/>
          </a:bodyPr>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 sz="1800" spc="-1" strike="noStrike">
                <a:solidFill>
                  <a:srgbClr val="0000ff"/>
                </a:solidFill>
                <a:latin typeface="Arial"/>
              </a:rPr>
              <a:t>Dra. Mónica C. </a:t>
            </a:r>
            <a:endParaRPr b="0" lang="en-US" sz="1800" spc="-1" strike="noStrike">
              <a:solidFill>
                <a:srgbClr val="000000"/>
              </a:solidFill>
              <a:latin typeface="Arial"/>
            </a:endParaRPr>
          </a:p>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 sz="1800" spc="-1" strike="noStrike">
                <a:solidFill>
                  <a:srgbClr val="0000ff"/>
                </a:solidFill>
                <a:latin typeface="Arial"/>
              </a:rPr>
              <a:t>Arbelo Figueredo</a:t>
            </a:r>
            <a:endParaRPr b="0" lang="en-US" sz="1800" spc="-1" strike="noStrike">
              <a:solidFill>
                <a:srgbClr val="000000"/>
              </a:solidFill>
              <a:latin typeface="Arial"/>
            </a:endParaRPr>
          </a:p>
        </p:txBody>
      </p:sp>
      <p:pic>
        <p:nvPicPr>
          <p:cNvPr id="54" name="" descr=""/>
          <p:cNvPicPr/>
          <p:nvPr/>
        </p:nvPicPr>
        <p:blipFill>
          <a:blip r:embed="rId2"/>
          <a:stretch/>
        </p:blipFill>
        <p:spPr>
          <a:xfrm>
            <a:off x="2700360" y="1763640"/>
            <a:ext cx="1308240" cy="13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280" y="396360"/>
            <a:ext cx="4051440" cy="136692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Factores Psicosociales</a:t>
            </a:r>
            <a:endParaRPr b="0" lang="en-US" sz="4400" spc="-1" strike="noStrike">
              <a:solidFill>
                <a:srgbClr val="000000"/>
              </a:solidFill>
              <a:latin typeface="Arial"/>
            </a:endParaRPr>
          </a:p>
        </p:txBody>
      </p:sp>
      <p:sp>
        <p:nvSpPr>
          <p:cNvPr id="102" name="PlaceHolder 2"/>
          <p:cNvSpPr>
            <a:spLocks noGrp="1"/>
          </p:cNvSpPr>
          <p:nvPr>
            <p:ph/>
          </p:nvPr>
        </p:nvSpPr>
        <p:spPr>
          <a:xfrm>
            <a:off x="91800" y="1771200"/>
            <a:ext cx="4444920" cy="218916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actores determinantes: la pobreza, el desempleo, la baja escolaridad o analfabetismo y la carencia de vivienda. </a:t>
            </a:r>
            <a:endParaRPr b="0" lang="en-US" sz="2400" spc="-1" strike="noStrike">
              <a:solidFill>
                <a:srgbClr val="000000"/>
              </a:solidFill>
              <a:latin typeface="Arial"/>
            </a:endParaRPr>
          </a:p>
        </p:txBody>
      </p:sp>
      <p:sp>
        <p:nvSpPr>
          <p:cNvPr id="103"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33280" y="1404720"/>
            <a:ext cx="4206960" cy="255564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actores de riesgo: el desempleo, el hacinamiento en la vivienda, la frustración para realizar proyectos de vida, falta de redes de apoyo social, entre otros.</a:t>
            </a:r>
            <a:endParaRPr b="0" lang="en-US" sz="2400" spc="-1" strike="noStrike">
              <a:solidFill>
                <a:srgbClr val="000000"/>
              </a:solidFill>
              <a:latin typeface="Arial"/>
            </a:endParaRPr>
          </a:p>
        </p:txBody>
      </p:sp>
      <p:sp>
        <p:nvSpPr>
          <p:cNvPr id="106" name="PlaceHolder 2"/>
          <p:cNvSpPr>
            <a:spLocks noGrp="1"/>
          </p:cNvSpPr>
          <p:nvPr>
            <p:ph type="title"/>
          </p:nvPr>
        </p:nvSpPr>
        <p:spPr>
          <a:xfrm>
            <a:off x="232920" y="323640"/>
            <a:ext cx="4194360" cy="11523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Factores Psicosociales</a:t>
            </a:r>
            <a:endParaRPr b="0" lang="en-US" sz="4400" spc="-1" strike="noStrike">
              <a:solidFill>
                <a:srgbClr val="000000"/>
              </a:solidFill>
              <a:latin typeface="Arial"/>
            </a:endParaRPr>
          </a:p>
        </p:txBody>
      </p:sp>
      <p:sp>
        <p:nvSpPr>
          <p:cNvPr id="10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9" name=""/>
          <p:cNvSpPr/>
          <p:nvPr/>
        </p:nvSpPr>
        <p:spPr>
          <a:xfrm>
            <a:off x="395280" y="324000"/>
            <a:ext cx="4032360" cy="890280"/>
          </a:xfrm>
          <a:prstGeom prst="bevel">
            <a:avLst>
              <a:gd name="adj" fmla="val 12500"/>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ff6600"/>
                </a:solidFill>
                <a:latin typeface="Arial"/>
              </a:rPr>
              <a:t>Factores Psicosociales</a:t>
            </a:r>
            <a:endParaRPr b="0" lang="en-US" sz="2400" spc="-1" strike="noStrike">
              <a:solidFill>
                <a:srgbClr val="000000"/>
              </a:solidFill>
              <a:latin typeface="Arial"/>
            </a:endParaRPr>
          </a:p>
        </p:txBody>
      </p:sp>
      <p:sp>
        <p:nvSpPr>
          <p:cNvPr id="11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2360" y="1332000"/>
            <a:ext cx="42483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3200" spc="-1" strike="noStrike">
                <a:solidFill>
                  <a:srgbClr val="333399"/>
                </a:solidFill>
                <a:latin typeface="Arial"/>
              </a:rPr>
              <a:t>Alcohol, drogas, marginación, diseminación de armas de fuego, entre otros.</a:t>
            </a:r>
            <a:endParaRPr b="0" lang="en-US" sz="3200" spc="-1" strike="noStrike">
              <a:solidFill>
                <a:srgbClr val="000000"/>
              </a:solidFill>
              <a:latin typeface="Arial"/>
            </a:endParaRPr>
          </a:p>
        </p:txBody>
      </p:sp>
      <p:sp>
        <p:nvSpPr>
          <p:cNvPr id="11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8160" y="792000"/>
            <a:ext cx="4551480" cy="2484720"/>
          </a:xfrm>
          <a:prstGeom prst="rect">
            <a:avLst/>
          </a:prstGeom>
          <a:noFill/>
          <a:ln w="0">
            <a:noFill/>
          </a:ln>
        </p:spPr>
        <p:txBody>
          <a:bodyPr lIns="49320" rIns="49320" tIns="24840" bIns="24840" anchor="t">
            <a:normAutofit fontScale="97000"/>
          </a:bodyPr>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arten de: equidad en es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medio social, cultura qu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rechaza violencia, existencia d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redes de apoyo social,</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articipación ciudadana, escalas</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 valores, integración y buen</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uncionamiento familiar.</a:t>
            </a:r>
            <a:endParaRPr b="0" lang="en-US" sz="2400" spc="-1" strike="noStrike">
              <a:solidFill>
                <a:srgbClr val="000000"/>
              </a:solidFill>
              <a:latin typeface="Arial"/>
            </a:endParaRPr>
          </a:p>
        </p:txBody>
      </p:sp>
      <p:sp>
        <p:nvSpPr>
          <p:cNvPr id="114"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20200" y="252000"/>
            <a:ext cx="3475080" cy="6476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Efectos</a:t>
            </a:r>
            <a:endParaRPr b="0" lang="en-US" sz="4400" spc="-1" strike="noStrike">
              <a:solidFill>
                <a:srgbClr val="000000"/>
              </a:solidFill>
              <a:latin typeface="Arial"/>
            </a:endParaRPr>
          </a:p>
        </p:txBody>
      </p:sp>
      <p:sp>
        <p:nvSpPr>
          <p:cNvPr id="117" name="PlaceHolder 2"/>
          <p:cNvSpPr>
            <a:spLocks noGrp="1"/>
          </p:cNvSpPr>
          <p:nvPr>
            <p:ph/>
          </p:nvPr>
        </p:nvSpPr>
        <p:spPr>
          <a:xfrm>
            <a:off x="184320" y="931680"/>
            <a:ext cx="4440240" cy="3028680"/>
          </a:xfrm>
          <a:prstGeom prst="rect">
            <a:avLst/>
          </a:prstGeom>
          <a:noFill/>
          <a:ln w="0">
            <a:noFill/>
          </a:ln>
        </p:spPr>
        <p:txBody>
          <a:bodyPr lIns="49320" rIns="49320" tIns="24840" bIns="24840" anchor="t">
            <a:normAutofit fontScale="99000"/>
          </a:bodyPr>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Ponen en tensión al sector</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Salud: brinda  la atención a</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las consecuencias sobre el</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individuo y la familia para</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limitar esas consecuencias</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y prevenir sus secuelas</a:t>
            </a:r>
            <a:endParaRPr b="0" lang="en-US" sz="2800" spc="-1" strike="noStrike">
              <a:solidFill>
                <a:srgbClr val="000000"/>
              </a:solidFill>
              <a:latin typeface="Arial"/>
            </a:endParaRPr>
          </a:p>
        </p:txBody>
      </p:sp>
      <p:sp>
        <p:nvSpPr>
          <p:cNvPr id="118"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0" name=""/>
          <p:cNvSpPr/>
          <p:nvPr/>
        </p:nvSpPr>
        <p:spPr>
          <a:xfrm>
            <a:off x="826920" y="2629080"/>
            <a:ext cx="3021120" cy="915840"/>
          </a:xfrm>
          <a:prstGeom prst="ellipse">
            <a:avLst/>
          </a:prstGeom>
          <a:solidFill>
            <a:srgbClr val="cde9eb"/>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Trastornos</a:t>
            </a:r>
            <a:endParaRPr b="0" lang="en-US" sz="2800" spc="-1" strike="noStrike">
              <a:solidFill>
                <a:srgbClr val="000000"/>
              </a:solidFill>
              <a:latin typeface="Arial"/>
            </a:endParaRPr>
          </a:p>
        </p:txBody>
      </p:sp>
      <p:sp>
        <p:nvSpPr>
          <p:cNvPr id="121" name=""/>
          <p:cNvSpPr/>
          <p:nvPr/>
        </p:nvSpPr>
        <p:spPr>
          <a:xfrm>
            <a:off x="128520" y="324000"/>
            <a:ext cx="1995480" cy="169704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Situación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de tensión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o estrés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mantenido</a:t>
            </a: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122" name=""/>
          <p:cNvSpPr/>
          <p:nvPr/>
        </p:nvSpPr>
        <p:spPr>
          <a:xfrm>
            <a:off x="2286000" y="324000"/>
            <a:ext cx="2265480" cy="169704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Situación de</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máxima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tensión </a:t>
            </a:r>
            <a:endParaRPr b="0" lang="en-US" sz="2800" spc="-1" strike="noStrike">
              <a:solidFill>
                <a:srgbClr val="000000"/>
              </a:solidFill>
              <a:latin typeface="Arial"/>
            </a:endParaRPr>
          </a:p>
        </p:txBody>
      </p:sp>
      <p:sp>
        <p:nvSpPr>
          <p:cNvPr id="123" name=""/>
          <p:cNvSpPr/>
          <p:nvPr/>
        </p:nvSpPr>
        <p:spPr>
          <a:xfrm>
            <a:off x="1308240" y="2104920"/>
            <a:ext cx="331560" cy="498600"/>
          </a:xfrm>
          <a:prstGeom prst="line">
            <a:avLst/>
          </a:prstGeom>
          <a:ln w="64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3076560" y="2104920"/>
            <a:ext cx="331920" cy="498600"/>
          </a:xfrm>
          <a:prstGeom prst="line">
            <a:avLst/>
          </a:prstGeom>
          <a:ln w="64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2920" y="533520"/>
            <a:ext cx="4194360" cy="10872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intrafamiliar</a:t>
            </a:r>
            <a:endParaRPr b="0" lang="en-US" sz="4400" spc="-1" strike="noStrike">
              <a:solidFill>
                <a:srgbClr val="000000"/>
              </a:solidFill>
              <a:latin typeface="Arial"/>
            </a:endParaRPr>
          </a:p>
        </p:txBody>
      </p:sp>
      <p:sp>
        <p:nvSpPr>
          <p:cNvPr id="128" name="PlaceHolder 2"/>
          <p:cNvSpPr>
            <a:spLocks noGrp="1"/>
          </p:cNvSpPr>
          <p:nvPr>
            <p:ph/>
          </p:nvPr>
        </p:nvSpPr>
        <p:spPr>
          <a:xfrm>
            <a:off x="36360" y="1692000"/>
            <a:ext cx="4680000" cy="2160360"/>
          </a:xfrm>
          <a:prstGeom prst="rect">
            <a:avLst/>
          </a:prstGeom>
          <a:noFill/>
          <a:ln w="0">
            <a:noFill/>
          </a:ln>
        </p:spPr>
        <p:txBody>
          <a:bodyPr lIns="49320" rIns="49320" tIns="24840" bIns="24840" anchor="t">
            <a:normAutofit/>
          </a:bodyPr>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oda acción u omisión cometida</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or algún miembro de la familia,</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que viole el derecho al desarrollo</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leno y al bienestar de otro</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miembro. (Martínez</a:t>
            </a:r>
            <a:r>
              <a:rPr b="0" i="1" lang="en-US" sz="2400" spc="-1" strike="noStrike">
                <a:solidFill>
                  <a:srgbClr val="0000ff"/>
                </a:solidFill>
                <a:latin typeface="Arial"/>
              </a:rPr>
              <a:t>,</a:t>
            </a:r>
            <a:r>
              <a:rPr b="0" lang="en-US" sz="2400" spc="-1" strike="noStrike">
                <a:solidFill>
                  <a:srgbClr val="0000ff"/>
                </a:solidFill>
                <a:latin typeface="Arial"/>
              </a:rPr>
              <a:t>1999).</a:t>
            </a:r>
            <a:endParaRPr b="0" lang="en-US" sz="2400" spc="-1" strike="noStrike">
              <a:solidFill>
                <a:srgbClr val="000000"/>
              </a:solidFill>
              <a:latin typeface="Arial"/>
            </a:endParaRPr>
          </a:p>
        </p:txBody>
      </p:sp>
      <p:sp>
        <p:nvSpPr>
          <p:cNvPr id="12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2920" y="363600"/>
            <a:ext cx="4194360" cy="17604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contra los niños:</a:t>
            </a:r>
            <a:br>
              <a:rPr sz="4400"/>
            </a:br>
            <a:r>
              <a:rPr b="0" lang="en-US" sz="4400" spc="-1" strike="noStrike">
                <a:solidFill>
                  <a:srgbClr val="ff6600"/>
                </a:solidFill>
                <a:latin typeface="Arial"/>
              </a:rPr>
              <a:t>Maltrato infantil</a:t>
            </a:r>
            <a:endParaRPr b="0" lang="en-US" sz="4400" spc="-1" strike="noStrike">
              <a:solidFill>
                <a:srgbClr val="000000"/>
              </a:solidFill>
              <a:latin typeface="Arial"/>
            </a:endParaRPr>
          </a:p>
        </p:txBody>
      </p:sp>
      <p:sp>
        <p:nvSpPr>
          <p:cNvPr id="13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a:off x="1908000" y="2413080"/>
            <a:ext cx="965520" cy="1236600"/>
          </a:xfrm>
          <a:prstGeom prst="rect">
            <a:avLst/>
          </a:prstGeom>
          <a:ln w="0">
            <a:noFill/>
          </a:ln>
        </p:spPr>
      </p:pic>
      <p:sp>
        <p:nvSpPr>
          <p:cNvPr id="13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196920"/>
            <a:ext cx="4500720" cy="1224000"/>
          </a:xfrm>
          <a:prstGeom prst="rect">
            <a:avLst/>
          </a:prstGeom>
          <a:noFill/>
          <a:ln w="0">
            <a:noFill/>
          </a:ln>
        </p:spPr>
        <p:txBody>
          <a:bodyPr lIns="49320" rIns="49320" tIns="24840" bIns="24840" anchor="ctr">
            <a:noAutofit/>
          </a:bodyPr>
          <a:p>
            <a: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ff6600"/>
                </a:solidFill>
                <a:latin typeface="Arial"/>
              </a:rPr>
              <a:t>Violencia contra los jóvenes</a:t>
            </a:r>
            <a:endParaRPr b="0" lang="en-US" sz="4000" spc="-1" strike="noStrike">
              <a:solidFill>
                <a:srgbClr val="000000"/>
              </a:solidFill>
              <a:latin typeface="Arial"/>
            </a:endParaRPr>
          </a:p>
        </p:txBody>
      </p:sp>
      <p:sp>
        <p:nvSpPr>
          <p:cNvPr id="136" name="PlaceHolder 2"/>
          <p:cNvSpPr>
            <a:spLocks noGrp="1"/>
          </p:cNvSpPr>
          <p:nvPr>
            <p:ph/>
          </p:nvPr>
        </p:nvSpPr>
        <p:spPr>
          <a:xfrm>
            <a:off x="42840" y="1382760"/>
            <a:ext cx="4680000" cy="2620800"/>
          </a:xfrm>
          <a:prstGeom prst="rect">
            <a:avLst/>
          </a:prstGeom>
          <a:noFill/>
          <a:ln w="0">
            <a:noFill/>
          </a:ln>
        </p:spPr>
        <p:txBody>
          <a:bodyPr lIns="49320" rIns="49320" tIns="24840" bIns="24840" anchor="t">
            <a:normAutofit fontScale="99000"/>
          </a:bodyPr>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n continente americano: la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asas de homicidio más alta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ocurren entre las edades de 15 a</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24 años y están ligadas al</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cremento de pandillas juvenile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n zonas urbanas.</a:t>
            </a:r>
            <a:endParaRPr b="0" lang="en-US" sz="2400" spc="-1" strike="noStrike">
              <a:solidFill>
                <a:srgbClr val="000000"/>
              </a:solidFill>
              <a:latin typeface="Arial"/>
            </a:endParaRPr>
          </a:p>
        </p:txBody>
      </p:sp>
      <p:sp>
        <p:nvSpPr>
          <p:cNvPr id="13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2920" y="158760"/>
            <a:ext cx="4194360" cy="182232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400" spc="-1" strike="noStrike">
                <a:solidFill>
                  <a:srgbClr val="ff6600"/>
                </a:solidFill>
                <a:latin typeface="Arial"/>
              </a:rPr>
              <a:t>Violencia contra la mujer</a:t>
            </a:r>
            <a:endParaRPr b="0" lang="en-US" sz="4400" spc="-1" strike="noStrike">
              <a:solidFill>
                <a:srgbClr val="000000"/>
              </a:solidFill>
              <a:latin typeface="Arial"/>
            </a:endParaRPr>
          </a:p>
        </p:txBody>
      </p:sp>
      <p:sp>
        <p:nvSpPr>
          <p:cNvPr id="140" name="PlaceHolder 2"/>
          <p:cNvSpPr>
            <a:spLocks noGrp="1"/>
          </p:cNvSpPr>
          <p:nvPr>
            <p:ph/>
          </p:nvPr>
        </p:nvSpPr>
        <p:spPr>
          <a:xfrm>
            <a:off x="88560" y="684000"/>
            <a:ext cx="4267080" cy="2855880"/>
          </a:xfrm>
          <a:prstGeom prst="rect">
            <a:avLst/>
          </a:prstGeom>
          <a:noFill/>
          <a:ln w="0">
            <a:noFill/>
          </a:ln>
        </p:spPr>
        <p:txBody>
          <a:bodyPr lIns="49320" rIns="49320" tIns="24840" bIns="24840" anchor="t">
            <a:normAutofit/>
          </a:bodyPr>
          <a:p>
            <a:pPr marL="185760" indent="0">
              <a:spcBef>
                <a:spcPts val="374"/>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i="1" lang="en-US" sz="1500" spc="-1" strike="noStrike">
                <a:solidFill>
                  <a:srgbClr val="000000"/>
                </a:solidFill>
                <a:latin typeface="Arial"/>
              </a:rPr>
              <a:t>    </a:t>
            </a:r>
            <a:endParaRPr b="0" lang="en-US" sz="1500" spc="-1" strike="noStrike">
              <a:solidFill>
                <a:srgbClr val="000000"/>
              </a:solidFill>
              <a:latin typeface="Arial"/>
            </a:endParaRPr>
          </a:p>
        </p:txBody>
      </p:sp>
      <p:sp>
        <p:nvSpPr>
          <p:cNvPr id="141"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1044720" y="2052720"/>
            <a:ext cx="2158920" cy="1441440"/>
          </a:xfrm>
          <a:prstGeom prst="rect">
            <a:avLst/>
          </a:prstGeom>
          <a:ln w="0">
            <a:noFill/>
          </a:ln>
        </p:spPr>
      </p:pic>
      <p:sp>
        <p:nvSpPr>
          <p:cNvPr id="143"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280" y="18108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000" spc="-1" strike="noStrike">
                <a:solidFill>
                  <a:srgbClr val="ff6600"/>
                </a:solidFill>
                <a:latin typeface="Arial"/>
              </a:rPr>
              <a:t>Violencia</a:t>
            </a:r>
            <a:endParaRPr b="0" lang="en-US" sz="4000" spc="-1" strike="noStrike">
              <a:solidFill>
                <a:srgbClr val="000000"/>
              </a:solidFill>
              <a:latin typeface="Arial"/>
            </a:endParaRPr>
          </a:p>
        </p:txBody>
      </p:sp>
      <p:sp>
        <p:nvSpPr>
          <p:cNvPr id="56" name="PlaceHolder 2"/>
          <p:cNvSpPr>
            <a:spLocks noGrp="1"/>
          </p:cNvSpPr>
          <p:nvPr>
            <p:ph/>
          </p:nvPr>
        </p:nvSpPr>
        <p:spPr>
          <a:xfrm>
            <a:off x="0" y="684000"/>
            <a:ext cx="4680000" cy="3095640"/>
          </a:xfrm>
          <a:prstGeom prst="rect">
            <a:avLst/>
          </a:prstGeom>
          <a:noFill/>
          <a:ln w="0">
            <a:noFill/>
          </a:ln>
        </p:spPr>
        <p:txBody>
          <a:bodyPr lIns="49320" rIns="49320" tIns="24840" bIns="24840" anchor="t">
            <a:normAutofit fontScale="99000"/>
          </a:bodyPr>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s uno de los principales motivos de muerte en el mundo </a:t>
            </a:r>
            <a:endParaRPr b="0" lang="en-US" sz="2400" spc="-1" strike="noStrike">
              <a:solidFill>
                <a:srgbClr val="000000"/>
              </a:solidFill>
              <a:latin typeface="Arial"/>
            </a:endParaRPr>
          </a:p>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Una de las causas primordiales de incapacidades y de años potenciales de vida útil perdidos </a:t>
            </a:r>
            <a:endParaRPr b="0" lang="en-US" sz="2400" spc="-1" strike="noStrike">
              <a:solidFill>
                <a:srgbClr val="000000"/>
              </a:solidFill>
              <a:latin typeface="Arial"/>
            </a:endParaRPr>
          </a:p>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limitable su efecto sobre la salud mental de los diversos</a:t>
            </a:r>
            <a:r>
              <a:rPr b="1" lang="en-US" sz="2400" spc="-1" strike="noStrike">
                <a:solidFill>
                  <a:srgbClr val="0000ff"/>
                </a:solidFill>
                <a:latin typeface="Arial"/>
              </a:rPr>
              <a:t> </a:t>
            </a:r>
            <a:r>
              <a:rPr b="0" lang="en-US" sz="2400" spc="-1" strike="noStrike">
                <a:solidFill>
                  <a:srgbClr val="0000ff"/>
                </a:solidFill>
                <a:latin typeface="Arial"/>
              </a:rPr>
              <a:t>grupos humanos</a:t>
            </a:r>
            <a:endParaRPr b="0" lang="en-US" sz="2400" spc="-1" strike="noStrike">
              <a:solidFill>
                <a:srgbClr val="000000"/>
              </a:solidFill>
              <a:latin typeface="Arial"/>
            </a:endParaRPr>
          </a:p>
        </p:txBody>
      </p:sp>
      <p:sp>
        <p:nvSpPr>
          <p:cNvPr id="5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3280" y="476280"/>
            <a:ext cx="4213440" cy="4953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Respuestas</a:t>
            </a:r>
            <a:endParaRPr b="0" lang="en-US" sz="4400" spc="-1" strike="noStrike">
              <a:solidFill>
                <a:srgbClr val="000000"/>
              </a:solidFill>
              <a:latin typeface="Arial"/>
            </a:endParaRPr>
          </a:p>
        </p:txBody>
      </p:sp>
      <p:sp>
        <p:nvSpPr>
          <p:cNvPr id="145" name="PlaceHolder 2"/>
          <p:cNvSpPr>
            <a:spLocks noGrp="1"/>
          </p:cNvSpPr>
          <p:nvPr>
            <p:ph/>
          </p:nvPr>
        </p:nvSpPr>
        <p:spPr>
          <a:xfrm>
            <a:off x="107640" y="1233360"/>
            <a:ext cx="4514760" cy="276408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irigidas a eliminar la violencia </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y sus causas más evidentes.</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Atención al daño y secuelas en</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dividuo, familia y comunidad.</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Alteraciones mentales: tratar</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con urgencia.</a:t>
            </a:r>
            <a:endParaRPr b="0" lang="en-US" sz="2400" spc="-1" strike="noStrike">
              <a:solidFill>
                <a:srgbClr val="000000"/>
              </a:solidFill>
              <a:latin typeface="Arial"/>
            </a:endParaRPr>
          </a:p>
        </p:txBody>
      </p:sp>
      <p:sp>
        <p:nvSpPr>
          <p:cNvPr id="14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000" y="1116000"/>
            <a:ext cx="4356360" cy="172728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ff6600"/>
                </a:solidFill>
                <a:latin typeface="Arial"/>
              </a:rPr>
              <a:t>Efectos más comunes en la </a:t>
            </a:r>
            <a:br>
              <a:rPr sz="4000"/>
            </a:br>
            <a:r>
              <a:rPr b="0" lang="en-US" sz="4000" spc="-1" strike="noStrike">
                <a:solidFill>
                  <a:srgbClr val="ff6600"/>
                </a:solidFill>
                <a:latin typeface="Arial"/>
              </a:rPr>
              <a:t>salud mental</a:t>
            </a:r>
            <a:endParaRPr b="0" lang="en-US" sz="4000" spc="-1" strike="noStrike">
              <a:solidFill>
                <a:srgbClr val="000000"/>
              </a:solidFill>
              <a:latin typeface="Arial"/>
            </a:endParaRPr>
          </a:p>
        </p:txBody>
      </p:sp>
      <p:sp>
        <p:nvSpPr>
          <p:cNvPr id="14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44040" y="321840"/>
            <a:ext cx="3427560" cy="660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Tratamiento</a:t>
            </a:r>
            <a:endParaRPr b="0" lang="en-US" sz="4400" spc="-1" strike="noStrike">
              <a:solidFill>
                <a:srgbClr val="000000"/>
              </a:solidFill>
              <a:latin typeface="Arial"/>
            </a:endParaRPr>
          </a:p>
        </p:txBody>
      </p:sp>
      <p:sp>
        <p:nvSpPr>
          <p:cNvPr id="152" name="PlaceHolder 2"/>
          <p:cNvSpPr>
            <a:spLocks noGrp="1"/>
          </p:cNvSpPr>
          <p:nvPr>
            <p:ph/>
          </p:nvPr>
        </p:nvSpPr>
        <p:spPr>
          <a:xfrm>
            <a:off x="312480" y="899640"/>
            <a:ext cx="4367160" cy="287028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Individual y familia</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Enfoque preventivo con participación activa de la comunidad</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Trabajar con individuos y grupos de riesgo</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Redes de apoyo</a:t>
            </a:r>
            <a:endParaRPr b="0" lang="en-US" sz="2400" spc="-1" strike="noStrike">
              <a:solidFill>
                <a:srgbClr val="000000"/>
              </a:solidFill>
              <a:latin typeface="Arial"/>
            </a:endParaRPr>
          </a:p>
        </p:txBody>
      </p:sp>
      <p:sp>
        <p:nvSpPr>
          <p:cNvPr id="153"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5"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2654280" y="757080"/>
            <a:ext cx="1270080" cy="1440000"/>
          </a:xfrm>
          <a:prstGeom prst="rect">
            <a:avLst/>
          </a:prstGeom>
          <a:ln w="0">
            <a:noFill/>
          </a:ln>
        </p:spPr>
      </p:pic>
      <p:pic>
        <p:nvPicPr>
          <p:cNvPr id="157" name="" descr=""/>
          <p:cNvPicPr/>
          <p:nvPr/>
        </p:nvPicPr>
        <p:blipFill>
          <a:blip r:embed="rId2"/>
          <a:stretch/>
        </p:blipFill>
        <p:spPr>
          <a:xfrm>
            <a:off x="766800" y="2046240"/>
            <a:ext cx="1212840" cy="1374840"/>
          </a:xfrm>
          <a:prstGeom prst="rect">
            <a:avLst/>
          </a:prstGeom>
          <a:ln w="0">
            <a:noFill/>
          </a:ln>
        </p:spPr>
      </p:pic>
      <p:sp>
        <p:nvSpPr>
          <p:cNvPr id="15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22520" y="1663560"/>
            <a:ext cx="1528560" cy="1397160"/>
          </a:xfrm>
          <a:prstGeom prst="rect">
            <a:avLst/>
          </a:prstGeom>
          <a:ln w="0">
            <a:noFill/>
          </a:ln>
        </p:spPr>
      </p:pic>
      <p:sp>
        <p:nvSpPr>
          <p:cNvPr id="16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080" y="539640"/>
            <a:ext cx="4211640" cy="720360"/>
          </a:xfrm>
          <a:prstGeom prst="rect">
            <a:avLst/>
          </a:prstGeom>
          <a:noFill/>
          <a:ln w="0">
            <a:noFill/>
          </a:ln>
        </p:spPr>
        <p:style>
          <a:lnRef idx="0"/>
          <a:fillRef idx="0"/>
          <a:effectRef idx="0"/>
          <a:fontRef idx="minor"/>
        </p:style>
        <p:txBody>
          <a:bodyPr lIns="49320" rIns="49320" tIns="24840" bIns="24840" anchor="t">
            <a:spAutoFit/>
          </a:bodyPr>
          <a:p>
            <a:pPr>
              <a:spcBef>
                <a:spcPts val="275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400" spc="-1" strike="noStrike">
                <a:solidFill>
                  <a:srgbClr val="ff6600"/>
                </a:solidFill>
                <a:latin typeface="Arial"/>
              </a:rPr>
              <a:t>BIBLIOGRAFÍA</a:t>
            </a:r>
            <a:endParaRPr b="0" lang="en-US" sz="4400" spc="-1" strike="noStrike">
              <a:solidFill>
                <a:srgbClr val="000000"/>
              </a:solidFill>
              <a:latin typeface="Arial"/>
            </a:endParaRPr>
          </a:p>
        </p:txBody>
      </p:sp>
      <p:sp>
        <p:nvSpPr>
          <p:cNvPr id="16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3280" y="274320"/>
            <a:ext cx="4213440" cy="498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Enfoques teórico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 name=""/>
          <p:cNvSpPr/>
          <p:nvPr/>
        </p:nvSpPr>
        <p:spPr>
          <a:xfrm flipH="1">
            <a:off x="1196640" y="684360"/>
            <a:ext cx="366840" cy="630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967120" y="684360"/>
            <a:ext cx="368280" cy="630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160" y="1332000"/>
            <a:ext cx="2158920" cy="136836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333399"/>
                </a:solidFill>
                <a:latin typeface="Arial"/>
              </a:rPr>
              <a:t>Posiciones</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333399"/>
                </a:solidFill>
                <a:latin typeface="Arial"/>
              </a:rPr>
              <a:t> </a:t>
            </a:r>
            <a:r>
              <a:rPr b="0" lang="es-ES" sz="2800" spc="-1" strike="noStrike">
                <a:solidFill>
                  <a:srgbClr val="333399"/>
                </a:solidFill>
                <a:latin typeface="Arial"/>
              </a:rPr>
              <a:t>biologicistas</a:t>
            </a:r>
            <a:endParaRPr b="0" lang="en-US" sz="2800" spc="-1" strike="noStrike">
              <a:solidFill>
                <a:srgbClr val="000000"/>
              </a:solidFill>
              <a:latin typeface="Arial"/>
            </a:endParaRPr>
          </a:p>
        </p:txBody>
      </p:sp>
      <p:sp>
        <p:nvSpPr>
          <p:cNvPr id="63" name=""/>
          <p:cNvSpPr/>
          <p:nvPr/>
        </p:nvSpPr>
        <p:spPr>
          <a:xfrm>
            <a:off x="1260360" y="2789280"/>
            <a:ext cx="0" cy="415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42920" y="3305160"/>
            <a:ext cx="2627280" cy="415800"/>
          </a:xfrm>
          <a:prstGeom prst="rect">
            <a:avLst/>
          </a:prstGeom>
          <a:noFill/>
          <a:ln w="0">
            <a:noFill/>
          </a:ln>
        </p:spPr>
        <p:style>
          <a:lnRef idx="0"/>
          <a:fillRef idx="0"/>
          <a:effectRef idx="0"/>
          <a:fontRef idx="minor"/>
        </p:style>
        <p:txBody>
          <a:bodyPr lIns="49320" rIns="49320" tIns="24840" bIns="24840" anchor="t">
            <a:spAutoFit/>
          </a:bodyPr>
          <a:p>
            <a:pPr algn="ct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stintivo</a:t>
            </a:r>
            <a:endParaRPr b="0" lang="en-US" sz="2400" spc="-1" strike="noStrike">
              <a:solidFill>
                <a:srgbClr val="000000"/>
              </a:solidFill>
              <a:latin typeface="Arial"/>
            </a:endParaRPr>
          </a:p>
        </p:txBody>
      </p:sp>
      <p:sp>
        <p:nvSpPr>
          <p:cNvPr id="65" name=""/>
          <p:cNvSpPr/>
          <p:nvPr/>
        </p:nvSpPr>
        <p:spPr>
          <a:xfrm>
            <a:off x="3446640" y="2789280"/>
            <a:ext cx="0" cy="415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413080" y="1332000"/>
            <a:ext cx="2158920" cy="136836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Producto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propiamente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humano</a:t>
            </a:r>
            <a:endParaRPr b="0" lang="en-US" sz="2800" spc="-1" strike="noStrike">
              <a:solidFill>
                <a:srgbClr val="000000"/>
              </a:solidFill>
              <a:latin typeface="Arial"/>
            </a:endParaRPr>
          </a:p>
        </p:txBody>
      </p:sp>
      <p:sp>
        <p:nvSpPr>
          <p:cNvPr id="67" name=""/>
          <p:cNvSpPr/>
          <p:nvPr/>
        </p:nvSpPr>
        <p:spPr>
          <a:xfrm>
            <a:off x="128520" y="3205080"/>
            <a:ext cx="2102040" cy="7192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400480" y="3205080"/>
            <a:ext cx="2100240" cy="7192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419200" y="3348000"/>
            <a:ext cx="2081520" cy="415800"/>
          </a:xfrm>
          <a:prstGeom prst="rect">
            <a:avLst/>
          </a:prstGeom>
          <a:noFill/>
          <a:ln w="0">
            <a:noFill/>
          </a:ln>
        </p:spPr>
        <p:style>
          <a:lnRef idx="0"/>
          <a:fillRef idx="0"/>
          <a:effectRef idx="0"/>
          <a:fontRef idx="minor"/>
        </p:style>
        <p:txBody>
          <a:bodyPr lIns="49320" rIns="49320" tIns="24840" bIns="24840" anchor="t">
            <a:sp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Social</a:t>
            </a:r>
            <a:endParaRPr b="0" lang="en-US" sz="2400" spc="-1" strike="noStrike">
              <a:solidFill>
                <a:srgbClr val="000000"/>
              </a:solidFill>
              <a:latin typeface="Arial"/>
            </a:endParaRPr>
          </a:p>
        </p:txBody>
      </p:sp>
      <p:sp>
        <p:nvSpPr>
          <p:cNvPr id="7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771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ORIGENES</a:t>
            </a:r>
            <a:endParaRPr b="0" lang="en-US" sz="2400" spc="-1" strike="noStrike">
              <a:solidFill>
                <a:srgbClr val="000000"/>
              </a:solidFill>
              <a:latin typeface="Arial"/>
            </a:endParaRPr>
          </a:p>
        </p:txBody>
      </p:sp>
      <p:sp>
        <p:nvSpPr>
          <p:cNvPr id="7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3" name=""/>
          <p:cNvSpPr/>
          <p:nvPr/>
        </p:nvSpPr>
        <p:spPr>
          <a:xfrm>
            <a:off x="237960" y="195120"/>
            <a:ext cx="4449960" cy="659520"/>
          </a:xfrm>
          <a:prstGeom prst="rect">
            <a:avLst/>
          </a:prstGeom>
          <a:noFill/>
          <a:ln w="0">
            <a:noFill/>
          </a:ln>
        </p:spPr>
        <p:style>
          <a:lnRef idx="0"/>
          <a:fillRef idx="0"/>
          <a:effectRef idx="0"/>
          <a:fontRef idx="minor"/>
        </p:style>
        <p:txBody>
          <a:bodyPr lIns="49320" rIns="49320" tIns="24840" bIns="24840" anchor="t">
            <a:spAutoFit/>
          </a:bodyPr>
          <a:p>
            <a:pPr>
              <a:spcBef>
                <a:spcPts val="2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0000ff"/>
                </a:solidFill>
                <a:latin typeface="Arial"/>
              </a:rPr>
              <a:t>Conducta humana</a:t>
            </a:r>
            <a:endParaRPr b="0" lang="en-US" sz="4000" spc="-1" strike="noStrike">
              <a:solidFill>
                <a:srgbClr val="000000"/>
              </a:solidFill>
              <a:latin typeface="Arial"/>
            </a:endParaRPr>
          </a:p>
        </p:txBody>
      </p:sp>
      <p:sp>
        <p:nvSpPr>
          <p:cNvPr id="74" name=""/>
          <p:cNvSpPr/>
          <p:nvPr/>
        </p:nvSpPr>
        <p:spPr>
          <a:xfrm>
            <a:off x="3270240" y="857160"/>
            <a:ext cx="149400" cy="2588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9280" y="316080"/>
            <a:ext cx="4392720" cy="4982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1044720" y="857160"/>
            <a:ext cx="147600" cy="2588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39760" y="1116000"/>
            <a:ext cx="1990800" cy="1165320"/>
          </a:xfrm>
          <a:prstGeom prst="flowChartAlternateProcess">
            <a:avLst/>
          </a:prstGeom>
          <a:no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lementos </a:t>
            </a:r>
            <a:endParaRPr b="0" lang="en-US" sz="24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biológicos</a:t>
            </a:r>
            <a:endParaRPr b="0" lang="en-US" sz="2400" spc="-1" strike="noStrike">
              <a:solidFill>
                <a:srgbClr val="000000"/>
              </a:solidFill>
              <a:latin typeface="Arial"/>
            </a:endParaRPr>
          </a:p>
        </p:txBody>
      </p:sp>
      <p:sp>
        <p:nvSpPr>
          <p:cNvPr id="78" name=""/>
          <p:cNvSpPr/>
          <p:nvPr/>
        </p:nvSpPr>
        <p:spPr>
          <a:xfrm>
            <a:off x="2451240" y="1116000"/>
            <a:ext cx="1990440" cy="1165320"/>
          </a:xfrm>
          <a:prstGeom prst="flowChartAlternateProcess">
            <a:avLst/>
          </a:prstGeom>
          <a:no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Elementos </a:t>
            </a:r>
            <a:endParaRPr b="0" lang="en-US" sz="24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sociales </a:t>
            </a:r>
            <a:endParaRPr b="0" lang="en-US" sz="2400" spc="-1" strike="noStrike">
              <a:solidFill>
                <a:srgbClr val="000000"/>
              </a:solidFill>
              <a:latin typeface="Arial"/>
            </a:endParaRPr>
          </a:p>
        </p:txBody>
      </p:sp>
      <p:sp>
        <p:nvSpPr>
          <p:cNvPr id="79" name=""/>
          <p:cNvSpPr/>
          <p:nvPr/>
        </p:nvSpPr>
        <p:spPr>
          <a:xfrm>
            <a:off x="2290680" y="2455920"/>
            <a:ext cx="2354400" cy="1513080"/>
          </a:xfrm>
          <a:prstGeom prst="rect">
            <a:avLst/>
          </a:prstGeom>
          <a:noFill/>
          <a:ln w="0">
            <a:noFill/>
          </a:ln>
        </p:spPr>
        <p:style>
          <a:lnRef idx="0"/>
          <a:fillRef idx="0"/>
          <a:effectRef idx="0"/>
          <a:fontRef idx="minor"/>
        </p:style>
        <p:txBody>
          <a:bodyPr lIns="49320" rIns="49320" tIns="24840" bIns="2484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Conducta y su expresión en Individuo y grupo social</a:t>
            </a:r>
            <a:endParaRPr b="0" lang="en-US" sz="2400" spc="-1" strike="noStrike">
              <a:solidFill>
                <a:srgbClr val="000000"/>
              </a:solidFill>
              <a:latin typeface="Arial"/>
            </a:endParaRPr>
          </a:p>
        </p:txBody>
      </p:sp>
      <p:sp>
        <p:nvSpPr>
          <p:cNvPr id="80" name=""/>
          <p:cNvSpPr/>
          <p:nvPr/>
        </p:nvSpPr>
        <p:spPr>
          <a:xfrm flipH="1">
            <a:off x="1763640" y="2268360"/>
            <a:ext cx="72864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360" y="2413080"/>
            <a:ext cx="1978200" cy="1528200"/>
          </a:xfrm>
          <a:prstGeom prst="rect">
            <a:avLst/>
          </a:prstGeom>
          <a:noFill/>
          <a:ln w="0">
            <a:noFill/>
          </a:ln>
        </p:spPr>
        <p:style>
          <a:lnRef idx="0"/>
          <a:fillRef idx="0"/>
          <a:effectRef idx="0"/>
          <a:fontRef idx="minor"/>
        </p:style>
        <p:txBody>
          <a:bodyPr lIns="49320" rIns="49320" tIns="24840" bIns="2484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Aparecen:</a:t>
            </a:r>
            <a:endParaRPr b="0" lang="en-US" sz="2400" spc="-1" strike="noStrike">
              <a:solidFill>
                <a:srgbClr val="000000"/>
              </a:solidFill>
              <a:latin typeface="Arial"/>
            </a:endParaRPr>
          </a:p>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Conflicto </a:t>
            </a:r>
            <a:endParaRPr b="0" lang="en-US" sz="2400" spc="-1" strike="noStrike">
              <a:solidFill>
                <a:srgbClr val="000000"/>
              </a:solidFill>
              <a:latin typeface="Arial"/>
            </a:endParaRPr>
          </a:p>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Su solución</a:t>
            </a:r>
            <a:endParaRPr b="0" lang="en-US" sz="2400" spc="-1" strike="noStrike">
              <a:solidFill>
                <a:srgbClr val="000000"/>
              </a:solidFill>
              <a:latin typeface="Arial"/>
            </a:endParaRPr>
          </a:p>
        </p:txBody>
      </p:sp>
      <p:sp>
        <p:nvSpPr>
          <p:cNvPr id="8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419640" y="2268360"/>
            <a:ext cx="0" cy="28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396360"/>
            <a:ext cx="4680000" cy="3095640"/>
          </a:xfrm>
          <a:prstGeom prst="rect">
            <a:avLst/>
          </a:prstGeom>
          <a:noFill/>
          <a:ln w="0">
            <a:noFill/>
          </a:ln>
        </p:spPr>
        <p:txBody>
          <a:bodyPr lIns="49320" rIns="49320" tIns="24840" bIns="24840" anchor="t">
            <a:normAutofit/>
          </a:bodyPr>
          <a:p>
            <a:pPr marL="185760" indent="0" algn="ctr">
              <a:spcBef>
                <a:spcPts val="476"/>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900" spc="-1" strike="noStrike">
                <a:solidFill>
                  <a:srgbClr val="ffff00"/>
                </a:solidFill>
                <a:latin typeface="Arial"/>
              </a:rPr>
              <a:t>   </a:t>
            </a:r>
            <a:r>
              <a:rPr b="1" lang="en-US" sz="2800" spc="-1" strike="noStrike">
                <a:solidFill>
                  <a:srgbClr val="ff6600"/>
                </a:solidFill>
                <a:latin typeface="Arial"/>
              </a:rPr>
              <a:t>En la base de toda conducta violenta se encuentran las condiciones políticas, que están determinadas por las relaciones económicas.</a:t>
            </a:r>
            <a:r>
              <a:rPr b="1" lang="en-US" sz="1900" spc="-1" strike="noStrike">
                <a:solidFill>
                  <a:srgbClr val="0000ff"/>
                </a:solidFill>
                <a:latin typeface="Arial"/>
              </a:rPr>
              <a:t>   </a:t>
            </a:r>
            <a:endParaRPr b="0" lang="en-US" sz="1900" spc="-1" strike="noStrike">
              <a:solidFill>
                <a:srgbClr val="000000"/>
              </a:solidFill>
              <a:latin typeface="Arial"/>
            </a:endParaRPr>
          </a:p>
        </p:txBody>
      </p:sp>
      <p:sp>
        <p:nvSpPr>
          <p:cNvPr id="8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68120" y="684000"/>
            <a:ext cx="4476960" cy="2879640"/>
          </a:xfrm>
          <a:prstGeom prst="rect">
            <a:avLst/>
          </a:prstGeom>
          <a:noFill/>
          <a:ln w="0">
            <a:noFill/>
          </a:ln>
        </p:spPr>
        <p:txBody>
          <a:bodyPr lIns="49320" rIns="49320" tIns="24840" bIns="24840" anchor="t">
            <a:normAutofit/>
          </a:bodyPr>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Estado – Revolucionaria</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Cotidiana: mujer, niños, discapacitados; étnica, de clase social o religiosa</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Delincuencial</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Por drogas</a:t>
            </a:r>
            <a:endParaRPr b="0" lang="en-US" sz="2800" spc="-1" strike="noStrike">
              <a:solidFill>
                <a:srgbClr val="000000"/>
              </a:solidFill>
              <a:latin typeface="Arial"/>
            </a:endParaRPr>
          </a:p>
        </p:txBody>
      </p:sp>
      <p:sp>
        <p:nvSpPr>
          <p:cNvPr id="8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8000" y="396720"/>
            <a:ext cx="4680000" cy="3564000"/>
          </a:xfrm>
          <a:prstGeom prst="rect">
            <a:avLst/>
          </a:prstGeom>
          <a:noFill/>
          <a:ln w="0">
            <a:noFill/>
          </a:ln>
        </p:spPr>
        <p:txBody>
          <a:bodyPr lIns="49320" rIns="49320" tIns="24840" bIns="24840" anchor="t">
            <a:normAutofit fontScale="99000"/>
          </a:bodyPr>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oda acción u omisión de</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origen externo que viola el</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recho al pleno desarrollo y</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bienestar del individuo o</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comunidad, impide el ejercicio</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 su autonomía, atenta contra</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su autoestima y puede producir</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lesiones o daño físico, psíquico y</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hasta la muerte. (Barrientos y Martínez, 1999)</a:t>
            </a:r>
            <a:endParaRPr b="0" lang="en-US" sz="2400" spc="-1" strike="noStrike">
              <a:solidFill>
                <a:srgbClr val="000000"/>
              </a:solidFill>
              <a:latin typeface="Arial"/>
            </a:endParaRPr>
          </a:p>
        </p:txBody>
      </p:sp>
      <p:sp>
        <p:nvSpPr>
          <p:cNvPr id="9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7640" y="310680"/>
            <a:ext cx="4537080" cy="660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3200" spc="-1" strike="noStrike">
                <a:solidFill>
                  <a:srgbClr val="ff6600"/>
                </a:solidFill>
                <a:latin typeface="Arial"/>
              </a:rPr>
              <a:t>Elementos esenciales</a:t>
            </a:r>
            <a:endParaRPr b="0" lang="en-US" sz="3200" spc="-1" strike="noStrike">
              <a:solidFill>
                <a:srgbClr val="000000"/>
              </a:solidFill>
              <a:latin typeface="Arial"/>
            </a:endParaRPr>
          </a:p>
        </p:txBody>
      </p:sp>
      <p:sp>
        <p:nvSpPr>
          <p:cNvPr id="95" name="PlaceHolder 2"/>
          <p:cNvSpPr>
            <a:spLocks noGrp="1"/>
          </p:cNvSpPr>
          <p:nvPr>
            <p:ph/>
          </p:nvPr>
        </p:nvSpPr>
        <p:spPr>
          <a:xfrm>
            <a:off x="128520" y="971280"/>
            <a:ext cx="4422960" cy="259236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Acción de individuo o grupo sobre otro u otros</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Resultado: daño físico y/o psíquico</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Percepción de la violencia según patrones culturales</a:t>
            </a:r>
            <a:endParaRPr b="0" lang="en-US" sz="2400" spc="-1" strike="noStrike">
              <a:solidFill>
                <a:srgbClr val="000000"/>
              </a:solidFill>
              <a:latin typeface="Arial"/>
            </a:endParaRPr>
          </a:p>
        </p:txBody>
      </p:sp>
      <p:sp>
        <p:nvSpPr>
          <p:cNvPr id="9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541080"/>
            <a:ext cx="4680000" cy="3166920"/>
          </a:xfrm>
          <a:prstGeom prst="rect">
            <a:avLst/>
          </a:prstGeom>
          <a:noFill/>
          <a:ln w="0">
            <a:noFill/>
          </a:ln>
        </p:spPr>
        <p:txBody>
          <a:bodyPr lIns="49320" rIns="49320" tIns="24840" bIns="24840" anchor="t">
            <a:normAutofit/>
          </a:bodyPr>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Multifactorial</a:t>
            </a:r>
            <a:endParaRPr b="0" lang="en-US" sz="2800" spc="-1" strike="noStrike">
              <a:solidFill>
                <a:srgbClr val="000000"/>
              </a:solidFill>
              <a:latin typeface="Arial"/>
            </a:endParaRPr>
          </a:p>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Poliexpresiva: modo de</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aparecer y actuar; por sus</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consecuencias </a:t>
            </a:r>
            <a:endParaRPr b="0" lang="en-US" sz="2800" spc="-1" strike="noStrike">
              <a:solidFill>
                <a:srgbClr val="000000"/>
              </a:solidFill>
              <a:latin typeface="Arial"/>
            </a:endParaRPr>
          </a:p>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Afecta la salud mental de</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la víctima y el victimario</a:t>
            </a:r>
            <a:endParaRPr b="0" lang="en-US" sz="2800" spc="-1" strike="noStrike">
              <a:solidFill>
                <a:srgbClr val="000000"/>
              </a:solidFill>
              <a:latin typeface="Arial"/>
            </a:endParaRPr>
          </a:p>
        </p:txBody>
      </p:sp>
      <p:sp>
        <p:nvSpPr>
          <p:cNvPr id="9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4:21:48Z</dcterms:created>
  <dc:creator>monicarb</dc:creator>
  <dc:description/>
  <dc:language>en-US</dc:language>
  <cp:lastModifiedBy>Silvia</cp:lastModifiedBy>
  <dcterms:modified xsi:type="dcterms:W3CDTF">2007-11-27T14:37:26Z</dcterms:modified>
  <cp:revision>28</cp:revision>
  <dc:subject/>
  <dc:title>Violencia y salud mental</dc:title>
</cp:coreProperties>
</file>