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23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0FD-6072-4E9A-8C61-F938AD7A57F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4707-DA6B-4F4F-AF02-30F8DE543F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45F8-7315-4CB1-8286-A831A65952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6903-CE77-4F6E-9AB8-E69668B70F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5DD2-18CD-469B-8729-6475D4FD5C8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5772-C8DB-46DE-972F-F67C53B3D0A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6A8-0D11-4C5B-8752-EE7E4FB19F2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14C-9B15-4385-A32B-A2FB6AFA005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C823-42D5-4387-A630-C858C7BA7C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257-8585-4641-8142-4A89781488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9929-E172-4513-B23B-9F0B2F4774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6E18-D990-4FDB-99E4-A922E4BE58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DC9D-4151-4595-A421-065CC2AFA6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C2E-C418-4931-AD40-5C302D9ACF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6ACA-6D59-4B5E-A2D0-4D58B034017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E27D-8784-47FC-AB30-70C9A4B4A9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DA82-BFA0-45C5-9E58-E0EAD1165C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7DD-DCA8-46F4-BD51-1FC4A96B36C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A3EE-371C-4E6E-8C2F-37121CFDFB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92E3-77C0-4469-8CD4-4A279EE6A9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0A15-1B21-4DCD-916D-BF1D9E4B21D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0F7-7E6C-4931-B203-29193C4DD0E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F3C9-3FFD-4938-9416-F3AE1B39871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2B24-1564-4DEC-93D9-49B42B8276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E373-3FDF-4A2B-907F-8EDDBF750F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EF57-2ED0-4AD3-B769-FEF05474A1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852E-C64D-4263-9240-5DFDFDE2795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325B-7790-470C-AD5B-3096C34028D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EEC8-D4B5-42AD-AF5C-387F53C571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190-117F-4466-A281-8BFB3C89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92E-54EF-4A51-96F9-82FEFD61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52F-B143-46E9-BCD3-F177BF36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B02-647C-4520-BC7D-0517DF5B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9B9B-3DC3-4205-9362-435C879F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923-40AD-4149-B8F4-9BCA3D35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C31-43C1-40F3-A174-F079D4A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3E0-924C-4D5F-B33F-311D0663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167-537C-4457-ABB2-0D337C96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41D-098C-4ADC-A278-3867D83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A18-2A0B-4073-8D89-2A2B5E9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36E-52C5-4B18-8A31-891B7018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0FC9-3DDB-489E-8C9A-7541D39B71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125360"/>
            <a:ext cx="741852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66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999ff"/>
                  </a:outerShdw>
                </a:effectLst>
                <a:latin typeface="Times New Roman"/>
              </a:rPr>
              <a:t>MUERTE SÚBITA EN EL NIÑO </a:t>
            </a:r>
            <a:endParaRPr b="1" lang="en-US" sz="2000" spc="1" strike="noStrike">
              <a:ln w="9360">
                <a:solidFill>
                  <a:srgbClr val="ff66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42920" y="4941720"/>
            <a:ext cx="6481800" cy="10159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Dra. Verónica Walwyn Sa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Especialista en Anatomia Pat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504920" y="61340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nestor5"/>
          <p:cNvPicPr/>
          <p:nvPr/>
        </p:nvPicPr>
        <p:blipFill>
          <a:blip r:embed="rId1"/>
          <a:stretch/>
        </p:blipFill>
        <p:spPr>
          <a:xfrm>
            <a:off x="838080" y="0"/>
            <a:ext cx="769644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 rot="5400000">
            <a:off x="-2429280" y="3114720"/>
            <a:ext cx="5715000" cy="399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Juventud Rebelde</a:t>
            </a:r>
            <a:endParaRPr b="1" lang="en-US" sz="2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4"/>
          <p:cNvSpPr txBox="1"/>
          <p:nvPr/>
        </p:nvSpPr>
        <p:spPr>
          <a:xfrm rot="5400000">
            <a:off x="5981400" y="3390840"/>
            <a:ext cx="556236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6 de junio 1979</a:t>
            </a:r>
            <a:endParaRPr b="1" lang="en-US" sz="2800" spc="1" strike="noStrike">
              <a:ln w="1260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74040" y="1981080"/>
            <a:ext cx="47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“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LA MUERTE SÚBITA O INEX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929880" y="22860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N UN NIÑO CUALQUIERA QUE SEA</a:t>
            </a:r>
            <a:r>
              <a:rPr b="0" lang="es-ES_tradnl" sz="24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309680" y="2743200"/>
            <a:ext cx="47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SU EDAD, ES AQUELLA QUE SOBRE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610280" y="3124080"/>
            <a:ext cx="458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VIENE BRUSCAMENTE O DE 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888920" y="350532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IMPREVISTO,  PRESUMIBL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081160" y="388620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ENFERMO O SALUDABLE,  CUYA  CA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799360" y="4267080"/>
            <a:ext cx="40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NO SE TUVO EN CUENTA EN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581280" y="46483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Verdana"/>
              </a:rPr>
              <a:t>DESENLACE FATAL DE LA VÍCTIMA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685800" y="533520"/>
            <a:ext cx="784872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33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Bookman Old Style"/>
              </a:rPr>
              <a:t>PRIMER SYMPOSIUM SOBRE MUERTE SÚ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3962520" y="1143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imes New Roman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822600" y="6095880"/>
            <a:ext cx="75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Verdana"/>
              </a:rPr>
              <a:t>Participan Factores: Clínicos, éticos y bio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13"/>
          <p:cNvSpPr txBox="1"/>
          <p:nvPr/>
        </p:nvSpPr>
        <p:spPr>
          <a:xfrm rot="2914800">
            <a:off x="-406440" y="4114800"/>
            <a:ext cx="396252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15744000"/>
                </a:gradFill>
                <a:latin typeface="Verdana"/>
              </a:rPr>
              <a:t>Definición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15744000"/>
              </a:gradFill>
              <a:latin typeface="Verdana"/>
              <a:ea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3be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1828800" y="304920"/>
            <a:ext cx="566568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NCLUIMOS EN ESTA DEFINICIÓN :</a:t>
            </a:r>
            <a:endParaRPr b="0" lang="en-US" sz="2000" spc="1" strike="noStrike">
              <a:ln w="1260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0" y="1905120"/>
            <a:ext cx="881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d8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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LOS NIÑOS DE CUALQUIER EDAD QUE MUEREN EN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TRAYECTO DEL HOGAR AL HOSPITAL O EN LAS SAL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URG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-5760" y="2819520"/>
            <a:ext cx="902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d8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  </a:t>
            </a: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LOS NIÑOS QUE MUEREN EN LAS SALAS DE HOSPIT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            </a:t>
            </a: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POCAS HORAS DESPUES DEL INGRESO EN UN INTERVALO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         </a:t>
            </a: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MAYOR DE 12 HORAS, AUNQUE ESTO ES RELA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6320" y="3886200"/>
            <a:ext cx="906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d8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  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LOS ABUSADOS Y MALTRATADOS, CUYA CAUSA ES IMPORTANTE DESCUBR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0" y="91440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buClr>
                <a:srgbClr val="a8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80000"/>
                </a:solidFill>
                <a:latin typeface="Times New Roman"/>
              </a:rPr>
              <a:t> </a:t>
            </a: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LOS NIÑOS DE 0 A 16 AÑOS DE EDAD QUE MUERE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                     </a:t>
            </a:r>
            <a:r>
              <a:rPr b="1" lang="es-ES_tradnl" sz="2000" spc="-1" strike="noStrike">
                <a:solidFill>
                  <a:srgbClr val="d80000"/>
                </a:solidFill>
                <a:latin typeface="Times New Roman"/>
              </a:rPr>
              <a:t>EL HOGAR SIN CAUSA DEFINIDA Y CUYO LAPSO ENTRE LA VIDA Y LA MUERTE FUE BRE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0880" y="4952880"/>
            <a:ext cx="304920" cy="2286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49520" y="4789440"/>
            <a:ext cx="23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3300"/>
                </a:solidFill>
                <a:uFillTx/>
                <a:latin typeface="Arial"/>
              </a:rPr>
              <a:t>Se excluy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-3240" y="5334120"/>
            <a:ext cx="89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40ec"/>
                </a:solidFill>
                <a:latin typeface="Arial"/>
              </a:rPr>
              <a:t>   </a:t>
            </a:r>
            <a:r>
              <a:rPr b="1" lang="es-MX" sz="2400" spc="-1" strike="noStrike">
                <a:solidFill>
                  <a:srgbClr val="5940ec"/>
                </a:solidFill>
                <a:latin typeface="Arial"/>
              </a:rPr>
              <a:t>Los niños ingresados de más de 12 horas con 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05640" y="5867280"/>
            <a:ext cx="38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40ec"/>
                </a:solidFill>
                <a:latin typeface="Arial"/>
              </a:rPr>
              <a:t>Los accidentes viol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-1080" y="640080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400" spc="-1" strike="noStrike">
                <a:solidFill>
                  <a:srgbClr val="5940ec"/>
                </a:solidFill>
                <a:latin typeface="Arial"/>
              </a:rPr>
              <a:t>Los niños con patologías cr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ccffff"/>
            </a:gs>
            <a:gs pos="100000">
              <a:srgbClr val="00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0" y="1752480"/>
          <a:ext cx="875520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875520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WordArt 3"/>
          <p:cNvSpPr txBox="1"/>
          <p:nvPr/>
        </p:nvSpPr>
        <p:spPr>
          <a:xfrm>
            <a:off x="1143000" y="279360"/>
            <a:ext cx="6781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ESES DEL AÑO DE LA DEFUNCIÓN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280" y="614664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828800" y="6146640"/>
            <a:ext cx="91440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 flipV="1">
            <a:off x="3505320" y="586656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410080" y="6248520"/>
            <a:ext cx="9144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391520" y="6172200"/>
            <a:ext cx="914400" cy="3808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228600" y="6222960"/>
            <a:ext cx="9144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76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1905120" y="6222960"/>
            <a:ext cx="8380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7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0" name="WordArt 11"/>
          <p:cNvSpPr txBox="1"/>
          <p:nvPr/>
        </p:nvSpPr>
        <p:spPr>
          <a:xfrm>
            <a:off x="3581280" y="5943600"/>
            <a:ext cx="914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7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WordArt 12"/>
          <p:cNvSpPr txBox="1"/>
          <p:nvPr/>
        </p:nvSpPr>
        <p:spPr>
          <a:xfrm>
            <a:off x="5410080" y="6324480"/>
            <a:ext cx="83844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7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7391520" y="6248520"/>
            <a:ext cx="8380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980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Text Box 14"/>
          <p:cNvSpPr/>
          <p:nvPr/>
        </p:nvSpPr>
        <p:spPr>
          <a:xfrm rot="16252800">
            <a:off x="3600" y="4930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EN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 rot="16171800">
            <a:off x="526680" y="515052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FEBR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 rot="16169400">
            <a:off x="1332360" y="4948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M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 rot="16273200">
            <a:off x="2048400" y="48546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AB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 rot="16202400">
            <a:off x="2797920" y="48391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MA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 rot="16131600">
            <a:off x="3403080" y="48639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JU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 rot="16187400">
            <a:off x="4127040" y="4848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JU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1"/>
          <p:cNvSpPr/>
          <p:nvPr/>
        </p:nvSpPr>
        <p:spPr>
          <a:xfrm rot="16273800">
            <a:off x="4766760" y="50378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Bookman Old Style"/>
              </a:rPr>
              <a:t>AG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2"/>
          <p:cNvSpPr/>
          <p:nvPr/>
        </p:nvSpPr>
        <p:spPr>
          <a:xfrm rot="16195200">
            <a:off x="5355000" y="519552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Bookman Old Style"/>
              </a:rPr>
              <a:t>SETIE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3"/>
          <p:cNvSpPr/>
          <p:nvPr/>
        </p:nvSpPr>
        <p:spPr>
          <a:xfrm rot="16228200">
            <a:off x="5974920" y="51498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Bookman Old Style"/>
              </a:rPr>
              <a:t>OCTU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4"/>
          <p:cNvSpPr/>
          <p:nvPr/>
        </p:nvSpPr>
        <p:spPr>
          <a:xfrm rot="16264800">
            <a:off x="6654240" y="5141160"/>
            <a:ext cx="172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Bookman Old Style"/>
              </a:rPr>
              <a:t>NOVIE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5"/>
          <p:cNvSpPr/>
          <p:nvPr/>
        </p:nvSpPr>
        <p:spPr>
          <a:xfrm rot="16185600">
            <a:off x="7479720" y="5098320"/>
            <a:ext cx="15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Bookman Old Style"/>
              </a:rPr>
              <a:t>DICIE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WordArt 26"/>
          <p:cNvSpPr txBox="1"/>
          <p:nvPr/>
        </p:nvSpPr>
        <p:spPr>
          <a:xfrm>
            <a:off x="2514600" y="990720"/>
            <a:ext cx="2971800" cy="3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280 Casos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380880" y="19810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Bookman Old Style"/>
              </a:rPr>
              <a:t>NO.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8"/>
          <p:cNvSpPr/>
          <p:nvPr/>
        </p:nvSpPr>
        <p:spPr>
          <a:xfrm flipH="1">
            <a:off x="6095160" y="1600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9"/>
          <p:cNvSpPr/>
          <p:nvPr/>
        </p:nvSpPr>
        <p:spPr>
          <a:xfrm>
            <a:off x="6384960" y="152388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No fall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380880"/>
            <a:ext cx="685800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WordArt 3"/>
          <p:cNvSpPr txBox="1"/>
          <p:nvPr/>
        </p:nvSpPr>
        <p:spPr>
          <a:xfrm>
            <a:off x="685800" y="457200"/>
            <a:ext cx="6858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Bookman Old Style"/>
              </a:rPr>
              <a:t>ELEMENTOS UTILIZADOS EN LA INVESTIGACIÓN</a:t>
            </a:r>
            <a:endParaRPr b="1" lang="en-US" sz="1600" spc="1" strike="noStrike">
              <a:ln w="255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Bookman Old Style"/>
              <a:ea typeface="Bookman Old Style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676520" y="1371600"/>
            <a:ext cx="5333760" cy="4572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33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WordArt 5"/>
          <p:cNvSpPr txBox="1"/>
          <p:nvPr/>
        </p:nvSpPr>
        <p:spPr>
          <a:xfrm>
            <a:off x="1828800" y="1447920"/>
            <a:ext cx="5181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ÁMINAS HISTOLÓGICAS: 12 000 UNIDAD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676520" y="1828800"/>
            <a:ext cx="5333760" cy="457200"/>
          </a:xfrm>
          <a:prstGeom prst="rect">
            <a:avLst/>
          </a:prstGeom>
          <a:solidFill>
            <a:srgbClr val="66ffff"/>
          </a:solidFill>
          <a:ln w="38160">
            <a:solidFill>
              <a:srgbClr val="3333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1752480" y="1905120"/>
            <a:ext cx="518184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ÉCNICAS ESPECIALES : 2000 UNIDA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1295280" y="2438280"/>
            <a:ext cx="6096240" cy="2210040"/>
          </a:xfrm>
          <a:prstGeom prst="rect">
            <a:avLst/>
          </a:prstGeom>
          <a:solidFill>
            <a:srgbClr val="ccccff"/>
          </a:solidFill>
          <a:ln w="57240">
            <a:solidFill>
              <a:srgbClr val="ff00ff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447920" y="2362320"/>
            <a:ext cx="59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TÉCNICAS DE LABORATORIO: 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1371600" y="2666880"/>
            <a:ext cx="5943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ELECTROLITOS           GL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CALCIO                        U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ELECTROFORESIS DE LAS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ELECTROFORESIS DE LA HEMOGLOB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INMUNOELECTROFORESI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ESTUDIOS DEL HUMOR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1143000" y="4876920"/>
            <a:ext cx="6400800" cy="609480"/>
          </a:xfrm>
          <a:prstGeom prst="rect">
            <a:avLst/>
          </a:prstGeom>
          <a:solidFill>
            <a:srgbClr val="ffcc99"/>
          </a:solidFill>
          <a:ln w="38160">
            <a:solidFill>
              <a:srgbClr val="ff99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219320" y="4952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Bookman Old Style"/>
              </a:rPr>
              <a:t>HEMOCULTIVOS POSTMORTEN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1600200" y="5943600"/>
            <a:ext cx="5486400" cy="4572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14479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Bookman Old Style"/>
              </a:rPr>
              <a:t>ESTUDIOS A LAS FAMILIAS : 8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1371600" y="6400800"/>
            <a:ext cx="5943600" cy="4572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1772640" y="640080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Bookman Old Style"/>
              </a:rPr>
              <a:t>ENTREVISTAS A LOS PADRES: 4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7"/>
          <p:cNvSpPr/>
          <p:nvPr/>
        </p:nvSpPr>
        <p:spPr>
          <a:xfrm>
            <a:off x="1219320" y="5486400"/>
            <a:ext cx="6248160" cy="457200"/>
          </a:xfrm>
          <a:prstGeom prst="rect">
            <a:avLst/>
          </a:prstGeom>
          <a:solidFill>
            <a:srgbClr val="ff0066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8"/>
          <p:cNvSpPr/>
          <p:nvPr/>
        </p:nvSpPr>
        <p:spPr>
          <a:xfrm>
            <a:off x="1657440" y="548640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Bookman Old Style"/>
              </a:rPr>
              <a:t>EXUDADOS Y COPROCULTIVOS :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0" y="1030320"/>
          <a:ext cx="9144000" cy="58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0320"/>
                    <a:ext cx="91440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WordArt 3"/>
          <p:cNvSpPr txBox="1"/>
          <p:nvPr/>
        </p:nvSpPr>
        <p:spPr>
          <a:xfrm>
            <a:off x="762120" y="1066680"/>
            <a:ext cx="1447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OGAR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3200400" y="2438280"/>
            <a:ext cx="1450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SPITAL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5105520" y="3200400"/>
            <a:ext cx="1828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S. URGENCIAS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01" name="WordArt 6"/>
          <p:cNvSpPr txBox="1"/>
          <p:nvPr/>
        </p:nvSpPr>
        <p:spPr>
          <a:xfrm>
            <a:off x="7620120" y="5105520"/>
            <a:ext cx="15238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RAYECTO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533520" y="1676520"/>
            <a:ext cx="152388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8,27  %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3200400" y="3124080"/>
            <a:ext cx="1066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29,59 %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04" name="WordArt 9"/>
          <p:cNvSpPr txBox="1"/>
          <p:nvPr/>
        </p:nvSpPr>
        <p:spPr>
          <a:xfrm>
            <a:off x="5410080" y="3962520"/>
            <a:ext cx="943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solidFill>
                  <a:srgbClr val="eae884"/>
                </a:solidFill>
                <a:latin typeface="Arial Black"/>
              </a:rPr>
              <a:t>17,24 %</a:t>
            </a:r>
            <a:endParaRPr b="1" lang="en-US" sz="1600" spc="1" strike="noStrike">
              <a:ln w="0">
                <a:noFill/>
              </a:ln>
              <a:solidFill>
                <a:srgbClr val="eae884"/>
              </a:solidFill>
              <a:latin typeface="Arial Black"/>
              <a:ea typeface="Arial Black"/>
            </a:endParaRPr>
          </a:p>
        </p:txBody>
      </p:sp>
      <p:sp>
        <p:nvSpPr>
          <p:cNvPr id="205" name="WordArt 10"/>
          <p:cNvSpPr txBox="1"/>
          <p:nvPr/>
        </p:nvSpPr>
        <p:spPr>
          <a:xfrm>
            <a:off x="8001000" y="5867280"/>
            <a:ext cx="684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6,9 %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666880" y="457200"/>
            <a:ext cx="5181840" cy="609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12"/>
          <p:cNvSpPr txBox="1"/>
          <p:nvPr/>
        </p:nvSpPr>
        <p:spPr>
          <a:xfrm>
            <a:off x="2819520" y="609480"/>
            <a:ext cx="4800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UGAR DE LA DEFUNCIÓ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533520" y="228600"/>
            <a:ext cx="8076960" cy="66294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143000" y="3808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Times New Roman"/>
              </a:rPr>
              <a:t>MANIFESTACIONES CLINICAS ANTES DE SU FALLECIMIENTO. SINTOMAS Y SIG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62120" y="1143000"/>
            <a:ext cx="76960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SPIRATORIAS _____________________ 94 __________________  16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MOSIS          _____________________ 28 __________________    4,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SH                      _____________________ 14 __________________    2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ETEQUIAS         _____________________  23 __________________    4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SHIDRATACIÓN __________________  32 __________________    5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IEBRE                 _____________________  48 __________________    8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OMITOS             _____________________  42 __________________    7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IANOSIS      ____________________         130 __________________   22,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STENSON       _____________________  30  __________________    5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SCITIS               ______________________ 57  __________________  9,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CTERO               ______________________  8   __________________  1,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NVULSION    ______________________ 23  __________________  4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RRITABILIDAD _____________________  21 __________________   3,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RREAS------------------------------------------24----------------------------- 4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543800" y="762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efd9ee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Object 2"/>
          <p:cNvGraphicFramePr/>
          <p:nvPr/>
        </p:nvGraphicFramePr>
        <p:xfrm>
          <a:off x="0" y="1143000"/>
          <a:ext cx="914400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WordArt 3"/>
          <p:cNvSpPr txBox="1"/>
          <p:nvPr/>
        </p:nvSpPr>
        <p:spPr>
          <a:xfrm>
            <a:off x="1295280" y="0"/>
            <a:ext cx="65534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3333ff"/>
                </a:solidFill>
                <a:latin typeface="Arial Black"/>
              </a:rPr>
              <a:t> 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3333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3333ff"/>
                </a:solidFill>
                <a:latin typeface="Arial Black"/>
              </a:rPr>
              <a:t>HORA APROXIMADA DE LA MUERTE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3333ff"/>
              </a:solidFill>
              <a:latin typeface="Arial Black"/>
              <a:ea typeface="Arial Black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3733920" y="5867280"/>
            <a:ext cx="19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ORAR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1523880" y="4724280"/>
            <a:ext cx="2743200" cy="381240"/>
          </a:xfrm>
          <a:prstGeom prst="leftRightArrow">
            <a:avLst>
              <a:gd name="adj1" fmla="val 50000"/>
              <a:gd name="adj2" fmla="val 1432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6"/>
          <p:cNvSpPr txBox="1"/>
          <p:nvPr/>
        </p:nvSpPr>
        <p:spPr>
          <a:xfrm rot="5400000">
            <a:off x="-429480" y="2639160"/>
            <a:ext cx="1752480" cy="284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so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Object 2"/>
          <p:cNvGraphicFramePr/>
          <p:nvPr/>
        </p:nvGraphicFramePr>
        <p:xfrm>
          <a:off x="0" y="1198440"/>
          <a:ext cx="9144000" cy="565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8440"/>
                    <a:ext cx="914400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WordArt 3"/>
          <p:cNvSpPr txBox="1"/>
          <p:nvPr/>
        </p:nvSpPr>
        <p:spPr>
          <a:xfrm>
            <a:off x="1523880" y="457200"/>
            <a:ext cx="601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AUSAS DE MUERTE </a:t>
            </a:r>
            <a:endParaRPr b="0" lang="en-US" sz="24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pic>
        <p:nvPicPr>
          <p:cNvPr id="223" name="WordArt 4" descr=""/>
          <p:cNvPicPr/>
          <p:nvPr/>
        </p:nvPicPr>
        <p:blipFill>
          <a:blip r:embed="rId4"/>
          <a:stretch/>
        </p:blipFill>
        <p:spPr>
          <a:xfrm>
            <a:off x="512640" y="3419640"/>
            <a:ext cx="1627200" cy="3841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644800" y="144792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Bookman Old Style"/>
              </a:rPr>
              <a:t>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177160" y="182880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Bookman Old Style"/>
              </a:rPr>
              <a:t>INFLAMAT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3657600" y="5029200"/>
            <a:ext cx="12193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8080"/>
                  </a:solidFill>
                  <a:miter/>
                </a:ln>
                <a:solidFill>
                  <a:srgbClr val="00ffcc"/>
                </a:solidFill>
                <a:latin typeface="Arial Black"/>
              </a:rPr>
              <a:t>1980</a:t>
            </a:r>
            <a:endParaRPr b="0" lang="en-US" sz="2000" spc="1" strike="noStrike">
              <a:ln w="19080">
                <a:solidFill>
                  <a:srgbClr val="008080"/>
                </a:solidFill>
                <a:miter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3657600" y="2438280"/>
            <a:ext cx="11430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ffcc"/>
                </a:solidFill>
                <a:latin typeface="Arial Black"/>
              </a:rPr>
              <a:t>1976</a:t>
            </a:r>
            <a:endParaRPr b="0" lang="en-US" sz="2000" spc="1" strike="noStrike">
              <a:ln w="19080">
                <a:solidFill>
                  <a:srgbClr val="008000"/>
                </a:solidFill>
                <a:miter/>
              </a:ln>
              <a:solidFill>
                <a:srgbClr val="00ffcc"/>
              </a:solidFill>
              <a:latin typeface="Arial Black"/>
              <a:ea typeface="Arial Black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962520" y="2971800"/>
            <a:ext cx="485640" cy="1890720"/>
          </a:xfrm>
          <a:prstGeom prst="downArrow">
            <a:avLst>
              <a:gd name="adj1" fmla="val 50000"/>
              <a:gd name="adj2" fmla="val 97331"/>
            </a:avLst>
          </a:prstGeom>
          <a:gradFill rotWithShape="0">
            <a:gsLst>
              <a:gs pos="0">
                <a:srgbClr val="156b13"/>
              </a:gs>
              <a:gs pos="100000">
                <a:srgbClr val="156b13"/>
              </a:gs>
            </a:gsLst>
            <a:lin ang="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426280" y="3124080"/>
            <a:ext cx="15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5150520" y="342900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Bookman Old Style"/>
              </a:rPr>
              <a:t>RESPIRAT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6387120" y="42670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9fbf9"/>
                </a:solidFill>
                <a:latin typeface="Bookman Old Style"/>
              </a:rPr>
              <a:t>ENFERME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6487560" y="4572000"/>
            <a:ext cx="197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9fbf9"/>
                </a:solidFill>
                <a:latin typeface="Bookman Old Style"/>
              </a:rPr>
              <a:t>METABÓ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6095880" y="5943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5930640" y="5638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NEGLIG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WordArt 16"/>
          <p:cNvSpPr txBox="1"/>
          <p:nvPr/>
        </p:nvSpPr>
        <p:spPr>
          <a:xfrm rot="5400000">
            <a:off x="-1562040" y="3619440"/>
            <a:ext cx="350532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280 CASOS</a:t>
            </a:r>
            <a:endParaRPr b="0" lang="en-US" sz="20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5943600" y="5334120"/>
            <a:ext cx="18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ANOM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cc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1026"/>
          <p:cNvSpPr txBox="1"/>
          <p:nvPr/>
        </p:nvSpPr>
        <p:spPr>
          <a:xfrm>
            <a:off x="1752480" y="0"/>
            <a:ext cx="586764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MUERTE SÚBITA EN EL NIÑ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1219320" y="1752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MUERTE EN LA CUNA, EN LA CA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O LA C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28"/>
          <p:cNvSpPr/>
          <p:nvPr/>
        </p:nvSpPr>
        <p:spPr>
          <a:xfrm>
            <a:off x="1681920" y="2556000"/>
            <a:ext cx="71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Bookman Old Style"/>
              </a:rPr>
              <a:t>SÍNDROME DE MUERTE SÚBITA DEL LAC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29"/>
          <p:cNvSpPr/>
          <p:nvPr/>
        </p:nvSpPr>
        <p:spPr>
          <a:xfrm>
            <a:off x="1550520" y="3317760"/>
            <a:ext cx="53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Bookman Old Style"/>
              </a:rPr>
              <a:t>MUERTE DE CAUSA DES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0"/>
          <p:cNvSpPr/>
          <p:nvPr/>
        </p:nvSpPr>
        <p:spPr>
          <a:xfrm>
            <a:off x="1550160" y="407988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MUERTE IMPRE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1"/>
          <p:cNvSpPr/>
          <p:nvPr/>
        </p:nvSpPr>
        <p:spPr>
          <a:xfrm>
            <a:off x="1677600" y="4800600"/>
            <a:ext cx="71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6600"/>
                </a:solidFill>
                <a:latin typeface="Bookman Old Style"/>
              </a:rPr>
              <a:t>SÍNDROME  DEL INTERVALO QT PROLON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2"/>
          <p:cNvSpPr/>
          <p:nvPr/>
        </p:nvSpPr>
        <p:spPr>
          <a:xfrm>
            <a:off x="114300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Bookman Old Style"/>
              </a:rPr>
              <a:t>SÍNDROME DEL NÓDULO SINUSAL 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33"/>
          <p:cNvSpPr/>
          <p:nvPr/>
        </p:nvSpPr>
        <p:spPr>
          <a:xfrm>
            <a:off x="609480" y="1905120"/>
            <a:ext cx="3812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34"/>
          <p:cNvSpPr/>
          <p:nvPr/>
        </p:nvSpPr>
        <p:spPr>
          <a:xfrm>
            <a:off x="609480" y="2666880"/>
            <a:ext cx="38124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35"/>
          <p:cNvSpPr/>
          <p:nvPr/>
        </p:nvSpPr>
        <p:spPr>
          <a:xfrm>
            <a:off x="609480" y="3429000"/>
            <a:ext cx="381240" cy="2286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36"/>
          <p:cNvSpPr/>
          <p:nvPr/>
        </p:nvSpPr>
        <p:spPr>
          <a:xfrm>
            <a:off x="609480" y="4191120"/>
            <a:ext cx="3812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37"/>
          <p:cNvSpPr/>
          <p:nvPr/>
        </p:nvSpPr>
        <p:spPr>
          <a:xfrm>
            <a:off x="609480" y="4952880"/>
            <a:ext cx="381240" cy="2286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38"/>
          <p:cNvSpPr/>
          <p:nvPr/>
        </p:nvSpPr>
        <p:spPr>
          <a:xfrm flipV="1">
            <a:off x="609480" y="5562000"/>
            <a:ext cx="3812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39"/>
          <p:cNvSpPr/>
          <p:nvPr/>
        </p:nvSpPr>
        <p:spPr>
          <a:xfrm>
            <a:off x="988920" y="83016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Bookman Old Style"/>
              </a:rPr>
              <a:t>TÉRMINOS DE LA LITERATURA MÉ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040"/>
          <p:cNvSpPr/>
          <p:nvPr/>
        </p:nvSpPr>
        <p:spPr>
          <a:xfrm>
            <a:off x="609480" y="6172200"/>
            <a:ext cx="381240" cy="228600"/>
          </a:xfrm>
          <a:prstGeom prst="rect">
            <a:avLst/>
          </a:prstGeom>
          <a:solidFill>
            <a:srgbClr val="ff82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41"/>
          <p:cNvSpPr/>
          <p:nvPr/>
        </p:nvSpPr>
        <p:spPr>
          <a:xfrm>
            <a:off x="1219320" y="60958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c7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8663"/>
                </a:solidFill>
                <a:latin typeface="Arial"/>
              </a:rPr>
              <a:t>COT, CRIB, CRADLE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onf 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p43-6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onf 25"/>
          <p:cNvPicPr/>
          <p:nvPr/>
        </p:nvPicPr>
        <p:blipFill>
          <a:blip r:embed="rId2"/>
          <a:stretch/>
        </p:blipFill>
        <p:spPr>
          <a:xfrm>
            <a:off x="3746520" y="0"/>
            <a:ext cx="539748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onf 24"/>
          <p:cNvPicPr/>
          <p:nvPr/>
        </p:nvPicPr>
        <p:blipFill>
          <a:blip r:embed="rId3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4"/>
          <p:cNvSpPr/>
          <p:nvPr/>
        </p:nvSpPr>
        <p:spPr>
          <a:xfrm>
            <a:off x="3505320" y="2209680"/>
            <a:ext cx="2286000" cy="304920"/>
          </a:xfrm>
          <a:prstGeom prst="leftRightArrow">
            <a:avLst>
              <a:gd name="adj1" fmla="val 50000"/>
              <a:gd name="adj2" fmla="val 14924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nestor3"/>
          <p:cNvPicPr/>
          <p:nvPr/>
        </p:nvPicPr>
        <p:blipFill>
          <a:blip r:embed="rId1"/>
          <a:stretch/>
        </p:blipFill>
        <p:spPr>
          <a:xfrm>
            <a:off x="2133720" y="0"/>
            <a:ext cx="33796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nestor2"/>
          <p:cNvPicPr/>
          <p:nvPr/>
        </p:nvPicPr>
        <p:blipFill>
          <a:blip r:embed="rId2"/>
          <a:stretch/>
        </p:blipFill>
        <p:spPr>
          <a:xfrm>
            <a:off x="0" y="0"/>
            <a:ext cx="2271600" cy="4114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nestor4"/>
          <p:cNvPicPr/>
          <p:nvPr/>
        </p:nvPicPr>
        <p:blipFill>
          <a:blip r:embed="rId3"/>
          <a:stretch/>
        </p:blipFill>
        <p:spPr>
          <a:xfrm>
            <a:off x="5105520" y="0"/>
            <a:ext cx="403848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377640" y="4648320"/>
            <a:ext cx="83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63"/>
                </a:solidFill>
                <a:latin typeface="Arial"/>
              </a:rPr>
              <a:t>Tío falleció a los 22 años de edad: salón de 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301680" y="5257800"/>
            <a:ext cx="84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6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663"/>
                </a:solidFill>
                <a:latin typeface="Arial"/>
              </a:rPr>
              <a:t>Niño falleció a los 12 años de edad: salon de operaci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80880" y="5867280"/>
            <a:ext cx="63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663"/>
                </a:solidFill>
                <a:latin typeface="Arial"/>
              </a:rPr>
              <a:t>Niña de 14 años con anomalías congén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750600" y="44604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Arial"/>
              </a:rPr>
              <a:t>Respues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856800" y="1258920"/>
            <a:ext cx="78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"/>
              </a:rPr>
              <a:t>Es la principal causa de muerte en USA,  en niñ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cc3300"/>
                </a:solidFill>
                <a:latin typeface="Arial"/>
              </a:rPr>
              <a:t>0-6 meses de edad y menores de 1 año e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4"/>
          <p:cNvSpPr/>
          <p:nvPr/>
        </p:nvSpPr>
        <p:spPr>
          <a:xfrm>
            <a:off x="457200" y="1447920"/>
            <a:ext cx="380880" cy="3808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Oval 5"/>
          <p:cNvSpPr/>
          <p:nvPr/>
        </p:nvSpPr>
        <p:spPr>
          <a:xfrm>
            <a:off x="457200" y="2514600"/>
            <a:ext cx="380880" cy="380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862920" y="2554200"/>
            <a:ext cx="807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Arial"/>
              </a:rPr>
              <a:t>Las </a:t>
            </a:r>
            <a:r>
              <a:rPr b="1" lang="es-ES" sz="2400" spc="-1" strike="noStrike">
                <a:solidFill>
                  <a:srgbClr val="33cc33"/>
                </a:solidFill>
                <a:latin typeface="Arial"/>
              </a:rPr>
              <a:t>grandes</a:t>
            </a:r>
            <a:r>
              <a:rPr b="1" lang="es-MX" sz="2400" spc="-1" strike="noStrike">
                <a:solidFill>
                  <a:srgbClr val="33cc33"/>
                </a:solidFill>
                <a:latin typeface="Arial"/>
              </a:rPr>
              <a:t> diferencias etnicas y raciales. Se obser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cc33"/>
                </a:solidFill>
                <a:latin typeface="Arial"/>
              </a:rPr>
              <a:t>más en niños  de la raza neg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Oval 7"/>
          <p:cNvSpPr/>
          <p:nvPr/>
        </p:nvSpPr>
        <p:spPr>
          <a:xfrm>
            <a:off x="457200" y="3657600"/>
            <a:ext cx="380880" cy="380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938520" y="3621240"/>
            <a:ext cx="834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Participación de los grandes monoplios : colc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especiales, monitor de apneas, medicamentos poten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Arial"/>
              </a:rPr>
              <a:t>y otros. Participación de los Seguros.</a:t>
            </a:r>
            <a:r>
              <a:rPr b="1" lang="es-MX" sz="2400" spc="-1" strike="noStrike">
                <a:solidFill>
                  <a:srgbClr val="00866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Objetivo: Mantener a la familia en la incertidumbr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990000" y="5334120"/>
            <a:ext cx="62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cc"/>
                </a:solidFill>
                <a:latin typeface="Arial"/>
              </a:rPr>
              <a:t>Proyectos de investigaciones millon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533520" y="533412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897840" y="590724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9933ff"/>
                </a:solidFill>
                <a:latin typeface="Arial"/>
              </a:rPr>
              <a:t>¡Jamás será el Juicio de DI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2"/>
          <p:cNvSpPr/>
          <p:nvPr/>
        </p:nvSpPr>
        <p:spPr>
          <a:xfrm>
            <a:off x="533520" y="5943600"/>
            <a:ext cx="380880" cy="3808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80880" y="380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Palatino Linotype"/>
              </a:rPr>
              <a:t>DIFERENCIAS ENTRE MUERTE SUBITA POR MAL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Palatino Linotype"/>
              </a:rPr>
              <a:t>Y MUERTE SUBITA DE CAUSA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529200" y="2136600"/>
            <a:ext cx="39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8f8f8"/>
                </a:solidFill>
                <a:uFillTx/>
                <a:latin typeface="Palatino Linotype"/>
              </a:rPr>
              <a:t>Factores en 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8f8f8"/>
                </a:solidFill>
                <a:uFillTx/>
                <a:latin typeface="Palatino Linotype"/>
              </a:rPr>
              <a:t>Muerte por mal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181480" y="2289240"/>
            <a:ext cx="358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8f8f8"/>
                </a:solidFill>
                <a:uFillTx/>
                <a:latin typeface="Palatino Linotype"/>
              </a:rPr>
              <a:t>Factores en la muerte   na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304920" y="3214800"/>
            <a:ext cx="426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Socioambientales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Historia de abuso en l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Divorcios o unión consens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fermedades 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Uso indebido de dro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Situaciones de crisis en la 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5186160" y="3621240"/>
            <a:ext cx="36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fermedad subya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fermedad Congé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fermedad metabó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Enfermedad Inflam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66"/>
                </a:solidFill>
                <a:latin typeface="Palatino Linotype"/>
              </a:rPr>
              <a:t>MUERTE SUBITA DE CAUSA</a:t>
            </a:r>
            <a:r>
              <a:rPr b="0" lang="es-ES_tradnl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s-ES_tradnl" sz="4000" spc="-1" strike="noStrike">
                <a:solidFill>
                  <a:srgbClr val="ffff66"/>
                </a:solidFill>
                <a:latin typeface="Palatino Linotype"/>
              </a:rPr>
              <a:t>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8f8f8"/>
                </a:solidFill>
                <a:uFillTx/>
                <a:latin typeface="Arial"/>
              </a:rPr>
              <a:t>Elementos a tener en cuenta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Comportamiento de los pad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dad de los niños  y hora de la defun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Observación cuidadosa y datos aportados. por los padres, medico u otro famil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Realización de la autops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Realización de otros estud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Muerte </a:t>
            </a:r>
            <a:r>
              <a:rPr b="1" lang="es-ES_tradnl" sz="4800" spc="-1" strike="noStrike">
                <a:solidFill>
                  <a:srgbClr val="ffff66"/>
                </a:solidFill>
                <a:latin typeface="Palatino Linotype"/>
              </a:rPr>
              <a:t>súbita</a:t>
            </a:r>
            <a:r>
              <a:rPr b="0" lang="es-ES_tradnl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ff66"/>
                </a:solidFill>
                <a:latin typeface="Times New Roman"/>
              </a:rPr>
              <a:t>por Maltr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8f8f8"/>
                </a:solidFill>
                <a:uFillTx/>
                <a:latin typeface="Arial"/>
              </a:rPr>
              <a:t>Elementos a tener en cuenta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Comportamiento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inexacto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 de los pad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Contradicciones en la entrev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Sintomatología sobredimenc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Presencia de indicios de malt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dad, APP de maltratos reiterados, el c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Examen físico completo (incluir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genitales</a:t>
            </a:r>
            <a:r>
              <a:rPr b="0" lang="es-ES_tradnl" sz="28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>
            <a:off x="1908000" y="2276640"/>
            <a:ext cx="5256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N</a:t>
            </a:r>
            <a:endParaRPr b="0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3b8"/>
            </a:gs>
            <a:gs pos="50000">
              <a:srgbClr val="ffccff"/>
            </a:gs>
            <a:gs pos="100000">
              <a:srgbClr val="fee3b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914400" y="30492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Verdana"/>
              </a:rPr>
              <a:t>PANEL DE EXPERTOS CONVOCADOS POR EL INSTITUTO NACIONAL DE SALUD  Y DESARROLLO DE LOS ESTADOS UNIDOS ENTRE 1987-1990 , PROMULGÓ LA SIGUIENTE  DEFINICIÓ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75400" y="1919160"/>
            <a:ext cx="8419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“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LA MUERTE SÚBITA DE UN  LACTANTE  POR DE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E UN AÑO DE EDAD, LA CUAL PERMAN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EXPLICADA DESPUÉS  DE LA RE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E UNA INVESTIGACIÓN POSMORTEM 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CLUIDA LA AUTOPSIA, UN  EXAMEN  DE LA ESC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E LA MUERTE Y UNA REVISIÓN DE LA HISTO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CLÍNICA DEL CAS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012680" y="982800"/>
            <a:ext cx="729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Times New Roman"/>
              </a:rPr>
              <a:t>BERGMAN, BECKWITH Y RAY, EN LA SEGUNDA CONFERENCIA INTERNACIONAL DE PROCEDERES SOBRE LAS CAUSAS DE MUERTE SUBITA EN NIÑOS  CELEBRADA EN SEATLE (1970 1973), PROPUSIERON LA SIGUIENTE DEFINICIÓ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066680" y="2209680"/>
            <a:ext cx="67597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“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MUERTE SÚBITA DE CUALQU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CTANTE O NIÑO JOVEN,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QUELLA MUERTE INESPERAD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HISTORIA Y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CUAL UN EXAMEN POSTMORTE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ALLA PARA REVELAR LAS CAUSA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A MUERTE”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8120" y="83808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447920" y="2209680"/>
            <a:ext cx="584496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Garamond"/>
              </a:rPr>
              <a:t>NAEYE  Y COLS., LA CONSIDERAN  COMO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“  </a:t>
            </a: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LA  MUERTE DE UN NIÑ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APARENTEM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SANO , EN EL CUAL  UN EXAME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POSTMOR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DE RUTINA NO PERMITE IDENTIFICAR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Garamond"/>
              </a:rPr>
              <a:t>CAUSAS DE LA MUERTE 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669760" y="380880"/>
            <a:ext cx="3852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EORIAS PATOGÉ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SzPct val="140000"/>
              <a:buFont typeface="Arial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ofocacion, asfixia y las crisis de apneas = a hipox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ró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904040" y="213372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perplasia del seno caroti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208240" y="251460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liosis del cerebr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04920" y="2895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lteraciones de la formación reticular, desmieli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nervio vag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62720" y="3884760"/>
            <a:ext cx="761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SzPct val="140000"/>
              <a:buFont typeface="Arial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Las infecciones de las vías aéreas o generaliz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27040" y="457200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irus Sincitial respiratorio, Herpes vir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itomegalovirus, Adenovirus, Dengue y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201680" y="525780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cherichia coli, Streptococus B hemolít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eptococo pneumoniae, Klebsiella, Estaf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cocos, Neisseria meningit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37000" y="1159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(Continu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27400" y="649440"/>
            <a:ext cx="79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SzPct val="140000"/>
              <a:buFont typeface="Arial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stornos cardiovasculares congénitos o adquir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29200" y="110664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ocarditis v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5400" y="152388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igen anómalo de las arterias coron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523160" y="1981080"/>
            <a:ext cx="55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plasia ventricular arritm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521720" y="243828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iocardiopatía dila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447920" y="3200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longación del intervalo QT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600200" y="2819520"/>
            <a:ext cx="68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alteraciones del sistema de con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600200" y="358128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600480" y="415440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SzPct val="140000"/>
              <a:buFont typeface="Arial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stornos congénitos o adquiridos del metabo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599120" y="4572000"/>
            <a:ext cx="42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rrores del ciclo de la u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447560" y="5029200"/>
            <a:ext cx="72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dos desórdenes de los aminoá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523880" y="5562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idemías orgá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445040" y="609588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astornos del metabolismo de la glu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457200" y="185760"/>
          <a:ext cx="8686800" cy="667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5760"/>
                    <a:ext cx="868680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WordArt 3"/>
          <p:cNvSpPr txBox="1"/>
          <p:nvPr/>
        </p:nvSpPr>
        <p:spPr>
          <a:xfrm>
            <a:off x="1066680" y="0"/>
            <a:ext cx="6575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TEORÍAS  PATOGÉNICAS 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914400" y="3733920"/>
            <a:ext cx="13651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cc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UERTE SÚBITA</a:t>
            </a:r>
            <a:endParaRPr b="0" lang="en-US" sz="1800" spc="1" strike="noStrike">
              <a:ln w="9360">
                <a:solidFill>
                  <a:srgbClr val="cccc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WordArt 5"/>
          <p:cNvSpPr txBox="1"/>
          <p:nvPr/>
        </p:nvSpPr>
        <p:spPr>
          <a:xfrm rot="5400000">
            <a:off x="1283040" y="2145240"/>
            <a:ext cx="169992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196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1981080" y="914400"/>
            <a:ext cx="1143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197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3505320" y="1676520"/>
            <a:ext cx="2819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1970-198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3352680" y="3429000"/>
            <a:ext cx="222732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1980-199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3276720" y="4952880"/>
            <a:ext cx="17524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00dc"/>
                </a:solidFill>
                <a:latin typeface="Arial Black"/>
              </a:rPr>
              <a:t>1990-20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00dc"/>
              </a:solidFill>
              <a:latin typeface="Arial Black"/>
              <a:ea typeface="Arial Black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2247480" y="4762440"/>
            <a:ext cx="12956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2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3733920" y="685800"/>
            <a:ext cx="15238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ASFIXI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3505320" y="1066680"/>
            <a:ext cx="1904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SOFOCACIÓ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6934320" y="16765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IPOXIA  CRÓNIC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6553080" y="3429000"/>
            <a:ext cx="2057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RISIS DE APN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5867280" y="4495680"/>
            <a:ext cx="1905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dff"/>
                </a:solidFill>
                <a:latin typeface="Arial Black"/>
              </a:rPr>
              <a:t>DECÚBITO PRO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8dff"/>
              </a:solidFill>
              <a:latin typeface="Arial Black"/>
              <a:ea typeface="Arial Black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6629400" y="4876920"/>
            <a:ext cx="169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00dc"/>
                </a:solidFill>
                <a:latin typeface="Arial Black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c00dc"/>
              </a:solidFill>
              <a:latin typeface="Arial Black"/>
              <a:ea typeface="Arial Black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5943600" y="5181480"/>
            <a:ext cx="19051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00dc"/>
                </a:solidFill>
                <a:latin typeface="Arial Black"/>
              </a:rPr>
              <a:t>DECÚBITO SUPI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dc00dc"/>
              </a:solidFill>
              <a:latin typeface="Arial Black"/>
              <a:ea typeface="Arial Black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2057400" y="5867280"/>
            <a:ext cx="17524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INTERVALO  Q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2133720" y="6172200"/>
            <a:ext cx="16002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PROLONGA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160" y="380880"/>
            <a:ext cx="275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ff0000"/>
                </a:solidFill>
                <a:uFillTx/>
                <a:latin typeface="Arial"/>
              </a:rPr>
              <a:t>Me pregu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447920"/>
            <a:ext cx="380880" cy="2286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0"/>
          </a:gra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987480" y="1295280"/>
            <a:ext cx="778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¿ Por qué los EE.UU. mantiene en la incertidumb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sus ciudadanos con relación a la muerte súbit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514600"/>
            <a:ext cx="380880" cy="2286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067760" y="25146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¿Por qué cada 10 años una Nueva Teorí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57200" y="3352680"/>
            <a:ext cx="380880" cy="22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0"/>
          </a:gra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064520" y="327672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¿Por qué tanta propaganda en todos los medio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57200" y="4114800"/>
            <a:ext cx="380880" cy="228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62120" y="4038480"/>
            <a:ext cx="81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¿Por qué es un tema priorizado por el Congres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US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57200" y="5257800"/>
            <a:ext cx="380880" cy="2286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0"/>
          </a:gra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837360" y="5181480"/>
            <a:ext cx="76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5940ec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3333ff"/>
                </a:solidFill>
                <a:latin typeface="Times New Roman"/>
              </a:rPr>
              <a:t>¿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Por qué se toma el derecho de certificar qué 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es una muerte súbita o síndrome de muerte súb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3333ff"/>
                </a:solidFill>
                <a:latin typeface="Arial"/>
              </a:rPr>
              <a:t>del lactante (SMSL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19:59:35Z</dcterms:created>
  <dc:creator>arelys</dc:creator>
  <dc:description/>
  <dc:language>en-US</dc:language>
  <cp:lastModifiedBy>carolina</cp:lastModifiedBy>
  <dcterms:modified xsi:type="dcterms:W3CDTF">2008-09-14T21:49:21Z</dcterms:modified>
  <cp:revision>21</cp:revision>
  <dc:subject/>
  <dc:title>Sin título de diapositiva</dc:title>
</cp:coreProperties>
</file>