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0AA1-2EA2-40FC-80D2-C2B282C1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0F5-FC4E-47EF-B85E-A5490F5AA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B8C-95CA-4B63-9C73-B94FA358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5CF-CC10-45E7-BC77-E20AC125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781-2C2B-4617-ADBD-771B5005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820-2D30-42F2-8EFB-9DD6D2813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BBA-CB78-452F-8A58-10DDEFA1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C52-F661-4298-A156-4EC81FCF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FA4-472F-4330-A980-0521B218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01EB-CED4-4B5E-AB18-4F1BFCE6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B960-4DB9-4765-A77F-3F351B41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607-B2A4-4964-A4ED-7D9A3A6D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7560-E76A-4968-B1AB-ABFAEF64B5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99"/>
                </a:solidFill>
                <a:latin typeface="Arial"/>
              </a:rPr>
              <a:t>ENFERMEDAD DE PARKINS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267080"/>
            <a:ext cx="7391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ra. Susana Hierrezuelo Cort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Especialista II Grado Medicina Física y Rehabilit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6920" y="350028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ehabil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80880"/>
            <a:ext cx="807732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TRATAMIENTO QUIRÚR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447920"/>
            <a:ext cx="8381880" cy="51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Existen tres técnicas quirúrgicas para el tratamiento de la Enfermedad del Parkins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Transplantes de células mad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(pluripotenciale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Lesiones cerebr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624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Palidotomí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624"/>
              </a:spcBef>
              <a:buClr>
                <a:srgbClr val="0033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Talamotomí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Estimulación cerebral profund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(</a:t>
            </a:r>
            <a:r>
              <a:rPr b="1" i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Deep Brain Stimulation</a:t>
            </a:r>
            <a:r>
              <a:rPr b="1" lang="es-E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38088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1981080"/>
            <a:ext cx="7086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Times New Roman"/>
              </a:rPr>
              <a:t>Los ejercicios físicos son básicos para los pacientes con Enfermedad de Parkinson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9144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¿Qué podemos rehabilit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523880"/>
            <a:ext cx="845820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l Lenguaje ( la voz y articulación de las palabra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scritura y otras actividades de la vida cotidiana (utilización de cubiertos, vestirse, ducharse..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Caminar, caídas, est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xtensión de cuello y extremida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olores lumbares y articu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Rigid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014480"/>
            <a:ext cx="853416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Para tratar esta enfermedad, es necesario tener  en cuenta la clasificación por estadios atendiendo al grado de su evol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sta clasificación se establece a partir de l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Escala de Höech  y Yahr (1917)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la cual plante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stadio 1 (leve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)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: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-Síntomas característicos, cambio en la postura, aparece el temblor en reposo, su incio comienza por la zona distal de un lado del cuer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stadio 2 (Moderado</a:t>
            </a:r>
            <a:r>
              <a:rPr b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):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Aparece la hipocinesia  con movimientos mucho más lentos, parpadeos, gestos expresivos con manos, se ven disminuidos los movimientos de ajuste post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1371600"/>
            <a:ext cx="85341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stadio 3 (moderado severo</a:t>
            </a:r>
            <a:r>
              <a:rPr b="0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):</a:t>
            </a: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 -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Movimientos más lentos en general y disminución de la actividad motora, con frecuencia  hay dificultad o demora para iniciar los mov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stadio 4 (Severo):</a:t>
            </a:r>
            <a:r>
              <a:rPr b="0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 -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Hay significativa incapacidad o invalidismo, no es capaz de virarse solo, no hay incremento del temblor; sin embargo la rigidez y la hipocinesia aumenta considerabl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stadio 5 (Invalidismo total):</a:t>
            </a:r>
            <a:r>
              <a:rPr b="0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 -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i logra sobrevivir lo suficiente llega a alcanzar el estadio de completo invalidismo,  se mantiene confinado a la cama o silla con una severa hipocinesia y rigid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1295280"/>
            <a:ext cx="800100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324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PROGRAMA DE REHABILITACION FISICA: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i="1" lang="es-ES_tradnl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OBJETIVOS GENERA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revenir el desarrollo de limitaciones osteoarticulares y complicaciones respiratorias evolutiv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Incrementar las capacidades físicas  generales y la capacidad funcional de la marcha de los pac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 algn="just">
              <a:spcBef>
                <a:spcPts val="125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orregir o compensar las limitaciones motoras relacionadas a trastornos de posturas , equilibrio y march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3240" indent="-34272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1295280"/>
            <a:ext cx="84582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82480" indent="-582480"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OBJETIVOS ESPECÌ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2480" indent="-582480"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umentar, en forma general, la amplitud articular y la flexibilidad, especialmente en los miembros af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2480" indent="-582480"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ncrementar la movilidad torácica y la función respirat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2480" indent="-582480"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Fortalecer la musculatura que incide en la mecánica respirato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2480" indent="-582480" algn="just"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Aumentar la resistencia general del paciente y mejorar la capacidad de respuesta al ejerc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066680"/>
            <a:ext cx="8381880" cy="57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	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OBJETIVOS ESPECÌFICOS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Evitar o corregir las retracciones tendinosas y deformidades posturales que estén asoci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Mejorar el equilibrio, la coordinación y  el ritmo del movimiento asociado a la locomo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Reeducar los patrones de la marcha y los gir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Contribuir al mejoramiento de los reflejos postur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Contribuir a la eliminación de los bloqueos de la march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Incrementar la capacidad general de la march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2120" y="0"/>
            <a:ext cx="807696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762120"/>
            <a:ext cx="8382240" cy="58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ETAPAS DEL PROGRAMA DE REHABILITACION FISICA</a:t>
            </a:r>
            <a:r>
              <a:rPr b="1" lang="es-ES_tradnl" sz="2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I ET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tapa  de acondicionamien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I ETAP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tapa de acondicionamiento específico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II ETAP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tapa Prefuncional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V ET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Funcional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981080"/>
            <a:ext cx="80769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Objetivos</a:t>
            </a:r>
            <a:r>
              <a:rPr b="1" i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específicos</a:t>
            </a:r>
            <a:r>
              <a:rPr b="1" i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fluir de manera positiva, sobre la rigidez y la hipocinesia para mejorar la amplitud articular y la flexibilidad músculo - ligamentos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Mejorar la fuerza muscular, la función respiratoria y la resistencia general del pa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2193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I ETAP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Etapa  de acondicionamiento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95280" y="6858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11 de abril: Día Mundial del Parkinso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5638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Si tienes Parkinson, no lo vivas solo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51460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Times New Roman"/>
              </a:rPr>
              <a:t>James Parkinson  1817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Dr. James Parkinson"/>
          <p:cNvPicPr/>
          <p:nvPr/>
        </p:nvPicPr>
        <p:blipFill>
          <a:blip r:embed="rId1"/>
          <a:stretch/>
        </p:blipFill>
        <p:spPr>
          <a:xfrm>
            <a:off x="5715000" y="2362320"/>
            <a:ext cx="1927080" cy="2409840"/>
          </a:xfrm>
          <a:prstGeom prst="rect">
            <a:avLst/>
          </a:prstGeom>
          <a:ln w="7632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8288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Los ejercicios deben ser amplios, rítmicos, repetidos y conjugado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523880"/>
            <a:ext cx="70106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33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Con voz de mando y enérgico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3376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Deben mantenerse a lo largo de toda la vid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914400"/>
            <a:ext cx="82296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EJERCICIOS RESPIRA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Explicar y demostrar la mecánica respirat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spirar el aire profundo por la nariz y expulsarlo lento por la bo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dem pero con elevación lateral de braz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dem con extensión y flexión del cu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oplar un glob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oplar una vela encendida o una pelota ping-pong a una dista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dem a través de un tub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Soplar una mota de algod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447920"/>
            <a:ext cx="83059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PARA LA DISMINUCION DE LA RIGIDEZ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PARA MEJORAR LA AMPLITUD ARTICULAR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99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996600"/>
                </a:solidFill>
                <a:latin typeface="Arial"/>
                <a:ea typeface="Times New Roman"/>
              </a:rPr>
              <a:t> </a:t>
            </a:r>
            <a:r>
              <a:rPr b="1" lang="es-ES_tradnl" sz="3200" spc="-1" strike="noStrike">
                <a:solidFill>
                  <a:srgbClr val="996600"/>
                </a:solidFill>
                <a:latin typeface="Arial"/>
                <a:ea typeface="Times New Roman"/>
              </a:rPr>
              <a:t>EJERCICIOS DE  FORTALECIMIENTO</a:t>
            </a: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7848720" cy="43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r>
              <a:rPr b="1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Objetivos</a:t>
            </a:r>
            <a:r>
              <a:rPr b="1" i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específ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Continuar el desarrollo de los objetivos de la etapa an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cidir en el mejoramiento de los problemas postu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Mejorar el equilibrio y la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Reeducar los patrones de la marcha.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I ETAPA: Etapa de acondicionamiento especí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523880"/>
            <a:ext cx="8229600" cy="48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ctividades</a:t>
            </a:r>
            <a:r>
              <a:rPr b="1" i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necesarias  para darle cumplimiento a los objetivos de la etapa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Tareas fundamentales para el trabajo de los problemas postur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Conciencia propioceptiva de la postura correcta (explicación y demostració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o frente al espejo ,corrección de la postura,(sedestación y bipedestació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Gimnasia correc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1066680"/>
            <a:ext cx="7772400" cy="60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DE EQUILIBRIO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o en el colch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o en la tabla de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ariantes de 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DE COORDINACION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o en el colchón</a:t>
            </a: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o en sed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o en bipedes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Variante con bastón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 PARA  REEDUCAR LOS PATRONES DE LA MARC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</a:t>
            </a:r>
            <a:r>
              <a:rPr b="0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xplicar y demostrar las características de la marcha normal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1752480"/>
            <a:ext cx="84582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Objetivos</a:t>
            </a:r>
            <a:r>
              <a:rPr b="1" i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s-ES_tradnl" sz="22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específicos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Continuar ejercitando las actividades de la etapa anter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ar en el equilibrio y la coordinación de forma dinám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Entrenamiento de los patrones de la marcha con postura adecu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Entrenar los giros y ejercitar el ritmo de los movimi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Contribuir al mejoramiento de los reflejos postur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200" spc="-1" strike="noStrike">
                <a:solidFill>
                  <a:srgbClr val="003366"/>
                </a:solidFill>
                <a:latin typeface="Arial"/>
                <a:ea typeface="Times New Roman"/>
              </a:rPr>
              <a:t>Trabajar para eliminar los bloqueos de la marcha.</a:t>
            </a:r>
            <a:r>
              <a:rPr b="1" lang="es-ES" sz="2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143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II ETAPA: Etapa Prefu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1600200"/>
            <a:ext cx="822960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ctividades</a:t>
            </a:r>
            <a:r>
              <a:rPr b="1" i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s-ES_tradnl" sz="18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necesarias  para darle cumplimiento a los objetivos de la etapa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DE EQUILIBRIO DINÁM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DE COORDINACION EN LA MAR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DE GIROS EN LA MAR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PARA RESCATAR LOS REFLEJOS  POSTU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1800" spc="-1" strike="noStrike">
                <a:solidFill>
                  <a:srgbClr val="003366"/>
                </a:solidFill>
                <a:latin typeface="Arial"/>
                <a:ea typeface="Times New Roman"/>
              </a:rPr>
              <a:t>EJERCICIOS PARA ELIMINAR LOS BLOQUEOS DE  LA MARCH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752480"/>
            <a:ext cx="8001000" cy="49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Objetivos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específicos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Integración de todos los elementos reeducativo para las habilidades motrices utilit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Lograr que el paciente alcance las mejores capacidades posibles que le permitan reintegrarse a las actividades sociales cotidi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Perfeccionar el equilibrio, la coordinación, el ritmo, la marcha y los gi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10666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V   ETAPA: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Funcional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8381880" cy="520560"/>
          </a:xfrm>
          <a:prstGeom prst="rect">
            <a:avLst/>
          </a:prstGeom>
          <a:solidFill>
            <a:srgbClr val="bbe0e3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 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¿QUÉ ES LA ENFERMEDAD DE PARKINS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523880"/>
            <a:ext cx="8001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Es una enfermedad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crónica, progresiva y degenerativa del SNC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, debido a la falta de una sustancia llamada dopamina en el tronco cereb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Consiste en u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desorden crónico y degenerativ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de una de las partes del cerebro que controla el sistema motor y se manifiesta con un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pérdida progresiva de la capacidad de coordinar los movimient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1219320"/>
            <a:ext cx="815328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Actividades</a:t>
            </a:r>
            <a:r>
              <a:rPr b="1" i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i="1" lang="es-ES_tradnl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necesarias  para darle cumplimiento a los objetivos de la etapa</a:t>
            </a: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ENTRENAMIENTO DE LA MARCHA C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Orientación previa a las actividades a realiz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olocar obstáculos en línea recta y caminar entre  ellos evitándo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Pistas visu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Realizar un circuito de trabajo que presente: terrenos irregulares, con dificultades, cambio de dirección, sobrepasando obstáculos, ascender y descender escaleras, espacios redu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aminar distancias con cambio de velocidad(lento-rápido-len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aminar con bastones en pare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Caminar y correr.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057400"/>
            <a:ext cx="807732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INTEGRAR TODOS LOS ELEMENTOS REEDUCATIVOS EN LA MARCHA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Symbol"/>
                <a:ea typeface="Symbol"/>
              </a:rPr>
              <a:t></a:t>
            </a:r>
            <a:r>
              <a:rPr b="1" lang="es-ES_tradnl" sz="3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      </a:t>
            </a:r>
            <a:r>
              <a:rPr b="1" lang="es-ES_tradnl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Equilibrio, coordinación, el ritmo y los gi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85800" y="304920"/>
            <a:ext cx="80773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TRATAMIENTO REHABILITA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1447920"/>
            <a:ext cx="7543800" cy="4969800"/>
          </a:xfrm>
          <a:prstGeom prst="rect">
            <a:avLst/>
          </a:prstGeom>
          <a:solidFill>
            <a:srgbClr val="bbe0e3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Arial"/>
              </a:rPr>
              <a:t>Se debe intentar conseguir un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Arial"/>
              </a:rPr>
              <a:t>abordaje integral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Arial"/>
              </a:rPr>
              <a:t> del paciente con Parkinson que abarque el tratamiento farmacológico, la fisioterapia y rehabilitación, los consejos dietéticos, la terapia ocupacional y la psicoterapi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533520"/>
            <a:ext cx="7467480" cy="58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CL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l Diagnóstico y Tratamiento de la Enfermedad de Parkinson tiene que s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EC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CTUACIÓN DE EQUIPO MULTIDISCIPL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NTENERSE A LO LARGO DE TODA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OYO FAMILIAR Y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295280"/>
            <a:ext cx="830592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El </a:t>
            </a:r>
            <a:r>
              <a:rPr b="1" lang="es-ES_tradnl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estimado en Cuba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, aunque no existe estudios epidemiológicos sobre el comportamiento de la enfermedad, es que existen más de  </a:t>
            </a:r>
            <a:r>
              <a:rPr b="1" lang="es-ES_tradnl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veinte mil sujetos parkinsonianos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y esa cifra aumenta a más de treinta mil  en los próximos veinticinco años, considerado las taza de envejecimiento poblacional en Cuba que para el año 2025 pronostica más de un 20% de población mayor de sesenta añ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En </a:t>
            </a:r>
            <a:r>
              <a:rPr b="1" lang="es-ES_tradnl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América  Latina</a:t>
            </a:r>
            <a:r>
              <a:rPr b="1" lang="es-ES_tradnl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el estimado es aproximadamente </a:t>
            </a:r>
            <a:r>
              <a:rPr b="1" lang="es-ES_tradnl" sz="2600" spc="-1" strike="noStrike">
                <a:solidFill>
                  <a:srgbClr val="ff0000"/>
                </a:solidFill>
                <a:latin typeface="Arial"/>
                <a:ea typeface="Times New Roman"/>
              </a:rPr>
              <a:t>más de un millón de parquinsonian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304920"/>
            <a:ext cx="4419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PIDEMIOLOG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19320" y="304920"/>
            <a:ext cx="6553080" cy="947160"/>
          </a:xfrm>
          <a:prstGeom prst="rect">
            <a:avLst/>
          </a:prstGeom>
          <a:solidFill>
            <a:srgbClr val="bbe0e3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  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ÍNTOMAS CARDINALES DE LA ENFERMEDAD DE PARK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676520"/>
            <a:ext cx="731520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Temb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Rigid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Hipoci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Bradici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Pérdida de reflejos postur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219320" y="304920"/>
            <a:ext cx="6553080" cy="947160"/>
          </a:xfrm>
          <a:prstGeom prst="rect">
            <a:avLst/>
          </a:prstGeom>
          <a:solidFill>
            <a:srgbClr val="bbe0e3"/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  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SÍNTOMAS SECUNDARIOS DE LA ENFERMEDAD DE PARKIN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1828800"/>
            <a:ext cx="4496040" cy="47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Depre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Disfag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Trastornos del Lengua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Problemas Urin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Estreñi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Trastornos del Su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Hipomim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3366"/>
                </a:solidFill>
                <a:latin typeface="Arial"/>
              </a:rPr>
              <a:t>Acines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66880" y="457200"/>
            <a:ext cx="37339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AGNÓS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00200"/>
            <a:ext cx="73915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Fundamentalmente Cl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99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A partir de Sínt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 confirmar el Diagnóstic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Tomografía Axial Computerizada (TAC)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xámenes de los Reflejos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étodo más importan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OBSERVACIÓ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981080" y="304920"/>
            <a:ext cx="51818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Arial"/>
                <a:ea typeface="Arial"/>
              </a:rPr>
              <a:t>TRATAMIE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657600"/>
            <a:ext cx="784872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Encaminado 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Reducir la velocidad de progresión de la enferme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624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  <a:ea typeface="Times New Roman"/>
              </a:rPr>
              <a:t>Controlar los síntomas y los efectos secundarios derivados de los fármacos que se usan para combatirl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1447920"/>
            <a:ext cx="4114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é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Quirúr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Rehabilit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b0b3"/>
            </a:gs>
            <a:gs pos="50000">
              <a:srgbClr val="bbe0e3"/>
            </a:gs>
            <a:gs pos="100000">
              <a:srgbClr val="93b0b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  <a:ea typeface="Arial"/>
              </a:rPr>
              <a:t>TRATAMIENTO MÉD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523880"/>
            <a:ext cx="8001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epende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E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Grado de afectación fu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Actividades particulares a las que se ded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Complicaciones derivadas del tratamiento que vayan apareciendo a medida que la enfermedad av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04:57:14Z</dcterms:created>
  <dc:creator>Yoa</dc:creator>
  <dc:description/>
  <dc:language>en-US</dc:language>
  <cp:lastModifiedBy>Sierra®</cp:lastModifiedBy>
  <dcterms:modified xsi:type="dcterms:W3CDTF">2006-02-03T06:17:46Z</dcterms:modified>
  <cp:revision>37</cp:revision>
  <dc:subject/>
  <dc:title>Diapositiva 1</dc:title>
</cp:coreProperties>
</file>