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4C4-F9DD-4B27-B6A2-33FC6555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F7B-2120-4BF8-A0FA-A5DCC640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084-2A73-431C-BDE5-24D0F3C5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533-5C6B-4BE8-B9D1-85D9D886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BCE0-55BE-451E-AF89-9C9A573E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9C4-B304-4F32-939B-C1401D57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D2DC-C8EB-4E60-B8F7-5F059508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C48-6482-43E0-8AD7-9E8C5F9F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8518-380F-4529-A1FE-B29B689D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BE9-7ABF-4721-A4CE-071518A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8E2-5918-43C1-895E-94B42039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8F47-13E9-4855-80FD-955CC165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6B53-FF40-4803-A712-62DA5A476EB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ENFERMEDAD DE PARKINS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26708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a. Susana Hierrezuelo Cor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pecialista II Grado Medicina Física y Rehabil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6920" y="350028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habil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80880"/>
            <a:ext cx="80773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TRATAMIENTO QUIRÚR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447920"/>
            <a:ext cx="838188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xisten tres técnicas quirúrgicas para el tratamiento de la Enfermedad del Parkin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Transplantes de células mad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(pluripotencial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Lesiones cerebr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62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Palidotomí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62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Talamotomí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stimulación cerebral profund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(</a:t>
            </a:r>
            <a:r>
              <a:rPr b="1" i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Deep Brain Stimulation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19810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Los ejercicios físicos son básicos para los pacientes con Enfermedad de Parkinson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144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Qué podemos rehabilit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523880"/>
            <a:ext cx="84582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l Lenguaje ( la voz y articulación de las palabra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scritura y otras actividades de la vida cotidiana (utilización de cubiertos, vestirse, ducharse..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aminar, caídas, est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xtensión de cuello y extrem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olores lumbares y articu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Rigid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014480"/>
            <a:ext cx="853416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Para tratar esta enfermedad, es necesario tener  en cuenta la clasificación por estadios atendiendo al grado de su ev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sta clasificación se establece a partir de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Escala de Höech  y Yahr (1917)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la cual plant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1 (leve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)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-Síntomas característicos, cambio en la postura, aparece el temblor en reposo, su incio comienza por la zona distal de un lado del cue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2 (Moderado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):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Aparece la hipocinesia  con movimientos mucho más lentos, parpadeos, gestos expresivos con manos, se ven disminuidos los movimientos de ajuste pos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371600"/>
            <a:ext cx="8534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3 (moderado severo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):</a:t>
            </a: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-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ovimientos más lentos en general y disminución de la actividad motora, con frecuencia  hay dificultad o demora para iniciar los mov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4 (Severo):</a:t>
            </a:r>
            <a:r>
              <a:rPr b="0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-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Hay significativa incapacidad o invalidismo, no es capaz de virarse solo, no hay incremento del temblor; sin embargo la rigidez y la hipocinesia aumenta considerabl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5 (Invalidismo total):</a:t>
            </a:r>
            <a:r>
              <a:rPr b="0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-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i logra sobrevivir lo suficiente llega a alcanzar el estadio de completo invalidismo,  se mantiene confinado a la cama o silla con una severa hipocinesia y rigid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295280"/>
            <a:ext cx="80010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PROGRAMA DE REHABILITACION FISIC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evenir el desarrollo de limitaciones osteoarticulares y complicaciones respiratorias evolut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crementar las capacidades físicas  generales y la capacidad funcional de la marcha de los 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rregir o compensar las limitaciones motoras relacionadas a trastornos de posturas , equilibrio y mar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295280"/>
            <a:ext cx="84582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5824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JETIVOS ESPECÌ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2480" indent="-582480"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umentar, en forma general, la amplitud articular y la flexibilidad, especialmente en los miembros af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2480" indent="-582480"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ncrementar la movilidad torácica y la función respirat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2480" indent="-582480"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rtalecer la musculatura que incide en la mecánica respirat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2480" indent="-582480"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umentar la resistencia general del paciente y mejorar la capacidad de respuesta al ejerc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066680"/>
            <a:ext cx="838188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JETIVOS ESPECÌFICO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vitar o corregir las retracciones tendinosas y deformidades posturales que estén asoci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Mejorar el equilibrio, la coordinación y  el ritmo del movimiento asociado a la locomo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Reeducar los patrones de la marcha y los gi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Contribuir al mejoramiento de los reflejos postu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Contribuir a la eliminación de los bloqueos de la march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Incrementar la capacidad general de la march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0"/>
            <a:ext cx="80769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762120"/>
            <a:ext cx="8382240" cy="58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TAPAS DEL PROGRAMA DE REHABILITACION FISICA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 ET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tapa  de acondicionamien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I ETAP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tapa de acondicionamiento específico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II ETAP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tapa Prefuncional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V ET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Funcional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981080"/>
            <a:ext cx="80769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Objetivos</a:t>
            </a:r>
            <a:r>
              <a:rPr b="1" i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specíficos</a:t>
            </a:r>
            <a:r>
              <a:rPr b="1" i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fluir de manera positiva, sobre la rigidez y la hipocinesia para mejorar la amplitud articular y la flexibilidad músculo - ligamento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ejorar la fuerza muscular, la función respiratoria y la resistencia general del pa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21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 ETAP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Etapa  de acondicionamien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6858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11 de abril: Día Mundial del Parkinso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638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Si tienes Parkinson, no lo vivas solo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146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James Parkinson  181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r. James Parkinson"/>
          <p:cNvPicPr/>
          <p:nvPr/>
        </p:nvPicPr>
        <p:blipFill>
          <a:blip r:embed="rId1"/>
          <a:stretch/>
        </p:blipFill>
        <p:spPr>
          <a:xfrm>
            <a:off x="5715000" y="2362320"/>
            <a:ext cx="1927080" cy="24098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8288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Los ejercicios deben ser amplios, rítmicos, repetidos y conjugad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523880"/>
            <a:ext cx="7010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on voz de mando y enérgic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3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Deben mantenerse a lo largo de toda la vid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14400"/>
            <a:ext cx="82296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JERCICIOS RESPIR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xplicar y demostrar la mecánic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spirar el aire profundo por la nariz y expulsarlo lento por la b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dem pero con elevación lateral de braz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dem con extensión y flexión del cu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oplar un glo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oplar una vela encendida o una pelota ping-pong a una di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dem a través de un tu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oplar una mota de algod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059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PARA LA DISMINUCION DE LA RIGIDEZ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PARA MEJORAR LA AMPLITUD ARTICULAR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6600"/>
                </a:solidFill>
                <a:latin typeface="Arial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996600"/>
                </a:solidFill>
                <a:latin typeface="Arial"/>
                <a:ea typeface="Times New Roman"/>
              </a:rPr>
              <a:t>EJERCICIOS DE  FORTALECIMIENTO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784872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Objetivos</a:t>
            </a:r>
            <a:r>
              <a:rPr b="1" i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specíf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Continuar el desarrollo de los objetivos de la etap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cidir en el mejoramiento de los problemas postu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ejorar el equilibrio y l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Reeducar los patrones de la marcha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I ETAPA: Etapa de acondicionamiento espec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23880"/>
            <a:ext cx="822960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ctividades</a:t>
            </a:r>
            <a:r>
              <a:rPr b="1" i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necesarias  para darle cumplimiento a los objetivos de la etapa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areas fundamentales para el trabajo de los problemas postur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Conciencia propioceptiva de la postura correcta (explicación y demostració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frente al espejo ,corrección de la postura,(sedestación y bipedestació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Gimnasia corr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066680"/>
            <a:ext cx="77724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EQUILIBRI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el colch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la tabla de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ariantes de 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COORDINACION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el colchón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sed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biped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ariante con bastón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 PARA  REEDUCAR LOS PATRONES DE LA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plicar y demostrar las características de la marcha normal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752480"/>
            <a:ext cx="8458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Objetivos</a:t>
            </a:r>
            <a:r>
              <a:rPr b="1" i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specíficos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Continuar ejercitando las actividades de la etapa ant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ar en el equilibrio y la coordinación de forma dinám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Entrenamiento de los patrones de la marcha con postura adecu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Entrenar los giros y ejercitar el ritmo de los mov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Contribuir al mejoramiento de los reflejos postur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ar para eliminar los bloqueos de la marcha.</a:t>
            </a:r>
            <a:r>
              <a:rPr b="1" lang="es-ES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II ETAPA: Etapa Pre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82296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ctividades</a:t>
            </a:r>
            <a:r>
              <a:rPr b="1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necesarias  para darle cumplimiento a los objetivos de la etapa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EQUILIBRIO DINÁ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COORDINACION EN LA MAR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GIROS EN LA MAR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PARA RESCATAR LOS REFLEJOS  POS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PARA ELIMINAR LOS BLOQUEOS DE  LA MAR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752480"/>
            <a:ext cx="8001000" cy="49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Objetivos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specíficos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tegración de todos los elementos reeducativo para las habilidades motrices utili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Lograr que el paciente alcance las mejores capacidades posibles que le permitan reintegrarse a las actividades sociales cotidi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Perfeccionar el equilibrio, la coordinación, el ritmo, la marcha y los gi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V   ETAPA: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uncional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381880" cy="5205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¿QUÉ ES LA ENFERMEDAD DE PARKINS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523880"/>
            <a:ext cx="8001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s una enfermedad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rónica, progresiva y degenerativa del SNC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, debido a la falta de una sustancia llamada dopamina en el tronco cereb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onsiste en 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esorden crónico y degenerativ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e una de las partes del cerebro que controla el sistema motor y se manifiesta con u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érdida progresiva de la capacidad de coordinar los movimie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219320"/>
            <a:ext cx="815328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ctividades</a:t>
            </a:r>
            <a:r>
              <a:rPr b="1" i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necesarias  para darle cumplimiento a los objetivos de la etapa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NTRENAMIENTO DE LA MARCHA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Orientación previa a las actividades a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locar obstáculos en línea recta y caminar entre  ellos evitánd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istas vis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alizar un circuito de trabajo que presente: terrenos irregulares, con dificultades, cambio de dirección, sobrepasando obstáculos, ascender y descender escaleras, espacios redu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aminar distancias con cambio de velocidad(lento-rápido-l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aminar con bastones en par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aminar y correr.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05740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INTEGRAR TODOS LOS ELEMENTOS REEDUCATIVOS EN LA MARCHA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Symbol"/>
                <a:ea typeface="Symbol"/>
              </a:rPr>
              <a:t></a:t>
            </a:r>
            <a:r>
              <a:rPr b="1" lang="es-ES_tradn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     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quilibrio, coordinación, el ritmo y los g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447920"/>
            <a:ext cx="7543800" cy="49698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Arial"/>
              </a:rPr>
              <a:t>Se debe intentar conseguir un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abordaje integral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Arial"/>
              </a:rPr>
              <a:t> del paciente con Parkinson que abarque el tratamiento farmacológico, la fisioterapia y rehabilitación, los consejos dietéticos, la terapia ocupacional y la psicoterap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533520"/>
            <a:ext cx="7467480" cy="58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agnóstico y Tratamiento de la Enfermedad de Parkinson tiene qu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C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TUACIÓN DE EQUIPO MULTIDISCIPL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TENERSE A LO LARGO DE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OYO FAMILIAR Y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295280"/>
            <a:ext cx="830592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l </a:t>
            </a:r>
            <a:r>
              <a:rPr b="1" lang="es-ES_tradnl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estimado en Cuba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, aunque no existe estudios epidemiológicos sobre el comportamiento de la enfermedad, es que existen más de  </a:t>
            </a:r>
            <a:r>
              <a:rPr b="1" lang="es-ES_tradnl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veinte mil sujetos parkinsonianos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y esa cifra aumenta a más de treinta mil  en los próximos veinticinco años, considerado las taza de envejecimiento poblacional en Cuba que para el año 2025 pronostica más de un 20% de población mayor de sesenta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n </a:t>
            </a:r>
            <a:r>
              <a:rPr b="1" lang="es-ES_tradnl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América  Latina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el estimado es aproximadamente </a:t>
            </a:r>
            <a:r>
              <a:rPr b="1" lang="es-ES_tradnl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más de un millón de parquinsoni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04920"/>
            <a:ext cx="4419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PIDEMI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304920"/>
            <a:ext cx="6553080" cy="9471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  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ÍNTOMAS CARDINALES DE LA ENFERMEDAD DE PARK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676520"/>
            <a:ext cx="73152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Temb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Rigid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Hipoci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Bradici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érdida de reflejos postu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304920"/>
            <a:ext cx="6553080" cy="9471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  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ÍNTOMAS SECUNDARIOS DE LA ENFERMEDAD DE PARK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828800"/>
            <a:ext cx="449604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Depre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Disfa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Trastornos del Lengu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Problemas Uri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Estreñ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Trastornos del Su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Hipomim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Acine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6880" y="457200"/>
            <a:ext cx="37339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NÓ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00200"/>
            <a:ext cx="73915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Fundamentalmente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A partir de Sínt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confirmar el Diagnóstic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omografía Axial Computerizada (TAC)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xámenes de los Reflej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todo más importa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SERVACIÓ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1080" y="304920"/>
            <a:ext cx="51818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  <a:ea typeface="Arial"/>
              </a:rPr>
              <a:t>TRATAMI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657600"/>
            <a:ext cx="784872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ncaminado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Reducir la velocidad de progresión de la enferm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Controlar los síntomas y los efectos secundarios derivados de los fármacos que se usan para combatir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44792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é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Quirúr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habilit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TRATAMIENTO MÉD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3880"/>
            <a:ext cx="8001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pend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Grado de afectación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Actividades particulares a las que se ded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omplicaciones derivadas del tratamiento que vayan apareciendo a medida que la enfermedad av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4:57:14Z</dcterms:created>
  <dc:creator>Yoa</dc:creator>
  <dc:description/>
  <dc:language>en-US</dc:language>
  <cp:lastModifiedBy>Sierra®</cp:lastModifiedBy>
  <dcterms:modified xsi:type="dcterms:W3CDTF">2006-02-03T06:17:46Z</dcterms:modified>
  <cp:revision>37</cp:revision>
  <dc:subject/>
  <dc:title>Diapositiva 1</dc:title>
</cp:coreProperties>
</file>