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161-7093-4CD0-8495-07C0C283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C4D-1B9E-457C-B7E2-FD071150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86F-50C0-4479-9F0A-20DE766B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76C-50CA-4A6D-A90E-BE75C22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9861-FB11-43A0-B264-26B35D27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790-F1D1-44BC-981F-CE7BF3D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968-AFEC-4CDD-8D67-6FEC343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FD17-8C1E-42D2-BCCC-1E0D65D0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9E2-EC69-47D4-AE27-FA21954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4549-DCF5-4622-B5ED-243BBEBD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8ACB-7BD8-4926-A7C4-3221CF9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F8F-0076-4397-A417-898670B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1BFA-1D74-41A3-9CD9-247D5EC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A9E5-5482-4CD2-9FF3-7981ADA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4052-3E78-41D1-9E1A-2ACD73E0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182-57B6-4182-AD31-8E2BAF2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255D-B9D5-4A96-9A9E-8CFE4996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188-C163-4555-A942-923685D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3E7-C183-45CB-8376-A3B2E7E3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BBA-E971-4AA2-AF3C-7F65D837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EA6-B10A-4276-8D8F-CBF7F78E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A50-4C7B-4141-889A-4FBE08E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8D6-635B-4A39-8DB1-72B0001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FC8-E0A8-490D-921D-16AB8FB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89E-A01E-4C6E-BB4B-7FE03011B7F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42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43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6BE5-1675-416C-9613-BA5CA8182F9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3440" y="1218960"/>
            <a:ext cx="7810560" cy="25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993366"/>
                </a:solidFill>
                <a:latin typeface="Arial Black"/>
              </a:rPr>
              <a:t>LESIONES DE PARTES BLANDAS DEL HOMBRO </a:t>
            </a:r>
            <a:br>
              <a:rPr sz="4000"/>
            </a:br>
            <a:br>
              <a:rPr sz="4000"/>
            </a:b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34999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Centro de Investigaciones sobre: “Longevidad, Envejecimiento y Salud”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Dra. Susana Hierrezuelo Cor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Especialista II 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Medicina Física y Rehabil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b073b"/>
                </a:solidFill>
                <a:latin typeface="Times New Roman"/>
              </a:rPr>
              <a:t>Tratamiento Rehabilitador en la fase aguda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557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ratamient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Agentes fí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Reposo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puede usar un cabestrillo que será durante las primeras 72 horas (3 días). Posteriormente se comenzará la movilización precoz a partir del 4to día, evitando en esta fase los movimientos de abducción y r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557360"/>
            <a:ext cx="835344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buClr>
                <a:srgbClr val="996633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Tratamiento medicamento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nalgésicos: Paracetamol 500 mg c/ 8ho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dantes-tranquilizantes. Los relajantes musculares en esta patología no son efectivos y ninguno tiene efecto sed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INES: fundamentales en el tratamiento a la dosis máxima. Los primeros 5 días son efic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roides orales: dosis altas por períodos cortos (efectiv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adioterapia: efectiva en caso de burs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loqueo del nervio supraescapular (efectiv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b073b"/>
                </a:solidFill>
                <a:latin typeface="Times New Roman"/>
              </a:rPr>
              <a:t>Tratamiento Rehabilitador en la fase aguda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Postura del ejercicio pendular de Codman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880" y="1197000"/>
            <a:ext cx="8016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ciente inclinado hacia delante flexionando el tronco en ángulo recto, con un brazo apoyado sobre una mesa o silla y el brazo afecto se balancea sin que exista actividad muscular de la articulación glenohumeral. El cuerpo siempre está en actividad aunque balanceando pasivamente el brazo afectado en flexión, extensión, movimiento lateral y ro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mano no sostiene peso alguno ya que esto produce contracción  muscular del brazo y del hom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n peso sostenido pasivamente atado a la muñeca puede utilizarse para causar más movimiento pendular y contracción del hom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el dolor disminuye a un 50% y cede la restricción del movimiento a una Abducción de 45 grados se inician los ejercicios activos pendulares de Cod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056720" cy="6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Beneficio del Ejercicio de Codman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2133720"/>
            <a:ext cx="792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vita la abducción 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cciona la articulación glenohu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ira la cáps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sminuye el encogimiento por elevación de la escápula y que es impuesto por la gravedad sobre la postura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268280"/>
            <a:ext cx="838836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tratamiento afortunado del hombro rígido se resume mejor en dos palab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b073b"/>
                </a:solidFill>
                <a:latin typeface="Times New Roman"/>
              </a:rPr>
              <a:t>EJERCICIO AC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Watson-J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9832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9900"/>
                </a:solidFill>
                <a:latin typeface="Times New Roman"/>
              </a:rPr>
              <a:t>CONCEPTOS  y CONSIDERACIONE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28036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-576360" algn="just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Lesiones de Partes Blandas del hombro: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 poco preciso y que no se ajusta a una afección bien determinada. En la actualidad agrupa a toda una serie de afecciones músculo esqueléticas del hombro. Las dos grandes patologías responsables son la tendinitis degenerativa y la burs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 algn="just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Tendinitis: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lamación de las estructuras de deslizamiento del tendón o de la zona de inserción del manguito músculotendinos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 algn="just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Bursitis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lamación y tumefacción de la bolsa sinovial subacromial y subdeltoidea, a consecuencia de lesiones degenerativas del manguito músculotendinoso. Es un fenómeno secundario a la tendinitis del mang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3429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60280"/>
            <a:ext cx="8497800" cy="62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Epidem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ausa más común de dolor del homb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onstituyen el 90% de las incapacidades dolorosas no traumá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olo es excedido en frecuencia clínica por la lumbalgia o por padecimiento doloroso del cue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n la 5ta década de la vida muchos manguitos se están desprendiendo de su sitio de inserción y muestran signos de adelgaz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manguito constituye una unidad funcional compleja compuesta de una gran variedad de tejidos capaces de causar disfunción artic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generación progresiva del manguito se ha notado en las personas que no hacen caso del dolor o la disfun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84000" y="620640"/>
            <a:ext cx="4248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4400" spc="-1" strike="noStrike" u="sng">
                <a:solidFill>
                  <a:srgbClr val="996633"/>
                </a:solidFill>
                <a:uFillTx/>
                <a:latin typeface="Times New Roman"/>
              </a:rPr>
              <a:t>Sinonimi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276640"/>
            <a:ext cx="5329080" cy="32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Tendin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Burs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ericapsul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apsulitis Adhes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Hombro congel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Hombro doloroso y ríg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eriartritis escápulohum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424836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Etiologí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700280"/>
            <a:ext cx="82803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generativ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Microtraumatismos por sobreesfuerzo y movimientos bruscos en dirección a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osturas defectuosas: hombros redondeados y hombros caídos (típica de la senectud y de factores emociona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Factores ocupacion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jecución de movimientos normales bajo temor, ansiedad y ten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nmovilización del braz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093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Síntomas y Signos discapacitant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996633"/>
                </a:solidFill>
                <a:uFillTx/>
                <a:latin typeface="Arial"/>
              </a:rPr>
              <a:t>Dolor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fluye en su intensidad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tensión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, 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grado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hinchazón del tendón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umbral del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olor del pac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calización del dolor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hombro inicialmente, principalmente en la cara anterolateral y en la vecindad del troquiter y del acrom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 asocia a hiperalgesia lo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 puede irradiar hacia la parte inferior del bra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uede ser muy intenso, constante y continu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y aumentar durante la no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600" spc="-1" strike="noStrike" u="sng">
                <a:solidFill>
                  <a:srgbClr val="996633"/>
                </a:solidFill>
                <a:uFillTx/>
                <a:latin typeface="Arial"/>
              </a:rPr>
              <a:t>Limitación articular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de los movimientos pudiendo llegar a la rigid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2280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Examen Físic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07920"/>
            <a:ext cx="8915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b073b"/>
                </a:solidFill>
                <a:uFillTx/>
                <a:latin typeface="Arial"/>
              </a:rPr>
              <a:t>Inspección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stura antálgica mediante la autoin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ostura de encogimiento de hombros; infla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tumef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b073b"/>
                </a:solidFill>
                <a:uFillTx/>
                <a:latin typeface="Arial"/>
              </a:rPr>
              <a:t>Palpación: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calor local. Se exploran los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Pu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doloros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roquiter, troquín, corredera bicipital, sit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lsa subdeltoidea, articulación acromio clavicul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rnoclavicular, fibras superiores del trapecio, c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terior del hombro, región escapular y reg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picondi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Limitación artic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anto al movimiento pasivo como activ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aumenta el d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Limitación de los movimientos de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ducción, flexión anteri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tación y en ocasiones se puede limitar la extensión. En </a:t>
            </a: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F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tardía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trofia 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907920"/>
            <a:ext cx="86104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8360" indent="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Objetivos del Tratamiento Rehabilitad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el dolor y la infla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la tensión y la ans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la limitación articular hasta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ar progresivamente la fuerz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grar independencia en A.V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incorporación al trabajo habi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341360"/>
            <a:ext cx="73440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8360" indent="19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996633"/>
                </a:solidFill>
                <a:uFillTx/>
                <a:latin typeface="Times New Roman"/>
              </a:rPr>
              <a:t>Complementarios</a:t>
            </a:r>
            <a:r>
              <a:rPr b="1" i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xamen de ru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Rx de Hombro (A.P, rotación interna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xtern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Ultrasonido de partes blan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Artroscop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16:32:41Z</dcterms:created>
  <dc:creator>Jesus del Canto Enriquez</dc:creator>
  <dc:description/>
  <dc:language>en-US</dc:language>
  <cp:lastModifiedBy>Sierra®</cp:lastModifiedBy>
  <dcterms:modified xsi:type="dcterms:W3CDTF">2006-12-19T20:25:15Z</dcterms:modified>
  <cp:revision>308</cp:revision>
  <dc:subject/>
  <dc:title>TRASTORNO DE LA MARCHA  Y CAÍDA</dc:title>
</cp:coreProperties>
</file>