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CA2B-3096-40C7-A4F6-C9948D66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3B3F-5246-4EAF-B5E9-DE176EDA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5ABB-96B2-40EC-99C2-8C044295C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03A9-07AD-44DF-8559-5180D6189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E6F5-E37A-41AA-84C7-AEEEE3A64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54DD-D8A0-4F04-B42D-ACE0C105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6831-73E9-4155-910C-DCB68500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E6EB-44F3-4708-B60F-14804780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2164-666D-40BF-B744-515F9328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BE4C-5C5A-4A3B-957A-D5010C41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1086-4E28-4CA6-AF69-CB40B57B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A1F7-3023-4860-83E5-74D6A0BD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919A-F7E3-4387-B551-D76486E1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3F7A-ABD4-4034-B4DD-16F53446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8311-53C4-49B0-8CCB-FB7BD958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B603-75F7-42AA-AD60-24232448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480A-E0EF-49B8-9ADC-1E0775339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0C8F-51FA-48BE-9BEE-E632568C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7798-7E00-4D6C-AA95-4E3872F4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6BF5-49CA-49CE-B21D-D304233B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FBD8-537A-4E30-BC8F-6EE94174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D118-0AEE-4A73-A0E6-3CCC9D09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B619-2609-4CBB-A07D-2E54DD05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4BEF-5924-47FC-83D1-AF79C257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3AC3-3EF5-4148-AF9D-A3BC0D5BD1C1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42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43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50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5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ffcc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ffcc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ffcc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4EA2-EFC4-465C-AEB3-9311FC8C704E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3440" y="1218960"/>
            <a:ext cx="7810560" cy="257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993366"/>
                </a:solidFill>
                <a:latin typeface="Arial Black"/>
              </a:rPr>
              <a:t>LESIONES DE PARTES BLANDAS DEL HOMBRO </a:t>
            </a:r>
            <a:br>
              <a:rPr sz="4000"/>
            </a:br>
            <a:br>
              <a:rPr sz="4000"/>
            </a:br>
            <a:br>
              <a:rPr sz="4000"/>
            </a:b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38080" y="3499920"/>
            <a:ext cx="830592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Arial"/>
              </a:rPr>
              <a:t>Centro de Investigaciones sobre: “Longevidad, Envejecimiento y Salud” C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Arial"/>
              </a:rPr>
              <a:t>Dra. Susana Hierrezuelo Cor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Arial"/>
              </a:rPr>
              <a:t>Especialista II Gr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Arial"/>
              </a:rPr>
              <a:t>Medicina Física y Rehabili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b073b"/>
                </a:solidFill>
                <a:latin typeface="Times New Roman"/>
              </a:rPr>
              <a:t>Tratamiento Rehabilitador en la fase aguda: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557360"/>
            <a:ext cx="8137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buClr>
                <a:srgbClr val="996633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996633"/>
                </a:solidFill>
                <a:latin typeface="Times New Roman"/>
              </a:rPr>
              <a:t>Rep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996633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996633"/>
                </a:solidFill>
                <a:latin typeface="Times New Roman"/>
              </a:rPr>
              <a:t>Tratamiento méd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996633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996633"/>
                </a:solidFill>
                <a:latin typeface="Times New Roman"/>
              </a:rPr>
              <a:t>Agentes fí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996633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Reposo: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se puede usar un cabestrillo que será durante las primeras 72 horas (3 días). Posteriormente se comenzará la movilización precoz a partir del 4to día, evitando en esta fase los movimientos de abducción y ro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24000" y="1557360"/>
            <a:ext cx="835344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buClr>
                <a:srgbClr val="996633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Tratamiento medicamento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Analgésicos: Paracetamol 500 mg c/ 8ho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edantes-tranquilizantes. Los relajantes musculares en esta patología no son efectivos y ninguno tiene efecto sed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AINES: fundamentales en el tratamiento a la dosis máxima. Los primeros 5 días son efic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steroides orales: dosis altas por períodos cortos (efectivo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adioterapia: efectiva en caso de bursit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Bloqueo del nervio supraescapular (efectiv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b073b"/>
                </a:solidFill>
                <a:latin typeface="Times New Roman"/>
              </a:rPr>
              <a:t>Tratamiento Rehabilitador en la fase aguda: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996633"/>
                </a:solidFill>
                <a:latin typeface="Times New Roman"/>
              </a:rPr>
              <a:t>Postura del ejercicio pendular de Codman: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1880" y="1197000"/>
            <a:ext cx="80168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aciente inclinado hacia delante flexionando el tronco en ángulo recto, con un brazo apoyado sobre una mesa o silla y el brazo afecto se balancea sin que exista actividad muscular de la articulación glenohumeral. El cuerpo siempre está en actividad aunque balanceando pasivamente el brazo afectado en flexión, extensión, movimiento lateral y rot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La mano no sostiene peso alguno ya que esto produce contracción  muscular del brazo y del homb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Un peso sostenido pasivamente atado a la muñeca puede utilizarse para causar más movimiento pendular y contracción del homb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i el dolor disminuye a un 50% y cede la restricción del movimiento a una Abducción de 45 grados se inician los ejercicios activos pendulares de Codm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7056720" cy="6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996633"/>
                </a:solidFill>
                <a:latin typeface="Times New Roman"/>
              </a:rPr>
              <a:t>Beneficio del Ejercicio de Codman: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2133720"/>
            <a:ext cx="7921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vita la abducción a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racciona la articulación glenohum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stira la cáps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isminuye el encogimiento por elevación de la escápula y que es impuesto por la gravedad sobre la postura ver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1268280"/>
            <a:ext cx="8388360" cy="52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4640" indent="-574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74640" indent="-574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74640" indent="-574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l tratamiento afortunado del hombro rígido se resume mejor en dos palabr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4640" indent="-574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4640" indent="-574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fb073b"/>
                </a:solidFill>
                <a:latin typeface="Times New Roman"/>
              </a:rPr>
              <a:t>EJERCICIO ACTI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74640" indent="-574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74640" indent="-574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74640" indent="-574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74640" indent="-5745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Watson-J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74640" indent="-574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983280" cy="36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cc9900"/>
                </a:solidFill>
                <a:latin typeface="Times New Roman"/>
              </a:rPr>
              <a:t>CONCEPTOS  y CONSIDERACIONE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907920"/>
            <a:ext cx="8280360" cy="554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6360" indent="-576360" algn="just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Lesiones de Partes Blandas del hombro:</a:t>
            </a:r>
            <a:r>
              <a:rPr b="1" lang="es-ES_tradnl" sz="28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cepto poco preciso y que no se ajusta a una afección bien determinada. En la actualidad agrupa a toda una serie de afecciones músculo esqueléticas del hombro. Las dos grandes patologías responsables son la tendinitis degenerativa y la bursit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6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6360" indent="-576360" algn="just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Tendinitis:</a:t>
            </a:r>
            <a:r>
              <a:rPr b="1" lang="es-ES_tradnl" sz="28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flamación de las estructuras de deslizamiento del tendón o de la zona de inserción del manguito músculotendinoso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63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6360" indent="-576360" algn="just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Bursitis: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flamación y tumefacción de la bolsa sinovial subacromial y subdeltoidea, a consecuencia de lesiones degenerativas del manguito músculotendinoso. Es un fenómeno secundario a la tendinitis del mangu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895480" y="34290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260280"/>
            <a:ext cx="8497800" cy="62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6633"/>
                </a:solidFill>
                <a:latin typeface="Times New Roman"/>
              </a:rPr>
              <a:t>Epidemiologí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Causa más común de dolor del homb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Constituyen el 90% de las incapacidades dolorosas no traumátic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Solo es excedido en frecuencia clínica por la lumbalgia o por padecimiento doloroso del cuell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En la 5ta década de la vida muchos manguitos se están desprendiendo de su sitio de inserción y muestran signos de adelgazamien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El manguito constituye una unidad funcional compleja compuesta de una gran variedad de tejidos capaces de causar disfunción artic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Degeneración progresiva del manguito se ha notado en las personas que no hacen caso del dolor o la disfun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84000" y="620640"/>
            <a:ext cx="424836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4400" spc="-1" strike="noStrike" u="sng">
                <a:solidFill>
                  <a:srgbClr val="996633"/>
                </a:solidFill>
                <a:uFillTx/>
                <a:latin typeface="Times New Roman"/>
              </a:rPr>
              <a:t>Sinonimia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2276640"/>
            <a:ext cx="5329080" cy="32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Tendinit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Bursit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Pericapsulit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Capsulitis Adhesiv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Hombro congela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Hombro doloroso y rígi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Periartritis escápulohumer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10920" y="404280"/>
            <a:ext cx="424836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996633"/>
                </a:solidFill>
                <a:latin typeface="Times New Roman"/>
              </a:rPr>
              <a:t>Etiología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1700280"/>
            <a:ext cx="828036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Degenerativ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Microtraumatismos por sobreesfuerzo y movimientos bruscos en dirección an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Posturas defectuosas: hombros redondeados y hombros caídos (típica de la senectud y de factores emocional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Factores ocupaciona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Ejecución de movimientos normales bajo temor, ansiedad y tens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Inmovilización del braz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909324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996633"/>
                </a:solidFill>
                <a:latin typeface="Times New Roman"/>
              </a:rPr>
              <a:t>Síntomas y Signos discapacitantes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197000"/>
            <a:ext cx="85327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996633"/>
                </a:solidFill>
                <a:uFillTx/>
                <a:latin typeface="Arial"/>
              </a:rPr>
              <a:t>Dolor</a:t>
            </a:r>
            <a:r>
              <a:rPr b="1" lang="es-ES_tradnl" sz="2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Influye en su intensidad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 la </a:t>
            </a:r>
            <a:r>
              <a:rPr b="1" lang="es-ES_tradnl" sz="2600" spc="-1" strike="noStrike" u="sng">
                <a:solidFill>
                  <a:srgbClr val="000000"/>
                </a:solidFill>
                <a:uFillTx/>
                <a:latin typeface="Arial"/>
              </a:rPr>
              <a:t>tensión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 , el </a:t>
            </a:r>
            <a:r>
              <a:rPr b="1" lang="es-ES_tradnl" sz="2600" spc="-1" strike="noStrike" u="sng">
                <a:solidFill>
                  <a:srgbClr val="000000"/>
                </a:solidFill>
                <a:uFillTx/>
                <a:latin typeface="Arial"/>
              </a:rPr>
              <a:t>grado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_tradnl" sz="2600" spc="-1" strike="noStrike" u="sng">
                <a:solidFill>
                  <a:srgbClr val="000000"/>
                </a:solidFill>
                <a:uFillTx/>
                <a:latin typeface="Arial"/>
              </a:rPr>
              <a:t>de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600" spc="-1" strike="noStrike" u="sng">
                <a:solidFill>
                  <a:srgbClr val="000000"/>
                </a:solidFill>
                <a:uFillTx/>
                <a:latin typeface="Arial"/>
              </a:rPr>
              <a:t>hinchazón del tendón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 y el </a:t>
            </a:r>
            <a:r>
              <a:rPr b="1" lang="es-ES_tradnl" sz="2600" spc="-1" strike="noStrike" u="sng">
                <a:solidFill>
                  <a:srgbClr val="000000"/>
                </a:solidFill>
                <a:uFillTx/>
                <a:latin typeface="Arial"/>
              </a:rPr>
              <a:t>umbral del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_tradnl" sz="2600" spc="-1" strike="noStrike" u="sng">
                <a:solidFill>
                  <a:srgbClr val="000000"/>
                </a:solidFill>
                <a:uFillTx/>
                <a:latin typeface="Arial"/>
              </a:rPr>
              <a:t>dolor del pacien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ocalización del dolor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el hombro inicialmente, principalmente en la cara anterolateral y en la vecindad del troquiter y del acrom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Se asocia a hiperalgesia loc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Se puede irradiar hacia la parte inferior del braz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Puede ser muy intenso, constante y continuo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y aumentar durante la noc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99663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s-ES_tradnl" sz="2600" spc="-1" strike="noStrike" u="sng">
                <a:solidFill>
                  <a:srgbClr val="996633"/>
                </a:solidFill>
                <a:uFillTx/>
                <a:latin typeface="Arial"/>
              </a:rPr>
              <a:t>Limitación articular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 de los movimientos pudiendo llegar a la rigide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6228000" cy="5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996633"/>
                </a:solidFill>
                <a:latin typeface="Times New Roman"/>
              </a:rPr>
              <a:t>Examen Físico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907920"/>
            <a:ext cx="891540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b073b"/>
                </a:solidFill>
                <a:uFillTx/>
                <a:latin typeface="Arial"/>
              </a:rPr>
              <a:t>Inspección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postura antálgica mediante la autoinmovil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postura de encogimiento de hombros; inflam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tumef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b073b"/>
                </a:solidFill>
                <a:uFillTx/>
                <a:latin typeface="Arial"/>
              </a:rPr>
              <a:t>Palpación:</a:t>
            </a:r>
            <a:r>
              <a:rPr b="0" lang="es-ES_tradnl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 haber calor local. Se exploran los </a:t>
            </a:r>
            <a:r>
              <a:rPr b="0" lang="es-ES_tradnl" sz="2400" spc="-1" strike="noStrike">
                <a:solidFill>
                  <a:srgbClr val="996633"/>
                </a:solidFill>
                <a:latin typeface="Arial"/>
              </a:rPr>
              <a:t>Pun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Arial"/>
              </a:rPr>
              <a:t>                 </a:t>
            </a:r>
            <a:r>
              <a:rPr b="0" lang="es-ES_tradnl" sz="2400" spc="-1" strike="noStrike">
                <a:solidFill>
                  <a:srgbClr val="996633"/>
                </a:solidFill>
                <a:latin typeface="Arial"/>
              </a:rPr>
              <a:t>dolorosos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troquiter, troquín, corredera bicipital, sit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olsa subdeltoidea, articulación acromio clavicular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ernoclavicular, fibras superiores del trapecio, ca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sterior del hombro, región escapular y reg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picondil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996633"/>
                </a:solidFill>
                <a:uFillTx/>
                <a:latin typeface="Arial"/>
              </a:rPr>
              <a:t>Limitación articula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tanto al movimiento pasivo como activ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o aumenta el d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996633"/>
                </a:solidFill>
                <a:uFillTx/>
                <a:latin typeface="Arial"/>
              </a:rPr>
              <a:t>Limitación de los movimientos de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bducción, flexión anterio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otación y en ocasiones se puede limitar la extensión. En </a:t>
            </a:r>
            <a:r>
              <a:rPr b="0" lang="es-ES_tradnl" sz="2400" spc="-1" strike="noStrike" u="sng">
                <a:solidFill>
                  <a:srgbClr val="996633"/>
                </a:solidFill>
                <a:uFillTx/>
                <a:latin typeface="Arial"/>
              </a:rPr>
              <a:t>F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996633"/>
                </a:solidFill>
                <a:uFillTx/>
                <a:latin typeface="Arial"/>
              </a:rPr>
              <a:t>tardía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trofia mus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0920" y="907920"/>
            <a:ext cx="8610480" cy="44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8360" indent="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996633"/>
                </a:solidFill>
                <a:latin typeface="Times New Roman"/>
              </a:rPr>
              <a:t>Objetivos del Tratamiento Rehabilitado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19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isminuir el dolor y la infla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19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isminuir la tensión y la ans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19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isminuir la limitación articular hasta 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1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n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19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umentar progresivamente la fuerza mus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19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ograr independencia en A.V.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19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incorporación al trabajo habi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00000" y="1341360"/>
            <a:ext cx="7344000" cy="38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8360" indent="19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 u="sng">
                <a:solidFill>
                  <a:srgbClr val="996633"/>
                </a:solidFill>
                <a:uFillTx/>
                <a:latin typeface="Times New Roman"/>
              </a:rPr>
              <a:t>Complementarios</a:t>
            </a:r>
            <a:r>
              <a:rPr b="1" i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19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19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19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000" spc="-1" strike="noStrike">
                <a:solidFill>
                  <a:srgbClr val="000000"/>
                </a:solidFill>
                <a:latin typeface="Times New Roman"/>
              </a:rPr>
              <a:t>Examen de ruti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19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000" spc="-1" strike="noStrike">
                <a:solidFill>
                  <a:srgbClr val="000000"/>
                </a:solidFill>
                <a:latin typeface="Times New Roman"/>
              </a:rPr>
              <a:t>Rx de Hombro (A.P, rotación interna y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3000" spc="-1" strike="noStrike">
                <a:solidFill>
                  <a:srgbClr val="000000"/>
                </a:solidFill>
                <a:latin typeface="Times New Roman"/>
              </a:rPr>
              <a:t>extern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19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000" spc="-1" strike="noStrike">
                <a:solidFill>
                  <a:srgbClr val="000000"/>
                </a:solidFill>
                <a:latin typeface="Times New Roman"/>
              </a:rPr>
              <a:t>Ultrasonido de partes bland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19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000" spc="-1" strike="noStrike">
                <a:solidFill>
                  <a:srgbClr val="000000"/>
                </a:solidFill>
                <a:latin typeface="Times New Roman"/>
              </a:rPr>
              <a:t>Artroscopí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8T16:32:41Z</dcterms:created>
  <dc:creator>Jesus del Canto Enriquez</dc:creator>
  <dc:description/>
  <dc:language>en-US</dc:language>
  <cp:lastModifiedBy>Sierra®</cp:lastModifiedBy>
  <dcterms:modified xsi:type="dcterms:W3CDTF">2006-12-19T20:25:15Z</dcterms:modified>
  <cp:revision>308</cp:revision>
  <dc:subject/>
  <dc:title>TRASTORNO DE LA MARCHA  Y CAÍDA</dc:title>
</cp:coreProperties>
</file>