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516D-4883-4E34-B9DF-623CC0C4B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1C06-65C2-4291-AB97-531EC78F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DAFA-96E8-4C8B-BF5A-DD472F593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C8F0-8E73-488B-9E95-B619FC947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18DC-8A2E-4B74-AC61-13ABA6DD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6309-2445-4617-9483-9E90586A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8A11-6EE5-45E7-920E-A8B4909B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7C26-BC42-4884-AA01-664D3BEC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0142-AC7C-4F9E-A345-74178513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E1AA-3681-4671-9FC0-48F55131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389E-6206-40A7-8160-C55FA992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C003-35EF-4070-818D-B98CA315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9EE1-E76C-43E0-8FAD-AEEF4685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4DD6-B3FE-4459-A5CE-733DEA66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9360-95C5-42A9-8CEA-4394E882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0F19-26B7-40C6-B62D-BFD6B9D0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782C-C40E-4E53-B65D-8CE229DEE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11B9-9F04-4234-99B1-BC207CD0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C28F-A940-443C-ABAD-B3199587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EBC9-F450-440D-B564-65883F99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37F9-8B09-47E7-BAE0-8B995D9D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9172-9CE9-4579-AC06-5AC38531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0AD4-5630-47AF-862C-7BDF072D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47ED-8BB0-416D-965A-CBA49A17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84C4-2137-4F4B-BC4B-70A0186F72B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986D-C066-4F7F-80DD-AE82E31FBB4C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1530000"/>
            <a:ext cx="8034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b073b"/>
                </a:solidFill>
                <a:latin typeface="Tahoma"/>
              </a:rPr>
              <a:t>ESPOLÓN CALCANEO Y FASCITIS PLANTAR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76360" y="4005000"/>
            <a:ext cx="3816360" cy="2087640"/>
          </a:xfrm>
          <a:prstGeom prst="rect">
            <a:avLst/>
          </a:prstGeom>
          <a:noFill/>
          <a:ln w="76320">
            <a:solidFill>
              <a:srgbClr val="996633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800000"/>
                </a:solidFill>
                <a:latin typeface="Arial"/>
              </a:rPr>
              <a:t>Rehabilita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11280" y="3500280"/>
            <a:ext cx="4064040" cy="3048120"/>
          </a:xfrm>
          <a:prstGeom prst="rect">
            <a:avLst/>
          </a:prstGeom>
          <a:ln w="76320">
            <a:solidFill>
              <a:srgbClr val="996633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1484280"/>
            <a:ext cx="85690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El espolón calcáneo</a:t>
            </a:r>
            <a:r>
              <a:rPr b="1" lang="es-MX" sz="2800" spc="-1" strike="noStrike">
                <a:solidFill>
                  <a:srgbClr val="996633"/>
                </a:solidFill>
                <a:latin typeface="Times New Roman"/>
                <a:ea typeface="宋体"/>
              </a:rPr>
              <a:t> </a:t>
            </a:r>
            <a:r>
              <a:rPr b="1" lang="es-MX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es</a:t>
            </a:r>
            <a:r>
              <a:rPr b="1" lang="es-ES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 </a:t>
            </a:r>
            <a:r>
              <a:rPr b="1" lang="es-MX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una prominencia ósea o exostosis que puede aparecer en la parte anterior del talón (calcáneo) como consecuencia de estiramientos excesivos y continuados de la fascia plantar, una banda de tejido conjuntivo que recubre los músculos de la zo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260280"/>
            <a:ext cx="7275600" cy="11430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cc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0000"/>
                </a:solidFill>
                <a:latin typeface="Times New Roman"/>
              </a:rPr>
              <a:t>CONCEPT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4076640"/>
            <a:ext cx="85690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La fascitis plantar</a:t>
            </a:r>
            <a:r>
              <a:rPr b="1" lang="es-MX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 es una afección frecuente en los pacientes de edad media, de predominio en el sexo femenino (2:1), que provoca dolor en uno o ambos pies y como consecuencia del mismo una impotencia funcional para la march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11280" y="0"/>
            <a:ext cx="756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1916280"/>
            <a:ext cx="806436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Al estirarse excesivamente la fascia, puede calcificarse y así formarse el espolón, que es bastante doloroso y dificulta el apoyo normal de talón. Esto en ocasiones provoca una inflamación en la zona que lo rodea, la cual puede manifestarse a diversos nive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3300"/>
                </a:solidFill>
                <a:latin typeface="Times New Roman"/>
                <a:ea typeface="宋体"/>
              </a:rPr>
              <a:t>Existe un espolón subcalcáneo, simple o doble y un espolón retrocalcáneo, pudiendo coexistir todos ell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779400"/>
            <a:ext cx="498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47840" y="563400"/>
            <a:ext cx="5132520" cy="702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cc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0000"/>
                </a:solidFill>
                <a:latin typeface="Times New Roman"/>
              </a:rPr>
              <a:t>FISIOPATOLOGÍ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546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663300"/>
                </a:solidFill>
                <a:latin typeface="Times New Roman"/>
                <a:ea typeface="宋体"/>
              </a:rPr>
              <a:t>SÍNTOMAS Y SIGNOS INVALIDANTE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386000"/>
            <a:ext cx="81741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just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Dolor: Se localiza en el área de carga de peso de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                   </a:t>
            </a: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talón. Comúnmente es más sever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                   </a:t>
            </a: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durante los primeros pasos al levantars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                   </a:t>
            </a: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de la cama, disminuye parcialm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                   </a:t>
            </a: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con la actividad y reaparece de nuev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                   </a:t>
            </a: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tras un período de descan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 algn="just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Espolón óseo: Por sí mismo no tiene que s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                   </a:t>
            </a: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doloroso. Cuando son bilaterales puede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                   </a:t>
            </a: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doler solo un lado pero en ocasiones ha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                   </a:t>
            </a: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una acusada talalgia y  en la radiografía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                   </a:t>
            </a:r>
            <a:r>
              <a:rPr b="1" lang="es-ES" sz="2800" spc="-1" strike="noStrike">
                <a:solidFill>
                  <a:srgbClr val="990000"/>
                </a:solidFill>
                <a:latin typeface="Times New Roman"/>
              </a:rPr>
              <a:t>no se observa espoló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1916280"/>
            <a:ext cx="8610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996633"/>
                </a:solidFill>
                <a:latin typeface="Arial"/>
                <a:ea typeface="Times New Roman"/>
              </a:rPr>
              <a:t>Con un diagnóstico y tratamiento precoz suele tener un buen pronóstico pero si el paciente acude tardíamente a la consulta, entonces la respuesta al  tratamiento suele demorar y esta situación puede conllevar en muchas ocasiones a la cirugía.</a:t>
            </a:r>
            <a:r>
              <a:rPr b="1" lang="es-VE" sz="3200" spc="-1" strike="noStrike">
                <a:solidFill>
                  <a:srgbClr val="996633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55840" y="635040"/>
            <a:ext cx="614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16360" y="476280"/>
            <a:ext cx="39304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VE" sz="4000" spc="-1" strike="noStrike">
                <a:solidFill>
                  <a:srgbClr val="cc0000"/>
                </a:solidFill>
                <a:latin typeface="Times New Roman"/>
              </a:rPr>
              <a:t>PRONÓSTIC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50000">
              <a:srgbClr val="d1c39f"/>
            </a:gs>
            <a:gs pos="100000">
              <a:srgbClr val="ffefd1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24000" y="1484280"/>
            <a:ext cx="88200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00"/>
                </a:solidFill>
                <a:latin typeface="Arial"/>
                <a:ea typeface="宋体"/>
              </a:rPr>
              <a:t>Objetiv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3300"/>
                </a:solidFill>
                <a:latin typeface="Arial"/>
                <a:ea typeface="宋体"/>
              </a:rPr>
              <a:t>Aliviar el dol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3300"/>
                </a:solidFill>
                <a:latin typeface="Arial"/>
                <a:ea typeface="宋体"/>
              </a:rPr>
              <a:t>Descargar la tensión de la fascia plantar y corregir las anomalías del antepié y retropi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00"/>
                </a:solidFill>
                <a:latin typeface="Arial"/>
                <a:ea typeface="宋体"/>
              </a:rPr>
              <a:t>Tratamiento conserv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Medidas gener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Tratamiento médico (AINES y analgésic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6633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3300"/>
                </a:solidFill>
                <a:latin typeface="Times New Roman"/>
                <a:ea typeface="宋体"/>
              </a:rPr>
              <a:t>Tratamiento físico rehabilit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00"/>
                </a:solidFill>
                <a:latin typeface="Arial"/>
                <a:ea typeface="宋体"/>
              </a:rPr>
              <a:t>Tratamiento quirúrg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84200" y="492120"/>
            <a:ext cx="556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11280" y="333360"/>
            <a:ext cx="41040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990000"/>
                </a:solidFill>
                <a:latin typeface="Tahoma"/>
                <a:ea typeface="宋体"/>
              </a:rPr>
              <a:t>TRATAMIEN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8T16:32:41Z</dcterms:created>
  <dc:creator>Jesus del Canto Enriquez</dc:creator>
  <dc:description/>
  <dc:language>en-US</dc:language>
  <cp:lastModifiedBy>PC</cp:lastModifiedBy>
  <dcterms:modified xsi:type="dcterms:W3CDTF">2008-02-18T16:51:47Z</dcterms:modified>
  <cp:revision>312</cp:revision>
  <dc:subject/>
  <dc:title>TRASTORNO DE LA MARCHA  Y CAÍDA</dc:title>
</cp:coreProperties>
</file>