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413-FA6E-4A3F-B160-387492FDA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D6E-4DE2-4DF6-BB3C-83FEE922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EE9-14EB-4AA4-B9C3-0536ED19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F3E-BA51-4F3A-A6BA-DCDFDFB5D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4F7-D9FE-450E-BD6E-CA3234A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E1EC-8100-4E40-AFE3-ED6151B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40D1-1F40-423B-903C-DF1972EB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05AC-46C8-4588-910A-4CAE268F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BB8C-A4B5-4BAB-9A2E-82CC253C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B34E9-0462-46B4-8DB4-3A483DA67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D389-3C35-48AE-A2D6-5F8A64FD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23EE-9645-46CE-AF34-AEF61722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BA5F-DB61-460F-97C8-6DDC546E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6D70-765F-457C-8AB6-6A474B65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FE92-AA4B-49A2-8239-B45DFC00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FBAF-3685-4D9D-B256-20C7653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36F2-845F-4647-AC2E-C77DB130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6D3-02CC-47F8-ACE1-1E9DC982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688-F45F-4D2F-86E6-5792991C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368-34EB-49FA-AD21-2797F56E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45D-663C-44AC-8FF3-8DA93372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0DF-5838-4866-88AE-5BE1503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5CC2-24D6-4FA0-B412-C35A1EA5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32C-77C8-4E09-A50C-6F62C038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E0F7-0E09-4C34-AA3D-A7CAB3DFF47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829C-74B6-4BB6-80A6-84148EDEF1D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530000"/>
            <a:ext cx="803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073b"/>
                </a:solidFill>
                <a:latin typeface="Tahoma"/>
              </a:rPr>
              <a:t>ESPOLÓN CALCANEO Y FASCITIS PLANTAR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76360" y="4005000"/>
            <a:ext cx="3816360" cy="208764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Arial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4064040" cy="3048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484280"/>
            <a:ext cx="8569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El espolón calcáneo</a:t>
            </a:r>
            <a:r>
              <a:rPr b="1" lang="es-MX" sz="2800" spc="-1" strike="noStrike">
                <a:solidFill>
                  <a:srgbClr val="996633"/>
                </a:solidFill>
                <a:latin typeface="Times New Roman"/>
                <a:ea typeface="宋体"/>
              </a:rPr>
              <a:t> 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es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una prominencia ósea o exostosis que puede aparecer en la parte anterior del talón (calcáneo) como consecuencia de estiramientos excesivos y continuados de la fascia plantar, una banda de tejido conjuntivo que recubre los músculos de la z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60280"/>
            <a:ext cx="72756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Times New Roman"/>
              </a:rPr>
              <a:t>CONCEP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076640"/>
            <a:ext cx="8569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La fascitis plantar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es una afección frecuente en los pacientes de edad media, de predominio en el sexo femenino (2:1), que provoca dolor en uno o ambos pies y como consecuencia del mismo una impotencia funcional para la mar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916280"/>
            <a:ext cx="8064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Al estirarse excesivamente la fascia, puede calcificarse y así formarse el espolón, que es bastante doloroso y dificulta el apoyo normal de talón. Esto en ocasiones provoca una inflamación en la zona que lo rodea, la cual puede manifestarse a diversos nive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Existe un espolón subcalcáneo, simple o doble y un espolón retrocalcáneo, pudiendo coexistir todos e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779400"/>
            <a:ext cx="49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563400"/>
            <a:ext cx="5132520" cy="70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Times New Roman"/>
              </a:rPr>
              <a:t>FISIOPATOLOGÍ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54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SÍNTOMAS Y SIGNOS INVALIDANT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86000"/>
            <a:ext cx="8174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or: Se localiza en el área de carga de peso 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talón. Comúnmente es más seve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urante los primeros pasos al levantar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e la cama, disminuye pa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con la actividad y reaparece de nue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tras un período de descan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Espolón óseo: Por sí mismo no tiene que s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oroso. Cuando son bilaterales puede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er solo un lado pero en ocasiones h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una acusada talalgia y  en la radiografía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no se observa espol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916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on un diagnóstico y tratamiento precoz suele tener un buen pronóstico pero si el paciente acude tardíamente a la consulta, entonces la respuesta al  tratamiento suele demorar y esta situación puede conllevar en muchas ocasiones a la cirugía.</a:t>
            </a:r>
            <a:r>
              <a:rPr b="1" lang="es-VE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5840" y="63504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476280"/>
            <a:ext cx="39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cc0000"/>
                </a:solidFill>
                <a:latin typeface="Times New Roman"/>
              </a:rPr>
              <a:t>PRONÓS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484280"/>
            <a:ext cx="8820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  <a:ea typeface="宋体"/>
              </a:rPr>
              <a:t>Aliviar el dol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  <a:ea typeface="宋体"/>
              </a:rPr>
              <a:t>Descargar la tensión de la fascia plantar y corregir las anomalías del antepié y retropi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Tratamiento conserv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Medid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Tratamiento médico (AINES y analgés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Tratamiento físico rehabili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Tratamiento quirúr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84200" y="492120"/>
            <a:ext cx="55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33360"/>
            <a:ext cx="410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990000"/>
                </a:solidFill>
                <a:latin typeface="Tahoma"/>
                <a:ea typeface="宋体"/>
              </a:rPr>
              <a:t>TRATAMI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16:32:41Z</dcterms:created>
  <dc:creator>Jesus del Canto Enriquez</dc:creator>
  <dc:description/>
  <dc:language>en-US</dc:language>
  <cp:lastModifiedBy>PC</cp:lastModifiedBy>
  <dcterms:modified xsi:type="dcterms:W3CDTF">2008-02-18T16:51:47Z</dcterms:modified>
  <cp:revision>312</cp:revision>
  <dc:subject/>
  <dc:title>TRASTORNO DE LA MARCHA  Y CAÍDA</dc:title>
</cp:coreProperties>
</file>